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8D8-8EB6-4BFE-9E7D-000612C3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12E-03BB-470A-A1F3-0EAB47E8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0F1-5513-46EF-BF99-6D1480F5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BD4-780A-4D62-98FD-942BFBBE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D1C1-3871-4465-BDE2-0177A45B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C0CD-BC0B-46FC-991E-88639337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D891-8F1C-472A-A861-CC235BF5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6337-CD84-47F2-AE4B-8B936AE2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4727-6AB2-4CCE-B3AF-563B80BB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5097-3348-4101-BC28-F66BFCCA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8763-3B56-401E-8AEA-E6AA877F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5B3-A069-4D15-A880-5F479F29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DB42-A14F-4210-BC2F-1380278D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FBD1-1B42-4DD3-B939-005BE3B6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3533-5633-4AEB-A1A8-ED6343FF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1237-E610-492A-9714-33D3B976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3E95-1971-4311-AD7B-C8606537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3A71C-9E65-4827-9621-4A26A8BE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B50C-21E5-485A-972E-306204BF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2350-7D4A-434E-A1A9-26E9A086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8EE3-C468-4F1A-A1F9-6D6EFEA4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C483-33D7-4766-B162-71F4C511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BA5-E251-4081-9361-E8F447ED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2B86-4A9E-4F6F-B39C-4AF66DCF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C115-2027-43EF-88D5-2D6879BF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D0E4-9428-40E1-9599-95A30D2E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16C7-C73A-4DE2-AEDF-F74C7EF8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D2CC-172E-49BE-8335-58592A4F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9A79-8BAF-4AE1-B2A0-B292B723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E60F-C1C5-4120-8982-195E4917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DA2-9DEB-4740-8755-BCF5A59F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010-5CED-4E23-9BE0-7850AC96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24E-8B23-480E-BAC5-FDE4C53B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798-7E59-4D97-9832-51F132DB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87E-8F4C-406B-9346-5E68062C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D56-28BD-4BC1-AA79-63A6D920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060B-7070-4A7E-8302-40C023D6F8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7" descr=""/>
          <p:cNvPicPr/>
          <p:nvPr/>
        </p:nvPicPr>
        <p:blipFill>
          <a:blip r:embed="rId3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鱼不愚\桌面\图片1.png"/>
          <p:cNvPicPr/>
          <p:nvPr/>
        </p:nvPicPr>
        <p:blipFill>
          <a:blip r:embed="rId4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0616-C525-4007-93DF-C732A852BE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54A5-E11F-4723-83D6-5AB792AFE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469800" y="4151160"/>
            <a:ext cx="500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Calibri"/>
                <a:ea typeface="Calibri"/>
              </a:rPr>
              <a:t>LOGO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357120" y="3341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hank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6:57:20Z</dcterms:created>
  <dc:creator>rachel</dc:creator>
  <dc:description/>
  <dc:language>en-US</dc:language>
  <cp:lastModifiedBy>微软中国</cp:lastModifiedBy>
  <cp:lastPrinted>1899-12-30T00:00:00Z</cp:lastPrinted>
  <dcterms:modified xsi:type="dcterms:W3CDTF">2011-03-13T02:06:50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