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40E3-799F-4DD7-A200-34AD7AA96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68C4-1857-414A-AF70-09E6AA74F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A342-0746-409B-B759-005EEC953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8F88-BAFF-465E-BF6D-EC967E869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7892A-444A-4340-87E4-0679ADE3D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0E7AF-2396-404E-8F68-7D90AA9CB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C3B0A-71B5-4BA3-9779-7196BBA26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41BB9-E064-49EA-A9F6-5BD724AE1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8741F-CA1C-4EC5-ADE4-EBA3DBDDC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19994-964D-4133-91E3-1206E0C74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A0A04-2DD7-4FC7-95B3-B61360F0A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2F80-DBB1-465F-8C65-46254269B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78913-22B2-444A-BC65-7939A4CA0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98CFF-F3DE-4DC3-A1DC-96E31416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15051-C9E1-4353-B8BF-AE69C5007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CEA9C-5B6E-4426-A33F-7BBDD456B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4A8FD-8A31-473F-8E2E-DCA6EE61F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4C235-2A65-44D0-8363-790C5BF10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09874-14C9-490D-A21B-E855C7C83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D29A8-F3B9-4056-831C-F79872D71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EC8EF-C334-4175-96CD-47663454B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80CEF-D28D-42AE-B861-CDD31BE39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BB7B-EB57-4D40-B697-A97561BE4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7CC0E-17BA-4CFA-9CEF-FA21819E3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25AA8-00BC-40A3-9B6C-2BEFE5681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D1421-46B4-4964-9F8A-F48347549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77C37-4A62-4614-822E-27A81D079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B84DD-D89E-47B4-87E1-6CCE1DC19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86B7D-B2CA-41AD-9448-F26E2DA4D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F6314-E565-41DF-8DB4-810898737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D97E-636E-46E3-949A-EB3F67140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E796-128B-415B-80A8-8729EE71A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8046-B8EE-4F0C-9286-0E7F62F1A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779B-1A55-4E6E-8949-27AE4E726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FEBB-005F-4CB4-AB94-54EAA2229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88B0-BCC2-41FF-9C2F-BD736B0AF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981DA-7815-46F3-98D5-62EE9FEB4EB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2" descr="C:\Documents and Settings\Administrator\桌面\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0" descr="C:\Documents and Settings\Administrator\桌面\4.png"/>
          <p:cNvPicPr/>
          <p:nvPr/>
        </p:nvPicPr>
        <p:blipFill>
          <a:blip r:embed="rId3"/>
          <a:stretch/>
        </p:blipFill>
        <p:spPr>
          <a:xfrm>
            <a:off x="0" y="3029040"/>
            <a:ext cx="9144000" cy="26859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C:\Documents and Settings\Administrator\桌面\1.png"/>
          <p:cNvPicPr/>
          <p:nvPr/>
        </p:nvPicPr>
        <p:blipFill>
          <a:blip r:embed="rId4"/>
          <a:srcRect l="33567" t="0" r="0" b="0"/>
          <a:stretch/>
        </p:blipFill>
        <p:spPr>
          <a:xfrm>
            <a:off x="0" y="3879720"/>
            <a:ext cx="684360" cy="185760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609480" y="633240"/>
            <a:ext cx="8534520" cy="5102280"/>
            <a:chOff x="609480" y="633240"/>
            <a:chExt cx="8534520" cy="5102280"/>
          </a:xfrm>
        </p:grpSpPr>
        <p:pic>
          <p:nvPicPr>
            <p:cNvPr id="45" name="单圆角矩形 9" descr=""/>
            <p:cNvPicPr/>
            <p:nvPr/>
          </p:nvPicPr>
          <p:blipFill>
            <a:blip r:embed="rId5"/>
            <a:stretch/>
          </p:blipFill>
          <p:spPr>
            <a:xfrm>
              <a:off x="609480" y="636120"/>
              <a:ext cx="8534520" cy="509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787320" y="633240"/>
              <a:ext cx="8356680" cy="510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7" name="Picture 9" descr="C:\Documents and Settings\Administrator\桌面\3.png"/>
          <p:cNvPicPr/>
          <p:nvPr/>
        </p:nvPicPr>
        <p:blipFill>
          <a:blip r:embed="rId6"/>
          <a:stretch/>
        </p:blipFill>
        <p:spPr>
          <a:xfrm>
            <a:off x="5572080" y="4511520"/>
            <a:ext cx="3462480" cy="1316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C:\Documents and Settings\Administrator\桌面\5.png"/>
          <p:cNvPicPr/>
          <p:nvPr/>
        </p:nvPicPr>
        <p:blipFill>
          <a:blip r:embed="rId7"/>
          <a:stretch/>
        </p:blipFill>
        <p:spPr>
          <a:xfrm>
            <a:off x="7164360" y="2928960"/>
            <a:ext cx="2209680" cy="29145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C5F0C-6594-4EB9-9E55-E2C8DF3B119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939D3-4948-4D1F-A77F-A2EBEBAEAEFF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2" descr="C:\Documents and Settings\Administrator\桌面\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C:\Documents and Settings\Administrator\桌面\4.png"/>
          <p:cNvPicPr/>
          <p:nvPr/>
        </p:nvPicPr>
        <p:blipFill>
          <a:blip r:embed="rId2"/>
          <a:stretch/>
        </p:blipFill>
        <p:spPr>
          <a:xfrm>
            <a:off x="0" y="3029040"/>
            <a:ext cx="9144000" cy="26859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C:\Documents and Settings\Administrator\桌面\3.png"/>
          <p:cNvPicPr/>
          <p:nvPr/>
        </p:nvPicPr>
        <p:blipFill>
          <a:blip r:embed="rId3"/>
          <a:srcRect l="0" t="0" r="0" b="37198"/>
          <a:stretch/>
        </p:blipFill>
        <p:spPr>
          <a:xfrm>
            <a:off x="5676840" y="2819520"/>
            <a:ext cx="3467160" cy="8254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C:\Documents and Settings\Administrator\桌面\2.png"/>
          <p:cNvPicPr/>
          <p:nvPr/>
        </p:nvPicPr>
        <p:blipFill>
          <a:blip r:embed="rId4"/>
          <a:stretch/>
        </p:blipFill>
        <p:spPr>
          <a:xfrm>
            <a:off x="1712880" y="4657680"/>
            <a:ext cx="4514760" cy="800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C:\Documents and Settings\Administrator\桌面\3.png"/>
          <p:cNvPicPr/>
          <p:nvPr/>
        </p:nvPicPr>
        <p:blipFill>
          <a:blip r:embed="rId5"/>
          <a:stretch/>
        </p:blipFill>
        <p:spPr>
          <a:xfrm>
            <a:off x="7975440" y="0"/>
            <a:ext cx="1149480" cy="33336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1" descr="C:\Documents and Settings\Administrator\桌面\5.png"/>
          <p:cNvPicPr/>
          <p:nvPr/>
        </p:nvPicPr>
        <p:blipFill>
          <a:blip r:embed="rId6"/>
          <a:stretch/>
        </p:blipFill>
        <p:spPr>
          <a:xfrm>
            <a:off x="6905520" y="2800440"/>
            <a:ext cx="2210040" cy="29145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C:\Documents and Settings\Administrator\桌面\2.png"/>
          <p:cNvPicPr/>
          <p:nvPr/>
        </p:nvPicPr>
        <p:blipFill>
          <a:blip r:embed="rId7"/>
          <a:stretch/>
        </p:blipFill>
        <p:spPr>
          <a:xfrm rot="21348600">
            <a:off x="2411280" y="193320"/>
            <a:ext cx="5789880" cy="97164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14560" y="1496520"/>
            <a:ext cx="57258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pic>
        <p:nvPicPr>
          <p:cNvPr id="139" name="Picture 7" descr="C:\Documents and Settings\Administrator\桌面\1.png"/>
          <p:cNvPicPr/>
          <p:nvPr/>
        </p:nvPicPr>
        <p:blipFill>
          <a:blip r:embed="rId8"/>
          <a:stretch/>
        </p:blipFill>
        <p:spPr>
          <a:xfrm>
            <a:off x="395280" y="554040"/>
            <a:ext cx="42670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25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750"/>
                            </p:stCondLst>
                            <p:childTnLst>
                              <p:par>
                                <p:cTn id="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0"/>
                            </p:stCondLst>
                            <p:childTnLst>
                              <p:par>
                                <p:cTn id="3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097 0.04111 L 1.43333 -0.41583 E">
                                      <p:cBhvr>
                                        <p:cTn id="38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12" descr="C:\Documents and Settings\Administrator\桌面\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C:\Documents and Settings\Administrator\桌面\4.png"/>
          <p:cNvPicPr/>
          <p:nvPr/>
        </p:nvPicPr>
        <p:blipFill>
          <a:blip r:embed="rId2"/>
          <a:stretch/>
        </p:blipFill>
        <p:spPr>
          <a:xfrm>
            <a:off x="0" y="3029040"/>
            <a:ext cx="9144000" cy="26859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C:\Documents and Settings\Administrator\桌面\3.png"/>
          <p:cNvPicPr/>
          <p:nvPr/>
        </p:nvPicPr>
        <p:blipFill>
          <a:blip r:embed="rId3"/>
          <a:srcRect l="0" t="0" r="0" b="36239"/>
          <a:stretch/>
        </p:blipFill>
        <p:spPr>
          <a:xfrm>
            <a:off x="5676840" y="2819520"/>
            <a:ext cx="3467160" cy="8380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9" descr="C:\Documents and Settings\Administrator\桌面\3.png"/>
          <p:cNvPicPr/>
          <p:nvPr/>
        </p:nvPicPr>
        <p:blipFill>
          <a:blip r:embed="rId4"/>
          <a:stretch/>
        </p:blipFill>
        <p:spPr>
          <a:xfrm>
            <a:off x="7975440" y="0"/>
            <a:ext cx="1149480" cy="33336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276720" y="1417680"/>
            <a:ext cx="5518080" cy="581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3398760"/>
            <a:ext cx="9144000" cy="2317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/>
          <p:nvPr/>
        </p:nvSpPr>
        <p:spPr>
          <a:xfrm>
            <a:off x="396720" y="1177920"/>
            <a:ext cx="576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99cc00"/>
                </a:solidFill>
                <a:latin typeface="Calibri"/>
                <a:ea typeface="微软雅黑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5"/>
          <p:cNvSpPr/>
          <p:nvPr/>
        </p:nvSpPr>
        <p:spPr>
          <a:xfrm>
            <a:off x="324000" y="3697200"/>
            <a:ext cx="51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f5f5f"/>
                </a:solidFill>
                <a:latin typeface="Arial Unicode MS"/>
                <a:ea typeface="Arial Unicode MS"/>
              </a:rPr>
              <a:t>Kingsoft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zh-CN" sz="4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Off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6"/>
          <p:cNvSpPr/>
          <p:nvPr/>
        </p:nvSpPr>
        <p:spPr>
          <a:xfrm>
            <a:off x="-219600" y="4417920"/>
            <a:ext cx="39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stral"/>
              </a:rPr>
              <a:t>Make Presentation much more fu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6T06:35:16Z</dcterms:created>
  <dc:creator>user</dc:creator>
  <dc:description/>
  <dc:language>en-US</dc:language>
  <cp:lastModifiedBy>微软用户</cp:lastModifiedBy>
  <cp:lastPrinted>1899-12-30T00:00:00Z</cp:lastPrinted>
  <dcterms:modified xsi:type="dcterms:W3CDTF">2011-02-03T13:46:15Z</dcterms:modified>
  <cp:revision>2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018</vt:lpwstr>
  </property>
</Properties>
</file>