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FEA-5232-4E34-AA8C-67FBE8E3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513-C337-4946-99ED-30CEE442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07A-DE91-4294-9794-851392DD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AC5-66B1-4B2E-8A79-3EA45782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D0A-FC93-47AF-98E3-AB3011FD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E7E-F346-471E-B1C3-F2AB2FD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7F5-9875-481F-B36F-1B8B7F9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831-7F82-496D-8C73-E90F5A72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35B-1FC0-4D72-BC64-34E67A26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356-6D3A-408C-B0CA-0E2B2F68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5AD-1800-4133-ADF6-2E7AB715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9F0-FAB2-42F8-8B1D-A11B174E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23760"/>
          <a:ext cx="9144000" cy="93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3760"/>
                    <a:ext cx="91440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F04F-DB31-4EA2-A298-B693B03C7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209680" y="1676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1b9ad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24000" y="4437000"/>
            <a:ext cx="54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ThemeGallery.com</dc:creator>
  <dc:description/>
  <dc:language>en-US</dc:language>
  <cp:lastModifiedBy>THEME_ENG_01</cp:lastModifiedBy>
  <cp:lastPrinted>1899-12-30T00:00:00Z</cp:lastPrinted>
  <dcterms:modified xsi:type="dcterms:W3CDTF">2005-06-16T05:07:21Z</dcterms:modified>
  <cp:revision>66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