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732-E3B2-488F-BF57-F46C4E58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930-85F4-48ED-9836-B5AC59D0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9E5-E7C3-4DD4-B7BD-472E7EB7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DE1-A50D-47C7-838D-452F99C5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7C8-9737-4970-B6C3-4A1B597B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CF0-E574-4290-B507-7B8767C6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25B-CD18-41C6-AEC9-0F20AAD5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72C-21A2-49FC-9F2D-94F8C523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062-27C0-4B58-9EC6-E36442CE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420-F1D4-4833-B572-637B441C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0CB-5DB8-43F0-AAEC-E1F69609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56D-F5F4-4D8C-80A0-BBEE372E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4120" indent="-384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22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282680" indent="-255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7120" indent="-257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09760" indent="-255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09760" indent="-255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09760" indent="-255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 algn="ctr">
              <a:spcBef>
                <a:spcPts val="774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708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972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4160" algn="ctr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41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41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0007-EDC7-49AA-A278-CB5C39FAB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078440"/>
            <a:ext cx="9906120" cy="2781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0200" y="1413000"/>
            <a:ext cx="624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352440" y="4437000"/>
            <a:ext cx="467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-7344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9:51:20Z</dcterms:created>
  <dc:creator>llq</dc:creator>
  <dc:description/>
  <dc:language>en-US</dc:language>
  <cp:lastModifiedBy>pc</cp:lastModifiedBy>
  <cp:lastPrinted>1899-12-30T00:00:00Z</cp:lastPrinted>
  <dcterms:modified xsi:type="dcterms:W3CDTF">2011-12-31T13:25:16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