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4FA4-7FEC-43DD-9704-32D10118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7DF-3AE2-448A-93E0-C3B35E41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F1F1-7EE6-4861-B098-A6A76740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FF7-B475-4BE4-851E-A3C23DB1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E34-0197-4086-A8A1-3C354938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4AC-E3A5-43C4-AC3D-3E3C3466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28A1-AE64-4796-93E5-405FD54F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A3AE-4DE0-468E-B62F-D2F6CABB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BF4-3597-471E-9189-EB8F2C34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201-1B4A-4BD4-93FC-B0A665DB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C3AD-3D57-42B5-B54E-E6D33702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6C7-4778-4321-8686-24DB309E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E5F0-0144-4ACD-AF86-9D935A6F9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11680"/>
            <a:ext cx="640080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66ff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324000" y="4437000"/>
            <a:ext cx="638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2-01-04T23:28:2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Version">
    <vt:r8>1</vt:r8>
  </property>
</Properties>
</file>