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878D-3636-47CA-BAC2-EC4BE70D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83AF-6B1C-4D4F-899A-D0D6A41C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F08E-BE39-4B1D-BB4B-03DAD64D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D468-BECB-4FFB-9F9A-C73D45F3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4FAB-D35D-47FA-AFBE-3A6B3966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79D6-A7DA-4A81-899A-CDDBC411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C321-EACB-4CB6-B473-98C6B731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F6C6-BB51-489F-A3FF-5AC24712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6330-DFED-44E2-A264-A8E64F0A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0857-B190-4CDE-93C2-4EC35B94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5AA8-488C-488C-8274-319ABAEB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5FC5-74ED-4A8D-B508-CA64905F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55D0-E2EB-4795-AC6B-E54D06E9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07DA-7424-4F82-8200-996ED149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E96A-E43B-4254-8D40-B7034C68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1CB2-F7AF-48CC-8234-800BC269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E699-5424-42C4-B9D6-72D95F44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9D2B4-48F8-41DD-86E1-A1445E0E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025B6-B9BA-4673-901F-63C40897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08AD2-8604-4264-8994-A3E945B9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8B01D-2378-4F7D-899B-592A8760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841B4-5580-46E3-ACE4-C01F6A88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C7FA-36BC-4B00-9B06-C52D6FD5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8088B-0E4B-496E-9939-9E69D0E1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4D419-36DB-4565-A48E-6C573865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077D4-E356-46E2-BC90-9632A9F9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15C5E-70A5-4668-80C3-C754A6D6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E3FAE-B064-49CA-9248-B46C6F59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BDE09-E908-4945-B521-AA7D0175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E3777-A84A-4649-B1F3-A7AB3106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67B6F-5E8D-4481-A798-86D4857F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0FF80-4027-4EB2-8DC0-B2A7C3CD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24A6B-A28A-4CE0-A29D-597A6FF8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BDD4-EAA8-415E-B83B-F5ECBF5E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9CC44-7CAB-4FB0-B5C4-C48F9546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15831-1744-407A-93DF-D403F31A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9C898-C2A0-4670-90FE-472A2438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FCAB2-5510-41A6-BF9F-4C2F2E1A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7EFF3-5438-40F0-9597-6D9EA1A7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08C73-9741-49B0-88BB-D27553CF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BABA4-09F7-4CEB-94DC-60A08937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B6100-7C32-42AF-B719-4A73C704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C91E8-F64B-41F3-8040-1FF0CA86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D5D35-5F53-4209-A2B6-15B9832A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7D76-386B-48D7-ADD2-226BEAA2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F0327-0B2D-403B-AAC3-CD38710A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03D9B-AB75-4A74-85DF-C5C017B9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A4780-A415-4B6A-8227-D3FAFC6E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91BB3-7039-4660-B76D-189252C0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00A77-5147-4E3D-B66D-8E60E109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CD39F-EB83-4381-81B1-00169F55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F2596-CD14-4F4F-BD30-032FB44A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A6AC0-F150-475B-A298-E75C35F8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C986B-ABA6-496C-A52A-1A43DE64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8C80C-5ACA-4CFA-98E5-4A1C2ACF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488D-FA2A-4E5D-981E-B626F8C5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EA444-8FB4-43CA-A5FA-E10D7C28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5274-CAA1-48A7-8BE9-9C5D362F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E920-16FB-4962-BEF6-359A4D1F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C9EC-798F-49C6-86C5-3D14D533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876560" y="457200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99360" indent="-99360" algn="ctr">
              <a:spcBef>
                <a:spcPts val="876"/>
              </a:spcBef>
              <a:buClr>
                <a:srgbClr val="000000"/>
              </a:buClr>
              <a:buSzPct val="25000"/>
              <a:buFont typeface="微软雅黑"/>
              <a:buChar char="•"/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微软雅黑"/>
            </a:endParaRPr>
          </a:p>
          <a:p>
            <a:pPr lvl="1" marL="215280" indent="-82800" algn="ctr">
              <a:spcBef>
                <a:spcPts val="876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微软雅黑"/>
            </a:endParaRPr>
          </a:p>
          <a:p>
            <a:pPr lvl="2" marL="331200" indent="-66240" algn="ctr">
              <a:spcBef>
                <a:spcPts val="876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微软雅黑"/>
            </a:endParaRPr>
          </a:p>
          <a:p>
            <a:pPr lvl="3" marL="464040" indent="-66240" algn="ctr">
              <a:spcBef>
                <a:spcPts val="876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微软雅黑"/>
            </a:endParaRPr>
          </a:p>
          <a:p>
            <a:pPr lvl="4" marL="596520" indent="-66240" algn="ctr">
              <a:spcBef>
                <a:spcPts val="876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微软雅黑"/>
            </a:endParaRPr>
          </a:p>
          <a:p>
            <a:pPr lvl="5" marL="596520" indent="-66240" algn="ctr">
              <a:spcBef>
                <a:spcPts val="876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微软雅黑"/>
            </a:endParaRPr>
          </a:p>
          <a:p>
            <a:pPr lvl="6" marL="596520" indent="-66240" algn="ctr">
              <a:spcBef>
                <a:spcPts val="876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EA58-8A2B-483A-A930-6B4038DF7308}" type="slidenum"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75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58672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SzPct val="25000"/>
              <a:buFont typeface="微软雅黑"/>
              <a:buChar char="•"/>
            </a:pPr>
            <a:r>
              <a:rPr b="0" lang="en-US" sz="2000" spc="-1" strike="noStrike">
                <a:solidFill>
                  <a:srgbClr val="000066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微软雅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66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微软雅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66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微软雅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66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微软雅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66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微软雅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66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微软雅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66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5D81-679A-4167-BAF7-1A711E8B5898}" type="slidenum"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3320-41E1-4A08-9AF0-FE4D5D9508F2}" type="slidenum"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762120" y="380520"/>
            <a:ext cx="58672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7621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ff"/>
              </a:buClr>
              <a:buSzPct val="25000"/>
              <a:buFont typeface="微软雅黑"/>
              <a:buChar char="•"/>
            </a:pPr>
            <a:r>
              <a:rPr b="0" lang="en-US" sz="2000" spc="-1" strike="noStrike">
                <a:solidFill>
                  <a:srgbClr val="ccffff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ccffff"/>
              </a:solidFill>
              <a:latin typeface="微软雅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ccffff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ccffff"/>
              </a:solidFill>
              <a:latin typeface="微软雅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ccffff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ccffff"/>
              </a:solidFill>
              <a:latin typeface="微软雅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ccffff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ccffff"/>
              </a:solidFill>
              <a:latin typeface="微软雅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ccffff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ccffff"/>
              </a:solidFill>
              <a:latin typeface="微软雅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ccffff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ccffff"/>
              </a:solidFill>
              <a:latin typeface="微软雅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ccffff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cc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0D1B-3E96-4DD1-BC66-39F68EE3CE4B}" type="slidenum"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952880" y="4343040"/>
            <a:ext cx="3657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微软雅黑"/>
              </a:rPr>
              <a:t>Click to edit the title text format</a:t>
            </a:r>
            <a:endParaRPr b="0" lang="en-US" sz="5000" spc="-1" strike="noStrike">
              <a:solidFill>
                <a:srgbClr val="ccffff"/>
              </a:solidFill>
              <a:latin typeface="微软雅黑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125"/>
              </a:spcBef>
              <a:buClr>
                <a:srgbClr val="ffffff"/>
              </a:buClr>
              <a:buSzPct val="25000"/>
              <a:buFont typeface="Arial Black"/>
              <a:buChar char="•"/>
            </a:pPr>
            <a:r>
              <a:rPr b="0" lang="en-US" sz="45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45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319D-8072-4B78-9E2A-250F2BD08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876560" y="457200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876"/>
              </a:spcBef>
              <a:buClr>
                <a:srgbClr val="000000"/>
              </a:buClr>
              <a:buSzPct val="25000"/>
              <a:buFont typeface="微软雅黑"/>
              <a:buChar char="•"/>
            </a:pPr>
            <a:r>
              <a:rPr b="0" lang="zh-CN" sz="3500" spc="-1" strike="noStrike">
                <a:solidFill>
                  <a:srgbClr val="000000"/>
                </a:solidFill>
                <a:latin typeface="微软雅黑"/>
              </a:rPr>
              <a:t>Click to add subtitle</a:t>
            </a:r>
            <a:endParaRPr b="0" lang="en-US" sz="3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75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title</a:t>
            </a:r>
            <a:endParaRPr b="0" lang="en-US" sz="75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58672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</a:rPr>
              <a:t>Click to add title</a:t>
            </a: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6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58672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</a:rPr>
              <a:t>Click to add title</a:t>
            </a: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cc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8497A-50E4-45FF-B407-03CF6960DCD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2880" y="4343040"/>
            <a:ext cx="3657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5000" spc="-1" strike="noStrike">
                <a:solidFill>
                  <a:srgbClr val="ccffff"/>
                </a:solidFill>
                <a:latin typeface="微软雅黑"/>
                <a:ea typeface="微软雅黑"/>
              </a:rPr>
              <a:t>Thank You</a:t>
            </a:r>
            <a:endParaRPr b="0" lang="en-US" sz="5000" spc="-1" strike="noStrike">
              <a:solidFill>
                <a:srgbClr val="cc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5D63A-1EAF-4470-988C-E0EC00AFF35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-1023840" y="4451400"/>
            <a:ext cx="518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-1134000" y="5302080"/>
            <a:ext cx="57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5:31:49Z</dcterms:created>
  <dc:creator>Administrator</dc:creator>
  <dc:description/>
  <dc:language>en-US</dc:language>
  <cp:lastModifiedBy/>
  <cp:lastPrinted>1899-12-30T00:00:00Z</cp:lastPrinted>
  <dcterms:modified xsi:type="dcterms:W3CDTF">2011-11-21T11:05:0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  <property fmtid="{D5CDD505-2E9C-101B-9397-08002B2CF9AE}" pid="3" name="_TemplateID">
    <vt:lpwstr>TC019517569991</vt:lpwstr>
  </property>
</Properties>
</file>