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4F8-DC33-4D1F-B063-56E3C354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F18-6318-4219-8E0B-059983DA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07D-4747-45AA-90B8-521C0C0F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B3A-7827-4890-B57B-0B78E673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B1E6-0863-4B9D-87C8-16B49EC5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B6DB-A0A1-43F1-8E2C-3C4522DE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C14F-551F-4E0D-93E5-56527D58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B7CD-D45C-4DAD-8B97-5FE76E84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89BC-5A85-4549-9A7D-965DFD25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EFA7-1B1C-411C-87E5-91195120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9CAE-F474-4936-AB44-5F48CC4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B77-A3D9-416F-B171-06E97D37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4A8A-4379-4BC8-B1B6-3BF6FCC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BCEE-FA7A-45B8-BCBC-B693C56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E68D-DB36-4FD1-A6C4-7F63039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993F-3B15-4E0E-8C28-A3E95B0B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EA9B-33E4-41DE-8A99-44DFB71B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376-5E79-4F0A-83CA-D4E81697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27F-A7C3-461F-A516-95E1AA3F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980-DDB2-4E95-985B-1F88B040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957-507C-48B8-85C2-7704E135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98A-774F-46A0-84B8-F5577879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095-1F0C-4F62-8699-BCE446D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835-9423-4614-AAC1-273EC2CB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457200" indent="45720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914400">
              <a:spcBef>
                <a:spcPts val="601"/>
              </a:spcBef>
              <a:buClr>
                <a:srgbClr val="94877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371600" indent="-457200">
              <a:spcBef>
                <a:spcPts val="601"/>
              </a:spcBef>
              <a:buClr>
                <a:srgbClr val="7eb8e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1828800" indent="-914400">
              <a:spcBef>
                <a:spcPts val="601"/>
              </a:spcBef>
              <a:buClr>
                <a:srgbClr val="e3b65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5554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D37-AEFD-4B8F-A5AF-8487ADB1E7A0}" type="datetime">
              <a:rPr b="0" lang="zh-CN" sz="1200" spc="-1" strike="noStrike">
                <a:solidFill>
                  <a:srgbClr val="55554a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5554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7338-C5F4-4AFB-8D86-2DD64B1C5509}" type="slidenum">
              <a:rPr b="0" lang="zh-CN" sz="1200" spc="-1" strike="noStrike">
                <a:solidFill>
                  <a:srgbClr val="55554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b74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4029-BE91-47CB-AA86-247ADE38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35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5479920"/>
            <a:ext cx="9144000" cy="235080"/>
          </a:xfrm>
          <a:prstGeom prst="rect">
            <a:avLst/>
          </a:prstGeom>
          <a:solidFill>
            <a:srgbClr val="b74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Bodoni MT Condensed"/>
              </a:rPr>
              <a:t>Click to add title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1320" y="4343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400-610A-40D6-B079-F04899F557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6:54:50Z</dcterms:created>
  <dc:creator>Administrator</dc:creator>
  <dc:description/>
  <dc:language>en-US</dc:language>
  <cp:lastModifiedBy/>
  <cp:lastPrinted>1899-12-30T00:00:00Z</cp:lastPrinted>
  <dcterms:modified xsi:type="dcterms:W3CDTF">2011-12-27T08:54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22643319991</vt:lpwstr>
  </property>
</Properties>
</file>