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gif" ContentType="image/gif"/>
  <Override PartName="/ppt/embeddings/oleObject1.bin" ContentType="application/vnd.openxmlformats-officedocument.oleObje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577-FA09-47CC-B631-506FED55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7F5-2725-4F9D-B49B-DCD0E41C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6EA-D8F0-4C14-A44B-838647A6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FA6-A7E5-44FB-8538-0CA4473B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BAE-8202-4088-8AA8-E829628C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8405-E15F-4DED-91CB-671F19EA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C7FD-76A2-4DF2-86F7-3B4FA46D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81E5-0152-429F-9B18-8C6532BD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0175-ADA8-41A6-8D71-1616EB83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A04C-2B3A-4D1A-AA78-78962200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23C-4D8D-48D6-829E-88E05DAF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EB32-E45A-4959-BBC6-ADA9B799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2BF7-1872-45E3-9AA1-EBB111BC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D812-DBCD-431E-BA4B-B483683F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403B-BBE4-4165-837A-E884F9F1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3F16-FDFE-4250-AB35-68CC11A1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2AD0-13C4-4FEA-9471-F5E1A3D9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B0B0-F4B3-4A9F-BE18-1AF90506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42D-1B33-45FD-8B1B-33E86C2E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019-ABE2-463C-8367-A4502FA5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20A-B129-4E97-9C75-36E06CD6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BFE-D663-474D-B70F-BB5D1C60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8D8-A919-46B4-9389-78DC314E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7D4-15CD-40B0-9361-BD98F254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0280"/>
            <a:ext cx="7596360" cy="57636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33360"/>
            <a:ext cx="7596360" cy="417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2340000" y="1441440"/>
          <a:ext cx="6804000" cy="541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1441440"/>
                    <a:ext cx="680400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468360" y="6526080"/>
            <a:ext cx="8351640" cy="1800"/>
          </a:xfrm>
          <a:prstGeom prst="line">
            <a:avLst/>
          </a:prstGeom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3560"/>
            <a:ext cx="9144000" cy="7308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Gulim"/>
              </a:rPr>
              <a:t>wps.cn/mob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67280" y="260280"/>
            <a:ext cx="13129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31DA-C14A-4335-ACA5-06A94BE52668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19280" y="2565360"/>
            <a:ext cx="55609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326160" y="6066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8fe3"/>
                </a:solidFill>
                <a:latin typeface="Arial"/>
                <a:ea typeface="Gulim"/>
              </a:rPr>
              <a:t>Company</a:t>
            </a:r>
            <a:r>
              <a:rPr b="1" lang="en-US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800" spc="-1" strike="noStrike">
                <a:solidFill>
                  <a:srgbClr val="1c3a8e"/>
                </a:solidFill>
                <a:latin typeface="Arial"/>
                <a:ea typeface="Gulim"/>
              </a:rPr>
              <a:t>LOGO</a:t>
            </a:r>
            <a:endParaRPr b="0" lang="en-US" sz="2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345E-9763-493D-B14F-9BEF7BC95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19280" y="2565360"/>
            <a:ext cx="55609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Presentation</a:t>
            </a:r>
            <a:r>
              <a:rPr b="0" lang="en-US" sz="3600" spc="-1" strike="noStrike">
                <a:solidFill>
                  <a:srgbClr val="ffffcc"/>
                </a:solidFill>
                <a:latin typeface="Verdana"/>
                <a:ea typeface="Gulim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Verdana"/>
                <a:ea typeface="Gulim"/>
              </a:rPr>
              <a:t>Template</a:t>
            </a:r>
            <a:endParaRPr b="1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54878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4168"/>
              </a:gs>
              <a:gs pos="50000">
                <a:srgbClr val="438fe3"/>
              </a:gs>
              <a:gs pos="100000">
                <a:srgbClr val="1e416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4168"/>
              </a:gs>
              <a:gs pos="50000">
                <a:srgbClr val="438fe3"/>
              </a:gs>
              <a:gs pos="100000">
                <a:srgbClr val="1e416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6720" y="6454800"/>
            <a:ext cx="115092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687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fe3"/>
                </a:solidFill>
                <a:latin typeface="Verdana"/>
                <a:ea typeface="Gulim"/>
              </a:rPr>
              <a:t>Competitors </a:t>
            </a:r>
            <a:endParaRPr b="1" lang="en-US" sz="24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38fe3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c3a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3a8e"/>
                </a:solidFill>
                <a:latin typeface="Verdana"/>
                <a:ea typeface="Gulim"/>
              </a:rPr>
              <a:t>Strengths</a:t>
            </a:r>
            <a:r>
              <a:rPr b="1" lang="en-US" sz="2400" spc="-1" strike="noStrike">
                <a:solidFill>
                  <a:srgbClr val="438fe3"/>
                </a:solidFill>
                <a:latin typeface="Verdana"/>
                <a:ea typeface="Gulim"/>
              </a:rPr>
              <a:t> </a:t>
            </a:r>
            <a:endParaRPr b="1" lang="en-US" sz="24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fe3"/>
                </a:solidFill>
                <a:latin typeface="Verdana"/>
                <a:ea typeface="Gulim"/>
              </a:rPr>
              <a:t>Weaknesses</a:t>
            </a:r>
            <a:endParaRPr b="1" lang="en-US" sz="24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38fe3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6720" y="6454800"/>
            <a:ext cx="115272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5473800" cy="4610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24000" y="6454800"/>
            <a:ext cx="12236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51280" y="2225520"/>
            <a:ext cx="1368360" cy="1276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619280" y="3068640"/>
            <a:ext cx="583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8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1c3a8e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1c3a8e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5440" y="6454800"/>
            <a:ext cx="12240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99f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324000" y="443700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06:31:08Z</dcterms:created>
  <dc:creator>황정남</dc:creator>
  <dc:description/>
  <dc:language>en-US</dc:language>
  <cp:lastModifiedBy>황정남</cp:lastModifiedBy>
  <cp:lastPrinted>1899-12-30T00:00:00Z</cp:lastPrinted>
  <dcterms:modified xsi:type="dcterms:W3CDTF">2003-10-30T06:35:51Z</dcterms:modified>
  <cp:revision>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