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039-8DFF-4D5E-A3B9-822C9DDA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418-8421-44A2-9EF6-47ADF734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A99-9332-4D66-B4E3-3E7B6756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10B-DDBF-47D2-87A3-7BD28E33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1CB0-3F84-4073-96B4-C3B20CD7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6CCF-12EB-4DC3-9C5E-C8CE4FB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3482-7D0F-4707-9FFA-C216D16C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04D-3B4B-466E-83E8-A6DAA12B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AA7-EE93-4537-A07A-322BB5E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82CC-E3C5-45C0-A4B2-C6AC91AB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2DC2-0F9E-41A3-9BC8-D04F460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027-9DAF-4D91-9148-01F32FAD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11A7-6430-4ADF-A52A-F1109A8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3047-312B-4972-84B8-827F9889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0F3D-890A-4F06-ADC7-CE4BC67E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5162-3626-433D-94A1-A1D38564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97B7-8EF6-4E36-9E54-1E978F6E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8582-8259-4AAD-83EE-4020E51F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D486-1231-490F-AC97-1439F002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88E6-710F-4E8C-86F7-C8C70A9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8BB7-5680-447B-A837-E4A9C78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86A8-B783-4BC6-9E44-EDA8FDDB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F3C-145B-401A-B2F4-E08FBC0E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EB55-07D6-44B8-B249-83FF0D0C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CCEE-3610-4245-8CDD-83D4BCF1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4658-06B8-4D92-8A2E-CE41A82B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BBD1-FCB0-4241-8863-F4751CF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3E31-CAE3-42D9-B4B0-921DD359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86A4-94B5-41BD-B644-DC650763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D8FD-1F60-4787-B1C7-A5274344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4B7-88A5-48AE-B979-050600E2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4F5-12AA-429A-A845-95EAE089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3D9-ECA2-4B1C-BF52-B3B73F8C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08F-0CBE-48FD-B436-C8E9DB6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DF0-A06A-4864-85CB-74FF8A0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93A-1A09-4566-BAE0-C07D6E2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33200"/>
            <a:ext cx="896616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-윤고딕140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8DD1-CAB2-499E-B2F6-D24A93A3C300}" type="slidenum"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15840" y="4324320"/>
            <a:ext cx="6873840" cy="126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4333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-윤고딕140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0729-96F7-450D-A3AF-7975D5C06C0C}" type="slidenum"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-윤고딕140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-윤고딕140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-윤고딕120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-윤고딕120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-윤고딕120"/>
            </a:endParaRPr>
          </a:p>
          <a:p>
            <a:pPr lvl="3" marL="1371600" algn="ctr">
              <a:spcBef>
                <a:spcPts val="374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-윤고딕120"/>
              </a:rPr>
              <a:t>Fourth Outline Level</a:t>
            </a:r>
            <a:endParaRPr b="0" lang="en-US" sz="1500" spc="-1" strike="noStrike">
              <a:solidFill>
                <a:srgbClr val="ffffff"/>
              </a:solidFill>
              <a:latin typeface="-윤고딕120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4B3B-9117-45AE-A8F2-4F6CC6AFA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65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-윤고딕140"/>
                <a:ea typeface="华文隶书"/>
              </a:rPr>
              <a:t>Click to add title</a:t>
            </a:r>
            <a:endParaRPr b="0" lang="en-US" sz="4400" spc="-1" strike="noStrike">
              <a:solidFill>
                <a:srgbClr val="ffff99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500" spc="-1" strike="noStrike">
              <a:solidFill>
                <a:srgbClr val="ffffff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66"/>
                </a:solidFill>
                <a:latin typeface="Gulim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-842760" y="53020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鞝曥湦欤</dc:creator>
  <dc:description/>
  <dc:language>en-US</dc:language>
  <cp:lastModifiedBy> </cp:lastModifiedBy>
  <cp:lastPrinted>1899-12-30T00:00:00Z</cp:lastPrinted>
  <dcterms:modified xsi:type="dcterms:W3CDTF">2010-09-23T09:16:21Z</dcterms:modified>
  <cp:revision>138</cp:revision>
  <dc:subject/>
  <dc:title>PowerPoint 頂勲爤鞝犿厡鞚挫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