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252-F60F-460E-AA7D-AE629061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746-594F-4229-8249-56798EA1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2E0-0057-4918-B833-3C3EFF6E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5E4-1731-44B7-9C86-253CABA1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A09F-BA8A-47BF-97A2-F6EE3DDC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3613-3FD6-44FF-94A6-EBF8965C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B6B9-8E1A-475F-B428-342BD35A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7053-938F-40BE-85A5-AE967FBB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D01-7935-4F6F-9975-6A2255B4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DE0E-7A62-4B04-9B9F-75D3F7F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284C-7807-44E9-A9B3-C8099F1F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1BE-1742-4426-989C-B79F2C12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4031-ECE5-4161-B45D-D4AEB87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C887-182A-44B8-AABB-17B4ADF9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D56B-3EAA-4EE8-9617-60158866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7D3D-8FE5-44E1-8560-8728DA3E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61CC-E1F2-4683-87EB-B3E4DB61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A637-4836-4A76-A23C-2513A1D6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6081-4AD6-4F6E-B997-573E3AE1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84EA-BDA7-4246-8EF6-B19BCC3B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1DCE-0B94-4A8B-9D5D-1D598572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ACE1-C6B2-43A4-8117-9AC8E3A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7E9-E1E5-4831-B4D5-E85CD1A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40CB-55A5-4941-B6C8-626EA736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E5A2-53E9-4419-B0E7-3B9D478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CA15-3FF7-47D3-A211-88B5BC22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A0E7-1E04-4071-86E0-7709E802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6B05-F8E8-4830-98A5-B78AF200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AF26-5EF7-4894-A46C-D4E24E63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6E14-082C-46A6-A114-93D2E694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E08-F7B5-445C-A54C-02D16584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4DE-7D8F-4A0C-AE1C-A1C5C57D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91E-B25C-46B0-8738-DC932445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F70-4D78-46C0-83AA-F95F3FAA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FED-CAE6-4367-9FCD-9F1903A5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60E-6227-4551-A33E-0C022DE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aabc4"/>
                </a:solidFill>
                <a:latin typeface="华文楷体"/>
              </a:rPr>
              <a:t>Click to edit the title text format</a:t>
            </a: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Click to edit the outline text format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1" marL="743040" indent="-285840">
              <a:spcBef>
                <a:spcPts val="799"/>
              </a:spcBef>
              <a:buClr>
                <a:srgbClr val="91919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con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2" marL="11430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Thir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3" marL="16002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our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4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if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5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ix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6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ven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63880" y="6248520"/>
            <a:ext cx="561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224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F4F-72C5-4693-B6BF-7DD43D3D046D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aabc4"/>
                </a:solidFill>
                <a:latin typeface="华文楷体"/>
              </a:rPr>
              <a:t>Click to edit the title text format</a:t>
            </a: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Click to edit the outline text format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1" marL="743040" indent="-285840">
              <a:spcBef>
                <a:spcPts val="799"/>
              </a:spcBef>
              <a:buClr>
                <a:srgbClr val="91919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con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2" marL="11430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Thir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3" marL="16002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our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4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if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5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ix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6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ven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7320" y="647712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58520" y="6477120"/>
            <a:ext cx="47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94200" y="647712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ABFD-7CBA-45D0-9CC2-82F85B601F0C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7030-3F67-434D-A280-5F02ED13A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320" y="243000"/>
            <a:ext cx="93279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638680" y="2285640"/>
            <a:ext cx="401976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078440"/>
            <a:ext cx="990612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0200" y="1413000"/>
            <a:ext cx="62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351000" y="4437000"/>
            <a:ext cx="56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-7344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03:39:00Z</dcterms:created>
  <dc:creator/>
  <dc:description/>
  <dc:language>en-US</dc:language>
  <cp:lastModifiedBy>秋叶</cp:lastModifiedBy>
  <cp:lastPrinted>1899-12-30T00:00:00Z</cp:lastPrinted>
  <dcterms:modified xsi:type="dcterms:W3CDTF">2010-04-19T02:11:54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0721562052</vt:lpwstr>
  </property>
</Properties>
</file>