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CE2-B1FA-45E7-ACD4-807AB8C6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2E9-915E-42C0-A02C-369BE0C6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519-70E4-4FF7-B40B-A05D9B40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C29-7DAE-4940-8CD0-CC065758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E57E-D5E6-46F5-ACE4-9136920F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8E8B-7C7D-48A1-84E0-E5761FEA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D813-D932-4A4B-8F5E-1C6D31D8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A2EA-C342-4E1A-83BD-DD9F0864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31A1-3BB5-4DB9-B2BB-FF53AA06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B7ED-73E3-4F86-BC25-4DEA261B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2525-5CD7-45E2-81A0-43D5FA6F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222-359A-45FF-9208-69549886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7BDA-BAF6-42C0-A5DC-321A51D6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54D1-B992-4177-A227-95872864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9B0C-6AE3-4CA4-946B-9A874C15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26E6-3AED-4365-B162-5F273874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BE48-87E5-4B7D-9AD8-628ABD6B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ABB3-227C-4A52-8B26-0A830516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503-7A61-4893-8A4D-BF1A0765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205-4F3C-4FCF-AB19-3F3C0152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BA5-72AC-472B-A13F-9EA2C922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D57-F273-439B-B91F-C7C02DA3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B1C-A1D8-428F-9BF9-3E34F514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18B-BB05-4743-936A-0AF4E69F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65800"/>
            <a:ext cx="190512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65800"/>
            <a:ext cx="289584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65800"/>
            <a:ext cx="190512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C9D1-C24F-41A1-AAC3-0DE75F0646A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2555-64FD-45F9-871C-B26EF87B2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2e1c08"/>
              </a:gs>
              <a:gs pos="100000">
                <a:srgbClr val="000000">
                  <a:alpha val="9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24000" y="443700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-842760" y="5302080"/>
            <a:ext cx="51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8:18:25Z</dcterms:created>
  <dc:creator/>
  <dc:description/>
  <dc:language>en-US</dc:language>
  <cp:lastModifiedBy>echo</cp:lastModifiedBy>
  <cp:lastPrinted>1899-12-30T00:00:00Z</cp:lastPrinted>
  <dcterms:modified xsi:type="dcterms:W3CDTF">2009-10-19T13:34:44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