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3C5DF-388E-4475-9219-8314B3040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A2C2-80AC-47B2-9DBB-F872753A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38DD-1B6C-4816-B312-593B6E71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A4BB-5BC0-461E-8CBD-E14E30399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33B4-BE93-4AD4-81E7-DD8C03A80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6636C-3F02-4138-B936-4966235F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5B0C-93B1-492D-83D7-03C36F83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D0DD-3F42-41CA-8FC4-8B8C7694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04A0-ADA3-4FFC-983B-9087B5C4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1F51-8CCA-4D58-B693-990707F2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86B45-1B7E-49F0-ACE0-AA920557A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3BD98-C84D-4852-8D91-A05C4F98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88E4-FAB3-4A92-B053-B95D77C37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60912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155480"/>
              </a:solidFill>
              <a:latin typeface="Microsoft Sans Serif"/>
            </a:endParaRPr>
          </a:p>
        </p:txBody>
      </p:sp>
      <p:sp>
        <p:nvSpPr>
          <p:cNvPr id="118" name="PlaceHolder 2"/>
          <p:cNvSpPr>
            <a:spLocks noGrp="1"/>
          </p:cNvSpPr>
          <p:nvPr>
            <p:ph type="subTitle"/>
          </p:nvPr>
        </p:nvSpPr>
        <p:spPr>
          <a:xfrm>
            <a:off x="581040" y="1294920"/>
            <a:ext cx="4648320" cy="685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182880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ea typeface="宋体"/>
              </a:rPr>
              <a:t>Slide master</a:t>
            </a:r>
            <a:endParaRPr b="0" lang="en-US" sz="4400" spc="-1" strike="noStrike">
              <a:solidFill>
                <a:srgbClr val="155480"/>
              </a:solidFill>
              <a:latin typeface="Microsoft Sans Serif"/>
            </a:endParaRPr>
          </a:p>
        </p:txBody>
      </p:sp>
      <p:sp>
        <p:nvSpPr>
          <p:cNvPr id="120"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55480"/>
                </a:solidFill>
                <a:latin typeface="Microsoft Sans Serif"/>
                <a:ea typeface="宋体"/>
              </a:rPr>
              <a:t>Print master</a:t>
            </a:r>
            <a:endParaRPr b="0" lang="en-US" sz="4000" spc="-1" strike="noStrike">
              <a:solidFill>
                <a:srgbClr val="155480"/>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8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476640" y="533412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cp:lastPrinted>1899-12-30T00:00:00Z</cp:lastPrinted>
  <dcterms:modified xsi:type="dcterms:W3CDTF">2010-03-19T14:18:20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