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7A7160E-283F-453A-866D-9F85A38BE0D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258DB3D-D6C8-4C2A-9049-8ED4287291A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9E527A5-07E7-4F27-96C4-E1E694F6D7C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5F47980-376A-410F-A0A1-398849BBBB6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62882D9-DE0E-4675-859A-F62CCF4B6B5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6D858C9-BE81-490E-A349-A38B170F086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76ED52C-6254-479C-B7F4-D23C0F9B71B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417A440-DD5D-43A7-BB84-7161293786A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C156C66-FA59-4AD9-82E3-4A60B0656D1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D101E32-545E-4C14-9B27-EA8794BA2BB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C580D4D-ACCC-4F9A-85F9-990170757BC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ABDEE1C-6330-41ED-98A4-BF4A279F3CE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24DC6CF-7A2A-469F-88ED-D51F07BEBD2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071FB8E-99DC-4A04-B6E9-DD9AE302FAF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39DC259-B613-4826-B479-766A69DAE27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A5B3FDC-CAF5-4E26-816A-3F84D866A11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uilding Scalable Cisco Inter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9880" y="3832200"/>
            <a:ext cx="509976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urse Administration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70040" y="1270080"/>
            <a:ext cx="5734080" cy="5257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5-2: Tuning Basic Redistribution with Cisco IOS To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82680" y="1311120"/>
            <a:ext cx="6737400" cy="5150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6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Multihome BG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93760" y="1270080"/>
            <a:ext cx="6800760" cy="5226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6-2: Manipulating BGP Path Selection with Route Map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8920" y="1282680"/>
            <a:ext cx="6180120" cy="5234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7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Multicast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8920" y="1407960"/>
            <a:ext cx="6389640" cy="28479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8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IPv6 Addres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5200" y="4544640"/>
            <a:ext cx="3978360" cy="133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8000"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format for the IPv6 addresses used in this lab 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1:0410:000x:z::/64 eui-6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= Pod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1 for fa0/0 between R1 and R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43360" y="4573440"/>
            <a:ext cx="40892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2 for fa0/0 between R2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3 for s0/0/1 between R1 and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4 for s0/0/0 between R3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IPv4 addresses remain in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8920" y="1407960"/>
            <a:ext cx="6389640" cy="2847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8-2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nabling IPv6 OSPF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5560" y="4545000"/>
            <a:ext cx="3978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 fontScale="78000"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format for the IPv6 addresses used in this lab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1:0410:000x:z::/64 eui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= Po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1 for fa0/0 between R1 and 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43360" y="4573440"/>
            <a:ext cx="40892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2 for fa0/0 between R2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3 for s0/0/1 between R1 and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4 for s0/0/0 between R3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IPv4 addresses remain in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77800" y="1330200"/>
            <a:ext cx="6440760" cy="2925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8-3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IPv6 Tunne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560" y="4545000"/>
            <a:ext cx="3978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 fontScale="78000"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format for the IPv6 addresses used in this lab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1:0410:000x:z::/64 eui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= Po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1 for fa0/0 between R1 and 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43360" y="4573440"/>
            <a:ext cx="40892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2 for fa0/0 between R2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3 for s0/0/1 between R1 and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4 for s0/0/0 between R3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A for tunnel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IPv4 addresses remain in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95600" y="1322280"/>
            <a:ext cx="5713200" cy="518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2-0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asic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01640" y="1282680"/>
            <a:ext cx="6032520" cy="5259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2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and Tuning E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16080" y="1752480"/>
            <a:ext cx="6634080" cy="4292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3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Single-Area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12800" y="1263600"/>
            <a:ext cx="5661000" cy="5210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3-2: Configuring OSPF for Multiple Areas and Frame Relay Nonbroadc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6600" y="123840"/>
            <a:ext cx="86029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3-3: Configuring OSPF for Multiple Areas and Frame Relay Point-to-Multipoint and Point-to-Poi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12800" y="1263600"/>
            <a:ext cx="5661000" cy="52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287360"/>
            <a:ext cx="5594400" cy="5226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3-4: Tuning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09720" y="1289160"/>
            <a:ext cx="7331040" cy="5184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4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Integrated IS-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08200" y="1297080"/>
            <a:ext cx="5695920" cy="5232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5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Basic Redistribu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9:20:07Z</dcterms:modified>
  <cp:revision>184</cp:revision>
  <dc:subject>Lab 1.1A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