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2288999-916D-4526-8524-A10DE109E800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168EDC5-0BC2-4CC5-9930-E7EE71AB0E43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22BE2D5-F989-43F9-91F4-E8930CEB9A1E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9345C0C-9B37-40BF-9847-B0390A042920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92C865C-3B6C-4057-9E1E-32A6859439D6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45215CF-3724-44B5-BFE2-C2AC9D2B08EB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9509EC1-0BBA-46BA-825F-77263720519F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E5F99C3-0735-4C03-93B8-7FB34CF04EBE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B7A359C-FD31-49D8-A11C-7BB7265AC00E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A41894-2CA6-4226-ACF4-98CB35AF4C90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7AAF318-D97D-4F0F-AF46-1AD082153A1B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ADCF229-E940-40C0-9868-D314F720E769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B7E980C-017E-427A-B913-58AAC41CB8F0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F4044BD-8A74-4C2C-80F4-0B080B97EE59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0DAD82B-4BB3-4E7F-969A-7A4851DE82ED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3C05A1-BEEA-4649-B87E-10345E8F8539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3FBA2AF-FD67-463D-A291-8B92CF224863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CE77B7D-91F9-4F5A-90EC-AA6185C33914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B53C6C0-E050-44CB-AB01-8E2E9D4022D6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B9ED318-F596-4645-A400-1C04A3187396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40132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1880" y="485640"/>
            <a:ext cx="86688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20920" y="1333440"/>
            <a:ext cx="6949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9960" y="1255680"/>
            <a:ext cx="5600520" cy="5232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4: Tuning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9720" y="1289160"/>
            <a:ext cx="733104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4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271520"/>
            <a:ext cx="5727600" cy="5261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81200" y="1273320"/>
            <a:ext cx="5722920" cy="5246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2: Tuning Basic Redistribution with Cisco IOS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82680" y="1336680"/>
            <a:ext cx="6737400" cy="514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home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93760" y="1270080"/>
            <a:ext cx="6800760" cy="5226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Manipulating BGP Path Selection with 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67680" cy="5091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eering Ses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6400" y="1314360"/>
            <a:ext cx="5137200" cy="5189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ath Manipul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8920" y="1282680"/>
            <a:ext cx="6180120" cy="5234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7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cast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200" y="4573080"/>
            <a:ext cx="3978360" cy="13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urse Lab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abling IPv6 OSPF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560" y="457344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8920" y="1330200"/>
            <a:ext cx="6389640" cy="2901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3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Tunn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560" y="456876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A for tunne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0040" y="1322280"/>
            <a:ext cx="5707080" cy="517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SCI Lab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1160" y="1322280"/>
            <a:ext cx="7158240" cy="5183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pology for Your P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5600" y="1322280"/>
            <a:ext cx="5713200" cy="518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0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asic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1640" y="1282680"/>
            <a:ext cx="6032520" cy="52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Tun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6080" y="1752480"/>
            <a:ext cx="6634080" cy="4292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Single-Area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85960" y="1271520"/>
            <a:ext cx="5513400" cy="5211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2: Configuring OSPF for Multiple Areas and Frame Relay Nonbroadc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03520" y="1278000"/>
            <a:ext cx="5684760" cy="5235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3: Configuring OSPF for Multiple Areas and Frame Relay Point-to-Multipoint and Point-to-Po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0:27Z</dcterms:modified>
  <cp:revision>180</cp:revision>
  <dc:subject>Lab 1.1A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