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931E-CFCF-4CAC-906C-85F089C237F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58960" y="3997440"/>
            <a:ext cx="5160960" cy="43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sson A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Enter lesson aim here.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4013280"/>
            <a:chOff x="0" y="0"/>
            <a:chExt cx="9144000" cy="4013280"/>
          </a:xfrm>
        </p:grpSpPr>
        <p:sp>
          <p:nvSpPr>
            <p:cNvPr id="88" name=""/>
            <p:cNvSpPr/>
            <p:nvPr/>
          </p:nvSpPr>
          <p:spPr>
            <a:xfrm>
              <a:off x="0" y="0"/>
              <a:ext cx="9144000" cy="4013280"/>
            </a:xfrm>
            <a:prstGeom prst="rect">
              <a:avLst/>
            </a:prstGeom>
            <a:solidFill>
              <a:srgbClr val="306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461880" y="485640"/>
              <a:ext cx="866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 rot="10800000">
              <a:off x="8756640" y="0"/>
              <a:ext cx="387360" cy="378000"/>
            </a:xfrm>
            <a:prstGeom prst="rtTriangl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15800" y="1495440"/>
            <a:ext cx="7281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uilding Scalable Cisco Internetworks (BSCI) v3.0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earner Skills and Knowledg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isco CC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cert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e: Practical experience with deploying and operating networks based on Cisco network devices and Cisco IOS software is strongly recommend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-165240"/>
            <a:ext cx="9144000" cy="6581880"/>
            <a:chOff x="0" y="-165240"/>
            <a:chExt cx="9144000" cy="6581880"/>
          </a:xfrm>
        </p:grpSpPr>
        <p:pic>
          <p:nvPicPr>
            <p:cNvPr id="95" name="" descr=""/>
            <p:cNvPicPr/>
            <p:nvPr/>
          </p:nvPicPr>
          <p:blipFill>
            <a:blip r:embed="rId1"/>
            <a:srcRect l="0" t="18947" r="0" b="0"/>
            <a:stretch/>
          </p:blipFill>
          <p:spPr>
            <a:xfrm>
              <a:off x="2838600" y="4235400"/>
              <a:ext cx="357336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0" y="-165240"/>
              <a:ext cx="9144000" cy="13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9256"/>
            <p:cNvPicPr/>
            <p:nvPr/>
          </p:nvPicPr>
          <p:blipFill>
            <a:blip r:embed="rId2"/>
            <a:srcRect l="0" t="0" r="13901" b="0"/>
            <a:stretch/>
          </p:blipFill>
          <p:spPr>
            <a:xfrm>
              <a:off x="0" y="4236840"/>
              <a:ext cx="3067200" cy="21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9256"/>
            <p:cNvPicPr/>
            <p:nvPr/>
          </p:nvPicPr>
          <p:blipFill>
            <a:blip r:embed="rId3"/>
            <a:srcRect l="7476" t="0" r="7204" b="0"/>
            <a:stretch/>
          </p:blipFill>
          <p:spPr>
            <a:xfrm>
              <a:off x="6097680" y="4236840"/>
              <a:ext cx="3046320" cy="21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>
            <a:off x="846000" y="1682640"/>
            <a:ext cx="74898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174600" indent="-174600">
              <a:lnSpc>
                <a:spcPct val="95000"/>
              </a:lnSpc>
              <a:spcBef>
                <a:spcPts val="96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o train network administrators on the techniques to plan, implement, and monitor a scalable IP routing network.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04760" y="3276720"/>
            <a:ext cx="47246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uilding Scalable Cisco Internetwor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5640" y="8884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4798ab"/>
                </a:solidFill>
                <a:latin typeface="Arial"/>
                <a:ea typeface="宋体"/>
              </a:rPr>
              <a:t>Course Go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92120" y="1828800"/>
            <a:ext cx="8344080" cy="449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urse Flo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2120" y="1447920"/>
            <a:ext cx="8344080" cy="380880"/>
          </a:xfrm>
          <a:prstGeom prst="rect">
            <a:avLst/>
          </a:prstGeom>
          <a:solidFill>
            <a:srgbClr val="4798a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84880" y="1447920"/>
            <a:ext cx="0" cy="48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08720" y="1447920"/>
            <a:ext cx="0" cy="48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32200" y="1447920"/>
            <a:ext cx="0" cy="48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55680" y="1447920"/>
            <a:ext cx="0" cy="48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4720" y="3809880"/>
            <a:ext cx="83264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124080"/>
            <a:ext cx="155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figuring EIG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828800"/>
            <a:ext cx="1517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30640" y="3827520"/>
            <a:ext cx="109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98ab"/>
                </a:solidFill>
                <a:latin typeface="Arial"/>
                <a:ea typeface="宋体"/>
              </a:rPr>
              <a:t>Lu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0360" y="2382840"/>
            <a:ext cx="39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360" y="4929120"/>
            <a:ext cx="39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34200" y="14619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a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06040" y="14619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a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2200" y="14619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a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68440" y="14619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ay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44600" y="14619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ay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4838760"/>
            <a:ext cx="1628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anipulating Routing Up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438280"/>
            <a:ext cx="1587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2451240"/>
            <a:ext cx="1739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mplementing Multi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362320"/>
            <a:ext cx="1752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work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1240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5016600"/>
            <a:ext cx="155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figuring EIG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2451240"/>
            <a:ext cx="15526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figuring OSP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5016600"/>
            <a:ext cx="15526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figuring OSP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2451240"/>
            <a:ext cx="1629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IS-IS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2311560"/>
            <a:ext cx="1717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mplementing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G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4889520"/>
            <a:ext cx="1717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mplementing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G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62920" y="4876920"/>
            <a:ext cx="16761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mplementing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isco Icons and Symbo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7960" y="1633680"/>
            <a:ext cx="760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60920" y="2998800"/>
            <a:ext cx="1198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Network Cl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06840" y="5452920"/>
            <a:ext cx="171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End Us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32400" y="2911320"/>
            <a:ext cx="437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Serial Lin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60800" y="2570040"/>
            <a:ext cx="3602160" cy="17316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b92b3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875120" y="3823920"/>
            <a:ext cx="3600000" cy="171360"/>
            <a:chOff x="4875120" y="3823920"/>
            <a:chExt cx="3600000" cy="171360"/>
          </a:xfrm>
        </p:grpSpPr>
        <p:sp>
          <p:nvSpPr>
            <p:cNvPr id="139" name=""/>
            <p:cNvSpPr/>
            <p:nvPr/>
          </p:nvSpPr>
          <p:spPr>
            <a:xfrm flipV="1">
              <a:off x="6504120" y="3823920"/>
              <a:ext cx="171000" cy="17100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75120" y="3824280"/>
              <a:ext cx="17172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32160" y="3824280"/>
              <a:ext cx="17172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89200" y="3824280"/>
              <a:ext cx="17172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46600" y="3824280"/>
              <a:ext cx="17172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03640" y="3824280"/>
              <a:ext cx="17172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61040" y="3824280"/>
              <a:ext cx="17172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18080" y="3824280"/>
              <a:ext cx="17172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04120" y="3995280"/>
              <a:ext cx="17100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61160" y="3995280"/>
              <a:ext cx="17100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18200" y="3995280"/>
              <a:ext cx="17100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75600" y="3995280"/>
              <a:ext cx="17100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32640" y="3995280"/>
              <a:ext cx="17100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0040" y="3995280"/>
              <a:ext cx="17100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47080" y="3995280"/>
              <a:ext cx="17100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04120" y="3995280"/>
              <a:ext cx="17100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532400" y="4138560"/>
            <a:ext cx="437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Circuit-Switched Lin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32400" y="5197320"/>
            <a:ext cx="4371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Ethernet 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46760" y="5068800"/>
            <a:ext cx="3600360" cy="0"/>
          </a:xfrm>
          <a:prstGeom prst="line">
            <a:avLst/>
          </a:prstGeom>
          <a:ln w="5076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07960" y="2533680"/>
            <a:ext cx="1185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P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07960" y="3933720"/>
            <a:ext cx="89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Lapt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07960" y="5132520"/>
            <a:ext cx="893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File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60920" y="1649520"/>
            <a:ext cx="87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Web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84280" y="2921040"/>
            <a:ext cx="1327320" cy="676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905040" cy="635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22280" y="2413080"/>
            <a:ext cx="973080" cy="1027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57200" y="3733920"/>
            <a:ext cx="988920" cy="930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755800" y="1460520"/>
            <a:ext cx="943200" cy="995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2736720" y="4268880"/>
            <a:ext cx="919440" cy="1147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3695760" y="4284720"/>
            <a:ext cx="798480" cy="1131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673200" y="5014800"/>
            <a:ext cx="67284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84280" y="1384200"/>
            <a:ext cx="8178840" cy="130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3435480"/>
            <a:ext cx="2889360" cy="536400"/>
          </a:xfrm>
          <a:prstGeom prst="rect">
            <a:avLst/>
          </a:prstGeom>
          <a:solidFill>
            <a:srgbClr val="ab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4027320"/>
            <a:ext cx="2892600" cy="425520"/>
          </a:xfrm>
          <a:prstGeom prst="rect">
            <a:avLst/>
          </a:prstGeom>
          <a:solidFill>
            <a:srgbClr val="ab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40360" y="4510080"/>
            <a:ext cx="2892600" cy="425520"/>
          </a:xfrm>
          <a:prstGeom prst="rect">
            <a:avLst/>
          </a:prstGeom>
          <a:solidFill>
            <a:srgbClr val="ab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4991040"/>
            <a:ext cx="2892600" cy="425520"/>
          </a:xfrm>
          <a:prstGeom prst="rect">
            <a:avLst/>
          </a:prstGeom>
          <a:solidFill>
            <a:srgbClr val="ab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0360" y="5473800"/>
            <a:ext cx="2892600" cy="425520"/>
          </a:xfrm>
          <a:prstGeom prst="rect">
            <a:avLst/>
          </a:prstGeom>
          <a:solidFill>
            <a:srgbClr val="ab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0" r="1263" b="0"/>
          <a:stretch/>
        </p:blipFill>
        <p:spPr>
          <a:xfrm>
            <a:off x="76320" y="3206880"/>
            <a:ext cx="3348000" cy="2990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isco Career Certific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43280" y="1447920"/>
            <a:ext cx="546084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xpand Your Professional Op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98760" y="1793880"/>
            <a:ext cx="43513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Advance Your Care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4960" y="2193840"/>
            <a:ext cx="77356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CC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38440" y="5219640"/>
            <a:ext cx="1230120" cy="33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43240" y="4411800"/>
            <a:ext cx="1557360" cy="347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fes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52520" y="3965400"/>
            <a:ext cx="7524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C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28840" y="4822920"/>
            <a:ext cx="752400" cy="31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CN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67000" y="5661000"/>
            <a:ext cx="752400" cy="31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C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29080" y="5211720"/>
            <a:ext cx="12715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ssoc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00000">
            <a:off x="3997080" y="4417920"/>
            <a:ext cx="600120" cy="354240"/>
          </a:xfrm>
          <a:custGeom>
            <a:avLst/>
            <a:gdLst>
              <a:gd name="textAreaLeft" fmla="*/ 93600 w 600120"/>
              <a:gd name="textAreaRight" fmla="*/ 520920 w 600120"/>
              <a:gd name="textAreaTop" fmla="*/ 111240 h 354240"/>
              <a:gd name="textAreaBottom" fmla="*/ 243000 h 354240"/>
            </a:gdLst>
            <a:ahLst/>
            <a:rect l="textAreaLeft" t="textAreaTop" r="textAreaRight" b="textAreaBottom"/>
            <a:pathLst>
              <a:path w="21600" h="21600">
                <a:moveTo>
                  <a:pt x="3375" y="6780"/>
                </a:moveTo>
                <a:lnTo>
                  <a:pt x="13942" y="6780"/>
                </a:lnTo>
                <a:lnTo>
                  <a:pt x="13942" y="0"/>
                </a:lnTo>
                <a:lnTo>
                  <a:pt x="21600" y="10800"/>
                </a:lnTo>
                <a:lnTo>
                  <a:pt x="13942" y="21600"/>
                </a:lnTo>
                <a:lnTo>
                  <a:pt x="13942" y="14820"/>
                </a:lnTo>
                <a:lnTo>
                  <a:pt x="3375" y="14820"/>
                </a:lnTo>
                <a:close/>
              </a:path>
              <a:path w="21600" h="21600">
                <a:moveTo>
                  <a:pt x="0" y="6780"/>
                </a:moveTo>
                <a:lnTo>
                  <a:pt x="675" y="6780"/>
                </a:lnTo>
                <a:lnTo>
                  <a:pt x="675" y="14820"/>
                </a:lnTo>
                <a:lnTo>
                  <a:pt x="0" y="14820"/>
                </a:lnTo>
                <a:close/>
              </a:path>
              <a:path w="21600" h="21600">
                <a:moveTo>
                  <a:pt x="1350" y="6780"/>
                </a:moveTo>
                <a:lnTo>
                  <a:pt x="2700" y="6780"/>
                </a:lnTo>
                <a:lnTo>
                  <a:pt x="2700" y="14820"/>
                </a:lnTo>
                <a:lnTo>
                  <a:pt x="1350" y="148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6230880"/>
            <a:ext cx="38703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cisco.com/go/cert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11680" y="3435480"/>
            <a:ext cx="1171440" cy="536400"/>
          </a:xfrm>
          <a:prstGeom prst="rect">
            <a:avLst/>
          </a:prstGeom>
          <a:solidFill>
            <a:srgbClr val="ab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24520" y="3460680"/>
            <a:ext cx="2994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Recommended Training Through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isco Learning Part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11680" y="3435480"/>
            <a:ext cx="1089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Required Ex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11680" y="4027320"/>
            <a:ext cx="1171440" cy="425520"/>
          </a:xfrm>
          <a:prstGeom prst="rect">
            <a:avLst/>
          </a:prstGeom>
          <a:solidFill>
            <a:srgbClr val="ab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4760" y="3989520"/>
            <a:ext cx="1079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42-901 BS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1680" y="4510080"/>
            <a:ext cx="1171440" cy="425520"/>
          </a:xfrm>
          <a:prstGeom prst="rect">
            <a:avLst/>
          </a:prstGeom>
          <a:solidFill>
            <a:srgbClr val="ab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84760" y="4471920"/>
            <a:ext cx="1079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42-812 BCM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11680" y="4991040"/>
            <a:ext cx="1171440" cy="425520"/>
          </a:xfrm>
          <a:prstGeom prst="rect">
            <a:avLst/>
          </a:prstGeom>
          <a:solidFill>
            <a:srgbClr val="ab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84760" y="4952880"/>
            <a:ext cx="1079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42-821 IS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11680" y="5473800"/>
            <a:ext cx="1171440" cy="425520"/>
          </a:xfrm>
          <a:prstGeom prst="rect">
            <a:avLst/>
          </a:prstGeom>
          <a:solidFill>
            <a:srgbClr val="ab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8280" y="3987720"/>
            <a:ext cx="232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uilding Scalable Cisco Internetwor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8280" y="4483080"/>
            <a:ext cx="2873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uilding Cisco Multilayer Switched Networ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8280" y="4964040"/>
            <a:ext cx="2867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mplementing Secure Converged Wide-Area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54760" y="5446800"/>
            <a:ext cx="232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ptimizing Converged Cisco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95920" y="5435640"/>
            <a:ext cx="1079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42-84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52720" y="3556080"/>
            <a:ext cx="947880" cy="347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p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60920" y="3378240"/>
            <a:ext cx="4228920" cy="2577960"/>
          </a:xfrm>
          <a:prstGeom prst="rect">
            <a:avLst/>
          </a:prstGeom>
          <a:noFill/>
          <a:ln w="28440">
            <a:solidFill>
              <a:srgbClr val="abd6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earner Introduc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821040" y="2070000"/>
            <a:ext cx="4413240" cy="3530880"/>
          </a:xfrm>
          <a:prstGeom prst="rect">
            <a:avLst/>
          </a:prstGeom>
          <a:ln w="38160">
            <a:solidFill>
              <a:srgbClr val="306774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825480" y="2316240"/>
            <a:ext cx="2468520" cy="22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kills and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ief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7T02:08:18Z</dcterms:created>
  <dc:creator> </dc:creator>
  <dc:description/>
  <dc:language>en-US</dc:language>
  <cp:lastModifiedBy>whccie</cp:lastModifiedBy>
  <dcterms:modified xsi:type="dcterms:W3CDTF">2007-01-17T09:20:50Z</dcterms:modified>
  <cp:revision>37</cp:revision>
  <dc:subject/>
  <dc:title>Hierarchical Campus Model</dc:title>
</cp:coreProperties>
</file>