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1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1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1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BC7257A-364A-4D95-A9AF-7696CEC708A6}" type="slidenum"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9015267-FEB9-48CC-A12F-02CFCBCC3764}" type="slidenum"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2286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rot="10800000">
            <a:off x="8756640" y="-9720"/>
            <a:ext cx="387360" cy="3776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061480" y="6377040"/>
            <a:ext cx="1082520" cy="48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454120"/>
            <a:ext cx="9144000" cy="44038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5200" y="2951280"/>
            <a:ext cx="77979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13669" r="0" b="64133"/>
          <a:stretch/>
        </p:blipFill>
        <p:spPr>
          <a:xfrm>
            <a:off x="0" y="0"/>
            <a:ext cx="9140760" cy="2536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rcRect l="0" t="13669" r="0" b="64110"/>
          <a:stretch/>
        </p:blipFill>
        <p:spPr>
          <a:xfrm>
            <a:off x="0" y="0"/>
            <a:ext cx="9140760" cy="25401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55560" y="3606840"/>
            <a:ext cx="7802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Describing Network Requirem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655200" y="2951280"/>
            <a:ext cx="77979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Network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Cisco SONA Framework Layer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538280" y="1332000"/>
            <a:ext cx="6162840" cy="51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Intelligent Information Network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IN integrates networked resources and information asset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IN extends intelligence across multiple products and infrastructure layer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IN actively participates in the delivery of services and application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ree phases in building an IIN ar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tegrated transpo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tegrated servi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tegrated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22360" y="1827360"/>
            <a:ext cx="8250120" cy="34812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Routing Protocol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Routing Protocol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Comparis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371600" y="1981080"/>
          <a:ext cx="6305400" cy="3902040"/>
        </p:xfrm>
        <a:graphic>
          <a:graphicData uri="http://schemas.openxmlformats.org/drawingml/2006/table">
            <a:tbl>
              <a:tblPr/>
              <a:tblGrid>
                <a:gridCol w="3257640"/>
                <a:gridCol w="1066680"/>
                <a:gridCol w="838080"/>
                <a:gridCol w="1143000"/>
              </a:tblGrid>
              <a:tr h="645840">
                <a:tc>
                  <a:txBody>
                    <a:bodyPr lIns="82080" rIns="82080" tIns="41040" bIns="4104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sl-SI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amet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06774"/>
                    </a:solidFill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EIGR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06774"/>
                    </a:solidFill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SP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06774"/>
                    </a:solidFill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S-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06774"/>
                    </a:solidFill>
                  </a:tcPr>
                </a:tc>
              </a:tr>
              <a:tr h="648000"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Size of Network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(Small-Medium-Large-Very Larg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06774"/>
                    </a:solidFill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Lar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Lar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ery Lar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8000"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Speed of Convergence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(Very High-High-Medium-Low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06774"/>
                    </a:solidFill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ery Hig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Hig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Hig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9440"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Use of VLSM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(Yes-N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06774"/>
                    </a:solidFill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8000"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Mixed-Vendor Devices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(Yes-N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06774"/>
                    </a:solidFill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2760"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Network Support Staff Knowledge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(Good-Poo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06774"/>
                    </a:solidFill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oo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oo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Fa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Summar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isco Enterprise Architectures with a hierarchical network model facilitate the deployment of converged network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Cisco Enterprise Composite Network Model defines three functional areas: Enterprise Campus, Enterprise Edge, and Service Provider Edg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nverged networks with their traffic mix have higher demands on the network and its resours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SONA framework guides the evolution of the enterprise network toward the II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network models can be important tools for selecting and implementing an advanced IP routing protocol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476440" y="2076480"/>
            <a:ext cx="4381560" cy="25909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Cisco Enterprise Architectur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066680" y="1471680"/>
          <a:ext cx="7161480" cy="48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471680"/>
                    <a:ext cx="7161480" cy="48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122480" y="2162160"/>
            <a:ext cx="6999120" cy="34448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Cisco Hierarchical Network Mod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30200" y="1506600"/>
            <a:ext cx="8237520" cy="47322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Hierarchical Campus Mod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55800" y="1611360"/>
            <a:ext cx="7230960" cy="36338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Hierarchical Network Model WA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90920" y="5181480"/>
            <a:ext cx="26668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 anchorCtr="1">
            <a:noAutofit/>
          </a:bodyPr>
          <a:p>
            <a:pPr lvl="1" marL="34308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82640" y="2286000"/>
            <a:ext cx="7578720" cy="32558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Enterprise Composite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Network Model</a:t>
            </a: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Functional Area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96920" y="1420920"/>
            <a:ext cx="8750160" cy="49687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Enterprise Composite Network Mod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Network Traffic Mix and Requirement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89000"/>
          </a:bodyPr>
          <a:p>
            <a:pPr lvl="1" marL="305280" indent="-2034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nverged network traffic mix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10200" indent="-2034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Voice and video traff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10200" indent="-2034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Voice applications traff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10200" indent="-2034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ission-critical applications traff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10200" indent="-2034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ransactional traff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10200" indent="-2034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outing update traff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10200" indent="-2034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etwork management traff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5280" indent="-2034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Key requirement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10200" indent="-2034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erformance (bandwidth, delay, jitter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10200" indent="-2034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curity (access, transmissi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Cisco SONA Framework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isco Service-Oriented Network Architecture (SONA) is an architectural framework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isco SONA brings several advantages to enterprise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utlines how enterprises can evolve toward the Intelligent Information Network (II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llustrates how to build integrated systems across a fully converged intelligent netwo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mproves flexibility and increases efficienc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ptimizes applications, processes, and resour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2T15:29:42Z</dcterms:created>
  <dc:creator>CLS Production and Editing QA Services</dc:creator>
  <dc:description>04/04, v3.1, Libby Goga
applied new ILSG learning design
04/24/04, v3.1, Erin Stanley
prepared for production
Updated; dmachado:  01.04.05</dc:description>
  <dc:language>en-US</dc:language>
  <cp:lastModifiedBy>whccie</cp:lastModifiedBy>
  <dcterms:modified xsi:type="dcterms:W3CDTF">2007-01-17T09:21:59Z</dcterms:modified>
  <cp:revision>140</cp:revision>
  <dc:subject/>
  <dc:title>ILT-MA-Lesson-v3.1.ppt</dc:title>
</cp:coreProperties>
</file>