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57CC7E0-BF3B-4C2E-A162-85D2387FB43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9C149BE-6D14-44C3-AA19-1452F604124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01B8C48-1821-418E-BA7B-8D5978312D1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8D1C1EC-829C-46E5-8B7D-0591A471536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B5B0F45-B69C-4BF4-B454-AF6A1F5839A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0B187D1-635A-44CE-AC0F-879072C8D42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1C7C9BC-7904-41B5-AD09-E7E2E4E787F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B274B6B-F31E-48D5-B664-BDF22F32C6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mplementing and Verifying EIGR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74720" y="1873080"/>
            <a:ext cx="7988400" cy="3918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route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8001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route 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172.17.0.0/16 [90/40514560] via 192.168.1.102, 00:07:01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72.16.0.0/16 is a summary, 00:05:13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0/24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92.168.1.0/24 is a summary, 00:05:13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rou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172.17.0.0/16 [90/40514560] via 192.168.1.102, 00:06:55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72.16.0.0/16 is a summary, 00:05:07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72.16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0/24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92.168.1.96/27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92.168.1.0/24 is a summary, 00:05:07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74720" y="1454040"/>
            <a:ext cx="7518240" cy="498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486080"/>
            <a:ext cx="66960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tocol is "eigrp 1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utgoing update filter list for all interfaces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update filter list for all interfaces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ault networks flagged in outgoing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ault networks accepted from incoming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metric weight K1=1, K2=0, K3=1, K4=0, K5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maximum hopcount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maximum metric varian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ing: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NSF-aware route hold timer is 24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ximum path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for Netwo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Information 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        Distance      Last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(this router)         90      00:09: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        Distance      Last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102         90      00:09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istance: internal 90 external 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2800440"/>
            <a:ext cx="8458200" cy="155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832120"/>
            <a:ext cx="85345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interface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Xmit Queue   Mean   Pacing Time   Multicast   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       Peers  Un/Reliable  SRTT   Un/Reliable   Flow Timer  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a0/0              0        0/0         0       0/10           0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0/0/1            1        0/0        10      10/380        424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4720" y="1676520"/>
            <a:ext cx="7518240" cy="342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708200"/>
            <a:ext cx="669600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Topology Table for AS(100)/ID(192.168.1.1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des: P - Passive, A - Active, U - Update, Q - Query, R - Repl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 - reply Status, s - sia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92.168.1.96/27, 1 successors, FD is 4051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92.168.1.0/24, 1 successors, FD is 4051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Summary (40512000/0)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72.16.0.0/16, 1 successors, FD is 28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Summary (28160/0)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72.16.1.0/24, 1 successors, FD is 28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72.17.0.0/16, 1 successors, FD is 40514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192.168.1.102 (40514560/28160)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4720" y="1676520"/>
            <a:ext cx="7518240" cy="342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traff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708200"/>
            <a:ext cx="66960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Traffic Statistics for A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s sent/received: 429/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pdates sent/received: 4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Queries sent/received: 1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plies sent/received: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ks sent/received: 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put queue high water mark 1, 0 d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IA-Queries sent/received: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IA-Replies sent/received: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Process ID: 1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DM Process ID: 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figuration commands for basic EIGRP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eigr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ilo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ption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parameter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is an inverse mask used to determine how to interpr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rameter. A wildcard bit of 0 is a match and of 1 is “don’t care.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 and advertise a default route in an EIGRP AS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default-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eigrp neighb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verify that the router recognizes its neighbors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 eig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verify that the router recognizes routes from its neighbo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protocol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eigrp i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how ip eigrp neighb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how ip eigrp top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how ip eigrp traff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to verify EIGRP opera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0720" y="187488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 eigrp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333520"/>
            <a:ext cx="82296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EIGRP as the IP routing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the internetwork that must exchange EIGRP routing updates must have the same autonomous syste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720" y="428616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etwork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etwork-nu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ildcard-mas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800600"/>
            <a:ext cx="84582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ies attached networks participating in EIG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an inverse mask used to determine how to interpret the address. The mask has wildcard bits, where 0 is a match and 1 is “don’t ca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6840" y="1496880"/>
            <a:ext cx="2432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6840" y="3905280"/>
            <a:ext cx="3499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720" y="187488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bandwidth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ilobi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33520"/>
            <a:ext cx="82296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interface’s bandwidth for the purposes of sending routing update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6840" y="1496880"/>
            <a:ext cx="2890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7960" y="1438200"/>
            <a:ext cx="5786640" cy="398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5562720"/>
            <a:ext cx="75186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twork 192.168.1.0 is not configured on router 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cause it is not directly connected to router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for 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7640" y="1554120"/>
            <a:ext cx="7846920" cy="4505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he Wildcard Mask in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8480" y="1357200"/>
            <a:ext cx="8110800" cy="5031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and Configuring the ip default-network Command for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800" y="1531800"/>
            <a:ext cx="8366400" cy="4402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EIGRP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EIGRP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9640" y="2178000"/>
            <a:ext cx="5549760" cy="330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209680"/>
            <a:ext cx="541008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72.17.2.2 255.255.255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dwidth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72.17.2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74720" y="1873080"/>
            <a:ext cx="7518240" cy="14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neighb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905120"/>
            <a:ext cx="761976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neighbor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   Address        Interface   Hold  Uptime   SRTT   RTO  Q  S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(sec)          (ms)       Cnt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   192.168.1.102  Se0/0/1     10    00:07:22   10   2280  0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6:44:00Z</dcterms:modified>
  <cp:revision>161</cp:revision>
  <dc:subject>Module 03 Lesson 04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