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EB026F3-C85D-46F9-B5C6-F611F01BE72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41E8492-B471-4A05-9C20-96F60BEF38E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923919E-20C4-4A21-A2AE-49C511C7C68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9116C79-6C19-4462-B3E3-D63D352F47D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5FB2680-A6BC-41F0-8C00-90E861BD8BE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Authent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1 Configuration for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20840" y="1308240"/>
            <a:ext cx="6248520" cy="5181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3120" y="1308240"/>
            <a:ext cx="601992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chain R1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-string firs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-lifetime 04:00:00 Jan 1 2006 04:01:00 Jan 1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-string second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72.16.1.1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ndwidth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1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uthentication mode eigrp 100 m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uthentication key-chain eigrp 100 R1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72.16.1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uto-summ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2 Configuration for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11280" y="1295280"/>
            <a:ext cx="6019920" cy="5181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63560" y="1295280"/>
            <a:ext cx="533412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chain R2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-string firs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-string second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-lifetime 04:00:00 Jan 1 2006 infin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72.17.2.2 255.255.255.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ndwidth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2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uthentication mode eigrp 100 m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uthentication key-chain eigrp 100 R2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72.17.2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uto-summ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9360" y="1295280"/>
            <a:ext cx="8597880" cy="5181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040" y="1330200"/>
            <a:ext cx="828684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23:30.517: %DUAL-5-NBRCHANGE: IP-EIGRP(0) 100: Neighbor 192.168.1.102 (Serial0/0/1) is up: new adjac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eigr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EIGRP neighbors for proces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  Address                 Interface       Hold Uptime   SRTT   RTO  Q  S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c)         (ms)       Cnt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192.168.1.102           Se0/0/1           12 00:03:10   17  2280  0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   172.17.0.0/16 [90/40514560] via 192.168.1.102, 00:02:22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2.16.0.0/16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      172.16.0.0/16 is a summary, 00:31:31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72.16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0/24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92.168.1.96/27 is directly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      192.168.1.0/24 is a summary, 00:31:31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ping 172.17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 escape sequence to ab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ing 5, 100-byte ICMP Echos to 172.17.2.2, timeout is 2 secon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cess rate is 100 percent (5/5), round-trip min/avg/max = 12/15/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4160" y="1612800"/>
            <a:ext cx="86868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0120" y="1689120"/>
            <a:ext cx="8286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160" y="1612800"/>
            <a:ext cx="88390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Times New Roman"/>
              </a:rPr>
              <a:t>R1#debug eigrp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RP Packe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UPDATE, REQUEST, QUERY, REPLY, HELLO, IPXSAP, PROBE, ACK, STUB, SIAQUERY, SIAREP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51.745: EIGRP: received packet with MD5 authentication, key id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51.745: EIGRP: Received HELLO on Serial0/0/1 nbr 192.168.1.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51.745:   AS 100, Flags 0x0, Seq 0/0 idbQ 0/0 iidbQ un/rely 0/0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Q un/rely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Times New Roman"/>
              </a:rPr>
              <a:t>R2#debug eigrp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RP Packe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UPDATE, REQUEST, QUERY, REPLY, HELLO, IPXSAP, PROBE, ACK, STUB, SIAQUE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AREP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38.321: EIGRP: received packet with MD5 authentication, key id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38.321: EIGRP: Received HELLO on Serial0/0/1 nbr 192.168.1.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38.321:   AS 100, Flags 0x0, Seq 0/0 idbQ 0/0 iidbQ un/rely 0/0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Q un/rely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MD5 Authentication Probl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3040" y="1905120"/>
            <a:ext cx="876312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3040" y="1981080"/>
            <a:ext cx="89154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(config-if)#key chain R1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(config-keychain)#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Times New Roman"/>
              </a:rPr>
              <a:t>R1(config-keychain-key)#key-string wrong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Times New Roman"/>
              </a:rPr>
              <a:t>R2#debug eigrp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RP Packe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UPDATE, REQUEST, QUERY, REPLY, HELLO, IPXSAP, PROBE, ACK, STUB, SIAQUERY, SIAREP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EIGRP: pkt key id = 2, authentication mism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EIGRP: Serial0/0/1: ignored packet from 192.168.1.101, o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de = 5 (invalid authent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EIGRP: Dropping peer, invalid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EIGRP: Sending HELLO on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  AS 100, Flags 0x0, Seq 0/0 idbQ 0/0 iidbQ un/rely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53: %DUAL-5-NBRCHANGE: IP-EIGRP(0) 100: Neighbor 192.168.1.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rial0/0/1) is down: Auth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#show ip eigr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EIGRP neighbors for proces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#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7080" y="1219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 on both R1 and R2, but R1 key 2 (that it uses when sending)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two types of router authentication: simple password and MD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EIGRP authentication is configured, the router generates and checks every EIGRP packet and authenticates the source of each routing update packet that it receives. EIGRP supports MD5 authent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configure MD5 authentication,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authentication mode eigr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authentication key-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terface commands. The key chain must also be configured, starting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ug eigrp packe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o verify and troubleshoot MD5 authent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r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2000"/>
          </a:bodyPr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ny routing protocols support authentication such that a router authenticates the source of each routing update packet that it receiv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authentication is supported b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Pv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 is supported b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P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imple Password vs.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authentic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sends packet and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checks whether key matches its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 not sec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 a key (password) and key ID; router generates a message digest, or hash, of the key, key ID and 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ssage digest is sent with packet; key is not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 OS sec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supports MD5 authent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generates and checks every EIGRP packet. Router authenticates the source of each routing update packet that it receiv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 a key (password) and key ID; each participating neighbor must have same ke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IGRP MD5 authentic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generates a message digest, or hash, of the key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 ID, and 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allows keys to be managed using key chai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y key ID (number), key, and lifetime of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rst valid activated key, in order of key numbers, is 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960" y="2057400"/>
            <a:ext cx="81532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authentication mode eigr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m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7524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2514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MD5 authentication for EIGR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27672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581280"/>
            <a:ext cx="82296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authentication key-chain eigr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-of-cha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495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ables authentication of EIGRP packets using key i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MD5 Authentica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960" y="2057400"/>
            <a:ext cx="81532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 chain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-of-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7524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960" y="2514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ters configuration mode for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9718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keychain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276720"/>
            <a:ext cx="822960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733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entifies key and enters configuration mode for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MD5 Authentica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5238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keychain-key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822960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-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286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entifies key string (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7432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keychain-key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048120"/>
            <a:ext cx="82296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cept-lifetim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tart-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{infinite |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nd-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duratio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809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al: Specifies when key will be accepted for received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5720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keychain-key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876920"/>
            <a:ext cx="82296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nd-lifetim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tart-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{infinite |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nd-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duratio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638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al: Specifies when key can be used for sending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624040"/>
            <a:ext cx="8024760" cy="897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 MD5 Authentication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6:48:27Z</dcterms:modified>
  <cp:revision>201</cp:revision>
  <dc:subject>Module 04 Lesson 08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