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CC57-772D-4173-ACAA-1830E06338D9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96F9-E88D-4A05-96FD-492D6B4B39C0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4440" cy="32878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58960" y="3997080"/>
            <a:ext cx="5160960" cy="43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esson 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Enter lesson aim here.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3DEA-782E-4093-8C3E-E2BB22CCD61D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4440" cy="32878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58960" y="3997080"/>
            <a:ext cx="5160960" cy="4306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esson 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Enter lesson aim here.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odule 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IGRP starts by building a table of adjacent neighbors. Route exchanges with these neighbors result in an EIGRP topology table. The best EIGRP routes are moved into the IP routing t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configuration commands for basic EIGRP include thes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eigr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utonomous-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-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ldcard-ma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 auto-summ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mand to disable automatic summarization. 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summary-address eigr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mand to create a summary address. 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ari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to configure unequal-cost load balanc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odule Summary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 configure EIGRP MD5 authentication, 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authentication mode eigr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p authentication key-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rface commands. The key chain must also be configured, starting with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ma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eatures such as stub routing, active process enhancement, and graceful shutdown help improve network stability and perform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5:29:42Z</dcterms:created>
  <dc:creator>CLS Production and Editing QA Services</dc:creator>
  <dc:description>04/04, v3.1, Libby Goga
applied new ILSG learning design
04/24/04, v3.1, Erin Stanley
prepared for production</dc:description>
  <dc:language>en-US</dc:language>
  <cp:lastModifiedBy>whccie</cp:lastModifiedBy>
  <dcterms:modified xsi:type="dcterms:W3CDTF">2007-01-17T06:50:15Z</dcterms:modified>
  <cp:revision>47</cp:revision>
  <dc:subject/>
  <dc:title>ILT-MA-ModuleSumm-v3.1.ppt</dc:title>
</cp:coreProperties>
</file>