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27640" y="8596440"/>
            <a:ext cx="44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240" y="8774280"/>
            <a:ext cx="260964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50040" bIns="50040" anchor="t">
            <a:spAutoFit/>
          </a:bodyPr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8788320"/>
            <a:ext cx="662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Num" idx="1"/>
          </p:nvPr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zh-CN" sz="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2F187BC8-1308-47F7-A07E-841B53FDA798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865080" y="244440"/>
            <a:ext cx="5315040" cy="39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403200" y="4371840"/>
            <a:ext cx="6099120" cy="4246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E3615276-BD1A-4D41-95E6-BFF45F56E2DE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56040" y="-1440"/>
            <a:ext cx="30322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3240" y="-1440"/>
            <a:ext cx="3029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7254FFC2-2812-47B3-B575-0BEC954B2E18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ACC2EF3E-6A34-4510-ACEA-714B46F67F85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C2288073-A351-4010-99B4-73379DB43781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figuring OSP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5560" y="3606840"/>
            <a:ext cx="7802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onfiguring OSPF Rou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0720" y="251316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how ip osp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6720" y="2168640"/>
            <a:ext cx="4302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297180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plays the OSPF router ID, timers, an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erifying OSPF Operation (C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0720" y="4191120"/>
            <a:ext cx="8312400" cy="70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how ip ospf neighb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type numb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 [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neighbor-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] [detai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720" y="3809880"/>
            <a:ext cx="453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510552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plays information about the OSPF neighbors, including DR and BDR information on broadcast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74720" y="2178000"/>
            <a:ext cx="7823160" cy="1289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The show ip route ospf Comma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2279520"/>
            <a:ext cx="796284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A#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show</a:t>
            </a:r>
            <a:r>
              <a:rPr b="1" lang="en-US" sz="1400" spc="-1" strike="noStrike">
                <a:solidFill>
                  <a:srgbClr val="cc0033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ip route osp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0.0.0.0/8 is variably subnetted, 3 subnets, 2 m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 IA    10.2.1.0/24 [110/782] via 10.64.0.2, 00:03:05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A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The show ip ospf interface Comma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0560" y="1600200"/>
            <a:ext cx="802656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8400" y="1638360"/>
            <a:ext cx="82296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A#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show</a:t>
            </a:r>
            <a:r>
              <a:rPr b="1" lang="en-US" sz="1400" spc="-1" strike="noStrike">
                <a:solidFill>
                  <a:srgbClr val="cc0033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ip ospf interface fastEthernet 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FastEthernet0/0 is up, line protocol is 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nternet Address 10.64.0.1/24, Area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Process ID 1, Router ID 10.64.0.1, Network Type BROADCAST, Cost: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Transmit Delay is 1 sec, State DROTHER, Priority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Designated Router (ID) 10.64.0.2, Interface address 10.64.0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o backup designated router on this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Timer intervals configured, Hello 10, Dead 40, Wait 40, Retransmi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ob-resync timeout 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Hello due in 00:00: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upports Link-local Signaling (LL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ndex 1/1, flood queue length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xt 0x0(0)/0x0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ast flood scan length is 1, maximum is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ast flood scan time is 0 msec, maximum is 4 m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Count is 1, Adjacent neighbor count is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djacent with neighbor 10.64.0.2  (Designated Rou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uppress hello for 0 neighbor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06440" y="1663560"/>
            <a:ext cx="8267760" cy="137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The show ip ospf neighbor Comma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5040" y="1714680"/>
            <a:ext cx="8140680" cy="11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RouterB# </a:t>
            </a:r>
            <a:r>
              <a:rPr b="1" lang="en-GB" sz="1400" spc="-1" strike="noStrike">
                <a:solidFill>
                  <a:srgbClr val="b92b38"/>
                </a:solidFill>
                <a:latin typeface="Courier New"/>
              </a:rPr>
              <a:t>show ip ospf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neigh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ID   Pri   State           Dead Time   Address   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0.64.0.1     0     FULL/DROTHER    00:00:30    10.64.0.1 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0.2.1.1      0     FULL/  -        00:00:34    10.2.1.1   Serial0/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6440" y="3162240"/>
            <a:ext cx="8280360" cy="2781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5040" y="3213000"/>
            <a:ext cx="8140680" cy="26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RouterB# </a:t>
            </a:r>
            <a:r>
              <a:rPr b="1" lang="en-GB" sz="1400" spc="-1" strike="noStrike">
                <a:solidFill>
                  <a:srgbClr val="b92b38"/>
                </a:solidFill>
                <a:latin typeface="Courier New"/>
              </a:rPr>
              <a:t>show ip ospf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neighbor det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10.64.0.1, interface address 10.64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n the area 0 via interface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priority is 0, State is FULL, 16 state cha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DR is 10.64.0.2 BDR is 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10.2.1.1, interface address 10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n the area 1 via interface Serial0/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priority is 0, State is FULL, 6 state cha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DR is 0.0.0.0 BDR is 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3000"/>
          </a:bodyPr>
          <a:p>
            <a:pPr lvl="1" marL="284400" indent="-189720">
              <a:lnSpc>
                <a:spcPct val="90000"/>
              </a:lnSpc>
              <a:spcBef>
                <a:spcPts val="825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Configuration of OSPF is a two-step process: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569160" indent="-189720">
              <a:lnSpc>
                <a:spcPct val="90000"/>
              </a:lnSpc>
              <a:spcBef>
                <a:spcPts val="825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Enter OSPF configuration with the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router ospf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 command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569160" indent="-189720">
              <a:lnSpc>
                <a:spcPct val="90000"/>
              </a:lnSpc>
              <a:spcBef>
                <a:spcPts val="825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Use the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network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 command to describe which interfaces will run OSPF in which area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84400" indent="-189720">
              <a:lnSpc>
                <a:spcPct val="90000"/>
              </a:lnSpc>
              <a:spcBef>
                <a:spcPts val="825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OSPF selects a router ID at startup time: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569160" indent="-189720">
              <a:lnSpc>
                <a:spcPct val="90000"/>
              </a:lnSpc>
              <a:spcBef>
                <a:spcPts val="825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The router ID’s specified in the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router-id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 command under the OSPF process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569160" indent="-189720">
              <a:lnSpc>
                <a:spcPct val="90000"/>
              </a:lnSpc>
              <a:spcBef>
                <a:spcPts val="825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Otherwise, the highest IP address of a loopback interface, if there are any, is used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569160" indent="-189720">
              <a:lnSpc>
                <a:spcPct val="90000"/>
              </a:lnSpc>
              <a:spcBef>
                <a:spcPts val="825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By default, the highest IP address of all active interfac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84400" indent="-189720">
              <a:lnSpc>
                <a:spcPct val="90000"/>
              </a:lnSpc>
              <a:spcBef>
                <a:spcPts val="825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Use the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show ip ospf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 command to verify the router ID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84400" indent="-189720">
              <a:lnSpc>
                <a:spcPct val="90000"/>
              </a:lnSpc>
              <a:spcBef>
                <a:spcPts val="825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Use the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show ip protocol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show ip route ospf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show ip ospf interfac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show ip ospf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, and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show ip ospf neighbor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 commands to verify OSPF operation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79320" y="182880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outer ospf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process-i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[vr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vpn-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3360" y="1523880"/>
            <a:ext cx="4302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2543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nables one or more OSPF routing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 Basic OSPF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9320" y="320040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etwork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p-address wildcard-mask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rea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rea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9320" y="2895480"/>
            <a:ext cx="453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36576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fines the interfaces that OSPF will run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4267080"/>
            <a:ext cx="453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if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457200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p ospf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process-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rea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area-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[secondaries no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2280" y="5029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ptional method to enable OSPF explicitly on an interfac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33400" y="1836720"/>
            <a:ext cx="7299360" cy="42498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OSPF on Internal Routers of a Single Are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3760" y="1571760"/>
            <a:ext cx="8601120" cy="41875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OSPF for Multiple Are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OSPF Router I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1200" y="1643040"/>
            <a:ext cx="80852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router is known to OSPF by the OSPF router ID numb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SDBs use the OSPF router ID to differentiate one router from the nex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y default, the router ID is the highest IP address on an active interface at the moment of OSPF process startup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loopback interface can override the OSPF router ID. If a loopback interface exists, the router ID is the highest IP address on any active loopback interfa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OSP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outer-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command can be used to override the OSPF router I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Using a loopback interface or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outer-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command is recommended for stabilit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92240" y="1636560"/>
            <a:ext cx="7061040" cy="1798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09480" y="3962520"/>
            <a:ext cx="8159760" cy="641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outer(config)#interface loopback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outer(config-if)#ip address 172.16.17.5 255.255.255.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5003640"/>
            <a:ext cx="822960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f the OSPF process is already running, the router must be reloaded or the OSPF process must be removed and reconfigured before the new loopback addr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ill take eff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Loopback Interfac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66720" y="164628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outer-id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p-addre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2108160"/>
            <a:ext cx="8229600" cy="23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command is configured under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r ospf 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ocess-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]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mm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y unique arbitrary 32-bit value in an IP address format (dotted decimal) can be 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f this command is used on an OSPF process that is already active, then the new router ID is used after the next reload or manual OSPF process restart us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OSPF router-id Comma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6000" y="1297080"/>
            <a:ext cx="31644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outer(config-router)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8720" y="5232240"/>
            <a:ext cx="8159760" cy="1189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outer(config)#router ospf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outer(config-router)#router-id 172.16.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outer#clear ip ospf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0520" y="465444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clear ip ospf process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1520" y="4317840"/>
            <a:ext cx="11070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outer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74720" y="1689120"/>
            <a:ext cx="7543800" cy="4483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OSPF Router ID Verif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1765440"/>
            <a:ext cx="7162920" cy="43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B#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sh</a:t>
            </a:r>
            <a:r>
              <a:rPr b="1" lang="en-US" sz="1400" spc="-1" strike="noStrike">
                <a:solidFill>
                  <a:srgbClr val="cc0033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ip osp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ing Process "ospf 50" with ID 10.64.0.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umber of areas in this router is 2. 2 normal 0 stub 0 ns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umber of areas transit capable is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External flood list length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rea BACKBONE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rea BACKBONE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rea has no authent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PF algorithm last executed 00:01:25.028 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PF algorithm executed 7 ti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re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umber of interfaces in this area is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rea has no authent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PF algorithm last executed 00:00:54.636 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PF algorithm executed 3 ti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8640" y="1905120"/>
            <a:ext cx="815832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how ip protocol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1600200"/>
            <a:ext cx="4848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8640" y="2362320"/>
            <a:ext cx="8228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95000"/>
              </a:lnSpc>
              <a:spcBef>
                <a:spcPts val="1250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erifies the configured IP routing protocol processes, parameters, an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erifying OSPF Oper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8640" y="3701880"/>
            <a:ext cx="815832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how ip rou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ospf [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process-i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3397320"/>
            <a:ext cx="4145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8640" y="4159080"/>
            <a:ext cx="82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plays all OSPF routes learned by the 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8640" y="5105520"/>
            <a:ext cx="815832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how ip ospf interfac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[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type numb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4800600"/>
            <a:ext cx="4145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8640" y="5562720"/>
            <a:ext cx="82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plays the OSPF router ID, area ID, and adjacency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Global Knowledge</dc:creator>
  <dc:description/>
  <dc:language>en-US</dc:language>
  <cp:lastModifiedBy>whccie</cp:lastModifiedBy>
  <cp:lastPrinted>1999-01-27T00:54:54Z</cp:lastPrinted>
  <dcterms:modified xsi:type="dcterms:W3CDTF">2007-01-17T07:42:48Z</dcterms:modified>
  <cp:revision>208</cp:revision>
  <dc:subject>Module 04 Lesson 03</dc:subject>
  <dc:title>BSCI v2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