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E4EDA66-37FE-431A-9C13-0C53473348E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43D137D-9F2F-41F3-A211-5943261BC14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EF2D2D7-2A29-47A2-8614-D987FCAB5A3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B25D889-1B03-4262-983E-EB18ADBD489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B426C1F-185D-426A-AF92-963C6AF1E1A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C5B1AFD-6E03-47E3-9F75-4E9BFE8E966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1F40F18-A59C-44F5-929A-8B37A89D044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344F0A9-05B4-41F4-BC55-CD449D13076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8922369-2E61-4E10-8E10-8837A80906D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D39A2D3-B49D-41AB-ADBB-9FC275B93C3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1C07CF5-957B-4847-85F9-46A973368A5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DAB930A-025F-4129-95D5-11D5A3EF3BC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4D5CA99-4615-428F-88AB-E9F956CF7AF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SPF Network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over NBMA Topology Modes of Ope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FC 2328-compliant modes ar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nbroadcast (NBM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multi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itional modes from Cisco ar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multipoint nonbroad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electing the OSPF Network Type for NBMA Networ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4720" y="1944720"/>
            <a:ext cx="773424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network [{broadcast | non-broadcast | point-to-multipoint [non-broadcast] | point-to-point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960" y="2752560"/>
            <a:ext cx="7734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OSPF network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8600" y="1577880"/>
            <a:ext cx="261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1800" y="4235400"/>
            <a:ext cx="5892840" cy="806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4267080"/>
            <a:ext cx="570240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interface serial 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encapsulation frame-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ip ospf network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9480" y="3738600"/>
            <a:ext cx="33469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Broadcas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87760" y="2587680"/>
            <a:ext cx="4256280" cy="2517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onbroadcast Mode (NBMA Mod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eated as a broadc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by OSPF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cts like a LA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serial ports are part of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same IP sub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ame Relay, X.25,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M networks default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nbroadcast m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s must b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ically configu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uplicates LSA upd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lies with RFC 232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the neighbor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1560" y="3153960"/>
            <a:ext cx="7940880" cy="1692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to statically define neighbor relationships in an NBMA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36052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priority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poll-interval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cos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database-filter a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720" y="1949400"/>
            <a:ext cx="364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4920" y="1805040"/>
            <a:ext cx="6194160" cy="2511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eighbor Command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720" y="4626000"/>
            <a:ext cx="753120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4657680"/>
            <a:ext cx="70866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ospf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92.168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1.2 priority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1.3 priority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72.16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4920" y="1805040"/>
            <a:ext cx="6194160" cy="2511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4579920"/>
            <a:ext cx="8382240" cy="160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68840"/>
            <a:ext cx="86104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D   Pri   State           Dead Time   Address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3   0   FULL/DROTHER    00:01:57    192.168.1.3  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2   0   FULL/DROTHER    00:01:33    192.168.1.2  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1.1    1   FULL/BDR        00:00:34    172.16.1.1   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how ip ospf neighbor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4920" y="1424160"/>
            <a:ext cx="6194160" cy="2511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Multipoint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1560" y="3979440"/>
            <a:ext cx="7940880" cy="235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point-to-multipoint mode allows for NBMA network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point-to-multipoint mode fixes partial-mesh and star topolog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DR is required and only a single subnet is 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30-second hello is 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mode is RFC 2328-compli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59364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Multipoint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839960"/>
            <a:ext cx="7518600" cy="22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7760" y="1871640"/>
            <a:ext cx="717552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address 192.168.1.1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ncapsulation frame-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ospf network point-to-multi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og-adjacency-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16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92.168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5480" y="4773600"/>
            <a:ext cx="7543800" cy="123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65160" y="4805280"/>
            <a:ext cx="725184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address 192.168.1.3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ncapsulation frame-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ospf network point-to-multi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ospf priority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6760" y="1473120"/>
            <a:ext cx="1129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1960" y="4381560"/>
            <a:ext cx="1129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Multipoint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13200" y="2311560"/>
            <a:ext cx="3505320" cy="19044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45000" y="2971800"/>
            <a:ext cx="914400" cy="13968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598760"/>
            <a:ext cx="8204400" cy="449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4600" y="1630440"/>
            <a:ext cx="816588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sh ip ospf int s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rial0/0/0 is up, line protocol i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net Address 192.168.1.1/24,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rocess ID 100, Router ID 192.168.1.1, Network Type POINT_TO_MULTIPOINT, Cost: 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mit Delay is 1 sec, State POINT_TO_MULTI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imer intervals configured, Hello 30, Dead 120, Wait 120, Retransmi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ob-resync timeout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 due in 00:00: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Link-local Signaling (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dex 2/2, flood queue leng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xt 0x0(0)/0x0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flood scan length is 1, maximum i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flood scan time is 0 msec, maximum is 4 m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Count is 2, Adjacent neighbor count i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jacent with neighbor 192.168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jacent with neighbor 192.168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ress hello for 0 neighb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Multipoint Nonbroadca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574640"/>
            <a:ext cx="82296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extension to RFC-compliant point-to-multipoin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st statically define neighbors, like nonbroadcas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ke point-to-multipoint mode, DR and BDR not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in special cases where neighbors cannot be automatically dis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Network Ty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three types of networks defined by OSPF a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: A network that joins a single pair of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: A multiaccess broadcast network, such as Ether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nbroadcast multiaccess (also called NBMA): A network that interconnects more than two routers but that has no broadcast capability. Frame Relay, ATM, and X.25 are examples of NBMA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ve modes of OSPF operation are available for NBMA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Sub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0480" y="2646000"/>
            <a:ext cx="7940880" cy="294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physical serial port becomes multiple logical por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subinterface requires an IP sub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520" y="194472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binterfa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{multipoint | point-to-poin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6320" y="1576440"/>
            <a:ext cx="2204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Point Sub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90480" y="2646000"/>
            <a:ext cx="7940880" cy="294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PVC and SVC gets its own subinter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point-to-point mode is the default on point-to-point Frame Relay sub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DR/BD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 not need to configure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1520" y="1944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binterfa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oint-to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6320" y="1576440"/>
            <a:ext cx="2204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9880" y="1722600"/>
            <a:ext cx="7164360" cy="2936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Point Subinterface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1560" y="4780080"/>
            <a:ext cx="7940880" cy="14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VCs are treated like point-to-point lin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subinterface requires a sub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point Sub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1560" y="2354400"/>
            <a:ext cx="7940880" cy="3813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ple PVCs and SVCs are on a single subinter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nonbroadcast mode is the defau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 and BDR are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s need to be staticall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3360" y="17733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binterfa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multi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405080"/>
            <a:ext cx="2204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73280" y="1411200"/>
            <a:ext cx="6783120" cy="28544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point Subinterface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6000" y="4551120"/>
            <a:ext cx="7940520" cy="1577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lvl="1" marL="325800" indent="-21708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ngle interface serial 0/0/0 has been logically separated into two subinterfaces: one point-to-point (S0/0/0.1) and one point-to-multipoint (S0/0/0.2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21708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ach subinterface requires a sub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21708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SPF defaults to point-to-point mode on point-to-point subinterfa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21708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SPF defaults to nonbroadcast mode on point-to-multipoint subinterfa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19040" y="1670040"/>
          <a:ext cx="8305920" cy="4133880"/>
        </p:xfrm>
        <a:graphic>
          <a:graphicData uri="http://schemas.openxmlformats.org/drawingml/2006/table">
            <a:tbl>
              <a:tblPr/>
              <a:tblGrid>
                <a:gridCol w="1428840"/>
                <a:gridCol w="1670040"/>
                <a:gridCol w="1816200"/>
                <a:gridCol w="850680"/>
                <a:gridCol w="1727280"/>
                <a:gridCol w="812880"/>
              </a:tblGrid>
              <a:tr h="47844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SPF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BMA Preferred Top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ubnet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ello Ti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jac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FC or 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68868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oad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ull or partial 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matic, DR/BDR el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5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nbroadcast (NBM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ull or partial 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nual configuration, DR/BDR el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F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int-to-multi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ial-mesh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matic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DR/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F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int-to-multipoint nonbroad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ial-mesh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nual configuration, no/DR/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int-to-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ial-mesh or star, using sub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fferent for Each Sub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matic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DR/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over NBMA Topology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320" y="1384200"/>
            <a:ext cx="8978760" cy="494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reation of Adjacencies for Point-to-Point Mod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1469880"/>
            <a:ext cx="914400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debug ip ospf 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Interface Serial0/0/0.1 going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Build router LSA for area 0, router ID 192.168.1.1, seq 0x80000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92.168.1.2 on Serial0/0/0.1 seq 0xCF0 opt 0x52 flag 0x7 len 32  mtu 1500 state 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2 Way Communication to 192.168.1.2 on Serial0/0/0.1, state 2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92.168.1.2 on Serial0/0/0.1 seq 0xF4D opt 0x52 flag 0x7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NBR Negotiation Done. We are the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92.168.1.2 on Serial0/0/0.1 seq 0xCF0 opt 0x52 flag 0x2 len 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92.168.1.2 on Serial0/0/0.1 seq 0xCF1 opt 0x52 flag 0x3 len 132  mtu 1500 state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92.168.1.2 on Serial0/0/0.1 seq 0xCF1 opt 0x52 flag 0x0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Database request to 192.168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t LS REQ packet to 192.168.1.2, length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92.168.1.2 on Serial0/0/0.1 seq 0xCF2 opt 0x52 flag 0x1 len 32  mtu 1500 state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Exchange Done with 192.168.1.2 on Serial0/0/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92.168.1.2 on Serial0/0/0.1 seq 0xCF2 opt 0x52 flag 0x0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ynchronized with 192.168.1.2 on Serial0/0/0.1, state F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%OSPF-5-ADJCHG: Process 100, Nbr 192.168.1.2 on Serial0/0/0.1 from LOADING to FULL, Loading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Build router LSA for area 0, router ID 192.168.1.1, seq 0x80000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reation of Adjacencies for Broadcast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000" y="1495440"/>
            <a:ext cx="8553240" cy="469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5680" y="1647720"/>
            <a:ext cx="84582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debug ip ospf 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Interface FastEthernet0/0 going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Build router LSA for area 0, router ID 192.168.1.1,seq 0x80000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2 Way Communication to 172.16.1.1 on FastEthernet0/0, state 2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end of Wait on 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Neighbor change Event on 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DR/BDR election on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Elect BDR 172.16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Elect DR 192.168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R: 192.168.1.1 (Id)   BDR: 172.16.1.1 (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72.16.1.1 on FastEthernet0/0 seq 0x14B 7 opt 0x52 flag 0x7 len 32  mtu 1500 state EX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First DBD and we are not SLAVE-if)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72.16.1.1 on FastEthernet0/0 seq 0xDCE opt 0x52 flag 0x7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etransmitting DBD to 172.16.1.1 on FastEthernet0/0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72.16.1.1 on FastEthernet0/0 seq 0xD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t 0x52 flag 0x2 len 152  mtu 1500 state EX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defines three types of networks: point-to-point, broadcast, and NB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point-to-point links, adjacency is dynamic, uses multicast addresses, and has no DR or B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broadcast links, adjacency is dynamic and includes election of a DR and BDR. All updates are sent to the DR, which forwards the updates to all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outer with the highest OSPF priority is select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. The router with the second-highest priority value is the B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y default on NBMA links, adjacency requires manual definition of neighbors for the DR and BDR because OSPF will consider the network similar to broadcast med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SPF mode of operation on Frame Relay depends on the underlying Frame Relay network. OSPF mode options include nonbroadcast, broadcast, point-to-multipoint, point-to-multipoint nonbroadcast, and point-to-poi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nonbroadcast mode, a DR and BDR are elected, and neighbors must be staticall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point-to-multipoint mode, no DR and BDR are needed and neighbors are automatically discovered. In point-to-multipoint nonbroadcast mode, no DR and BDR are needed, but neighbors must be staticall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physical interface can be split into multiple logical interfaces called subinterfaces. Each subinterface requires an IP sub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ing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 ip ospf ad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enables you to see OSPF packet exchanges and the status of neighbor adjacenc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183280" cy="555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Point Lin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1560" y="2722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 a serial interface running either PPP or HDLC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y also be a point-to-point subinterface running Frame Relay or AT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DR or BDR election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autodetects this interface typ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packets are sent using multicast 224.0.0.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60840" y="1474920"/>
            <a:ext cx="3622320" cy="215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access Broadcast Net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3713040"/>
            <a:ext cx="7940520" cy="27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enerally these are, LAN technologies like Ethernet and Token R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 and BDR selection are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neighbor routers form full adjacencies with the DR and BDR on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ets to the DR and the BDR use 224.0.0.6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ets from DR to all other routers use 224.0.0.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9560" y="1447920"/>
            <a:ext cx="3584880" cy="2695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lecting the DR and BD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8600" y="4208400"/>
            <a:ext cx="7940520" cy="2238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ello packets are exchanged via IP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outer with the highest OSPF priority is  select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. The router with the second-highest priority value is the B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OSPF router ID as the tiebreak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 election is nonpreempt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etting Priority for DR Elec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4160" y="3166920"/>
            <a:ext cx="7940520" cy="3292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nterface configuration command assigns the OSPF priority to an inter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fferent interfaces on a router may be assigned different val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efault priority is 1.  The range is from 0 to 25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 means the router cannot be the DR or B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router that is not the DR or BDR is DRO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3360" y="23223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priority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440" y="1905120"/>
            <a:ext cx="29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70200" y="1844640"/>
            <a:ext cx="540216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BMA Top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6760" y="3687840"/>
            <a:ext cx="7940520" cy="216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single interface interconnects multiple s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BMA topologies support multiple routers, but without broadcasting capabil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R Election in NBMA Top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considers NBMA to be like other broadcast med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 and BDR need to have fully meshed connectivity with all other routers, but NBMA networks are not always fully mesh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 and BDR need a list of neighb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neighbors are not automatically discovered by the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Frame Relay Topolog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77880" y="1433520"/>
            <a:ext cx="57978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3:43Z</dcterms:modified>
  <cp:revision>243</cp:revision>
  <dc:subject>Module 04 Lesson 02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