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227640" y="8596440"/>
            <a:ext cx="447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240" y="8774280"/>
            <a:ext cx="260964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50040" bIns="50040" anchor="t">
            <a:spAutoFit/>
          </a:bodyPr>
          <a:p>
            <a:pPr>
              <a:tabLst>
                <a:tab algn="l" pos="0"/>
                <a:tab algn="l" pos="2379600"/>
                <a:tab algn="l" pos="481644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79600"/>
                <a:tab algn="l" pos="481644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BSCI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8788320"/>
            <a:ext cx="662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Num" idx="1"/>
          </p:nvPr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lang="zh-CN" sz="8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CBB72C2D-6E7C-47C1-93C5-83084D0C46B8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Img"/>
          </p:nvPr>
        </p:nvSpPr>
        <p:spPr>
          <a:xfrm>
            <a:off x="865080" y="244440"/>
            <a:ext cx="5315040" cy="39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body"/>
          </p:nvPr>
        </p:nvSpPr>
        <p:spPr>
          <a:xfrm>
            <a:off x="403200" y="4371840"/>
            <a:ext cx="6099120" cy="4246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7AB8373D-F4AE-4426-8AC3-08E800EF40D2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2CBD8FFE-3AFB-44EE-896D-602164EF13F0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3B240DD7-D10E-4396-B76F-F08F81F4C322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FB73F2B5-F688-48B9-8CCA-0D8FA70D2076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0ABAFC79-4608-4AE1-91DB-D8BEE8FFF2E4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162280DE-FDED-4477-9ED8-7C8C2AFC7362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56040" y="-1440"/>
            <a:ext cx="30322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-3240" y="-1440"/>
            <a:ext cx="30290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CC08B6EC-A9E9-4816-8D1E-8488791AD86D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56040" y="-1440"/>
            <a:ext cx="30322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-3240" y="-1440"/>
            <a:ext cx="30290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A326A619-5B39-4A11-B119-0107567663CB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2A12457C-7EE4-46B2-A1E2-3B35ED64947D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C50D3CD8-071B-4D2A-BC61-4368223C16C0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E88E182F-F3E9-4373-BB28-81D20BCEE0E6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286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8756640" y="-9720"/>
            <a:ext cx="387360" cy="3776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061480" y="6377040"/>
            <a:ext cx="1082520" cy="480960"/>
          </a:xfrm>
          <a:prstGeom prst="rect">
            <a:avLst/>
          </a:prstGeom>
          <a:ln w="0">
            <a:noFill/>
          </a:ln>
        </p:spPr>
      </p:pic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2454120"/>
            <a:ext cx="9144000" cy="44038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669" r="0" b="64133"/>
          <a:stretch/>
        </p:blipFill>
        <p:spPr>
          <a:xfrm>
            <a:off x="0" y="0"/>
            <a:ext cx="9140760" cy="2536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onfiguring OSP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55560" y="3606840"/>
            <a:ext cx="7802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Link-State Advertisem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495520" y="1371600"/>
            <a:ext cx="4152960" cy="3060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LSA Type 1: Router LS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55200" y="4495680"/>
            <a:ext cx="7828200" cy="1981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ne router LSA (type 1) for every router in an are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ncludes list of directly attached lin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ach link identified by IP prefix assigned to link and link typ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dentified by the router ID of the originating rou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loods within its area only; does not cross AB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700280" y="1362240"/>
            <a:ext cx="5743440" cy="30603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LSA Type 2: Network LS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5560" y="4495680"/>
            <a:ext cx="7940880" cy="1905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One network (type 2) LSA for each transit broadcast or NBMA network in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n are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ncludes list of attached routers on the transit lin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ncludes subnet mask of lin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vertised by the DR of the broadcast networ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Floods within its area only; does not cross AB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312920" y="1501920"/>
            <a:ext cx="6518160" cy="28177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LSA Type 3: Summary LS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4406400"/>
            <a:ext cx="7940880" cy="2057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8000"/>
          </a:bodyPr>
          <a:p>
            <a:pPr lvl="1" marL="335880" indent="-223920">
              <a:lnSpc>
                <a:spcPct val="85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ype 3 LSAs are used to flood network information to areas outside the originating area (interarea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71760" indent="-223920">
              <a:lnSpc>
                <a:spcPct val="85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bes network number and mask of link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5880" indent="-223920">
              <a:lnSpc>
                <a:spcPct val="85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vertised by the ABR of originating are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5880" indent="-223920">
              <a:lnSpc>
                <a:spcPct val="85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egenerated by subsequent ABRs to flood throughout the autonomous system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5880" indent="-223920">
              <a:lnSpc>
                <a:spcPct val="85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By default, routes are not summarized, and type 3 LSA is advertised for every subne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84320" y="1514520"/>
            <a:ext cx="8773920" cy="27925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LSA Type 4: Summary LS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120" y="4352400"/>
            <a:ext cx="8001000" cy="2133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4520" indent="-230040">
              <a:lnSpc>
                <a:spcPct val="95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ummary (type 4) LSAs are used to advertise an ASBR to all other areas in the autonomous system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5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y are generated by the ABR of the originating are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5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y are regenerated by all subsequent ABRs to flood throughout the autonomous system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5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ype 4 LSAs contain the router ID of the ASB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81200" y="1521000"/>
            <a:ext cx="7530840" cy="27748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LSA Type 5: External LS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4495320"/>
            <a:ext cx="8534160" cy="2057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4520" indent="-230040">
              <a:lnSpc>
                <a:spcPct val="75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•"/>
              <a:tabLst>
                <a:tab algn="l" pos="34452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External (type 5) LSAs are used to advertise networks from other autonomous system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75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•"/>
              <a:tabLst>
                <a:tab algn="l" pos="34452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ype 5 LSAs are advertised and owned by the originating ASB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75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•"/>
              <a:tabLst>
                <a:tab algn="l" pos="34452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ype 5 LSAs flood throughout the entire autonomous system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75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•"/>
              <a:tabLst>
                <a:tab algn="l" pos="34452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 advertising router ID (ASBR) is unchanged throughout the autonomous system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75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•"/>
              <a:tabLst>
                <a:tab algn="l" pos="34452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ype 4 LSA is needed to find the ASB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75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•"/>
              <a:tabLst>
                <a:tab algn="l" pos="34452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By default, routes are not summarize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Interpreting the OSPF Databas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95360" y="1955880"/>
            <a:ext cx="8165880" cy="3860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5040" y="1987560"/>
            <a:ext cx="8051760" cy="32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rA#show ip ospf 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SPF Router with ID (10.0.0.11) (Process ID 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r Link States (Area 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Link ID         ADV Router      Age         Seq#       Checksum Link 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10.0.0.11       10.0.0.11       548         0x80000002 0x00401A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10.0.0.12       10.0.0.12       549         0x80000004 0x003A1B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100.100.100.100 100.100.100.100 548         0x800002D7 0x00EEA9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et Link States (Area 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Link ID         ADV Router      Age         Seq#       Check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172.31.1.3      100.100.100.100 549         0x80000001 0x004EC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ummary Net Link States (Area 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Link ID         ADV Router      Age         Seq#       Check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10.1.0.0        10.0.0.11       654         0x80000001 0x00FB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10.1.0.0        10.0.0.12       601         0x80000001 0x00F5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&lt;output omitte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Interpreting the Routing Table: Types of Rout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28560" y="1562040"/>
          <a:ext cx="7836120" cy="4419720"/>
        </p:xfrm>
        <a:graphic>
          <a:graphicData uri="http://schemas.openxmlformats.org/drawingml/2006/table">
            <a:tbl>
              <a:tblPr/>
              <a:tblGrid>
                <a:gridCol w="736560"/>
                <a:gridCol w="2971800"/>
                <a:gridCol w="4127760"/>
              </a:tblGrid>
              <a:tr h="469800">
                <a:tc gridSpan="2"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37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Router Designato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0677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37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Descrip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06774"/>
                    </a:solidFill>
                  </a:tcPr>
                </a:tc>
              </a:tr>
              <a:tr h="1168560"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37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37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SPF intra-area </a:t>
                      </a:r>
                      <a:br>
                        <a:rPr sz="1700"/>
                      </a:b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router LSA) and</a:t>
                      </a:r>
                      <a:br>
                        <a:rPr sz="1700"/>
                      </a:b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etwork LS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lvl="1" marL="343080" indent="-228600">
                        <a:lnSpc>
                          <a:spcPct val="90000"/>
                        </a:lnSpc>
                        <a:spcBef>
                          <a:spcPts val="737"/>
                        </a:spcBef>
                        <a:buClr>
                          <a:srgbClr val="306774"/>
                        </a:buClr>
                        <a:buFont typeface="Arial"/>
                        <a:buChar char="•"/>
                        <a:tabLst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etworks from within the area of the route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343080" indent="-228600">
                        <a:lnSpc>
                          <a:spcPct val="90000"/>
                        </a:lnSpc>
                        <a:spcBef>
                          <a:spcPts val="737"/>
                        </a:spcBef>
                        <a:buClr>
                          <a:srgbClr val="306774"/>
                        </a:buClr>
                        <a:buFont typeface="Arial"/>
                        <a:buChar char="•"/>
                        <a:tabLst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dvertised by way of router LSAs and network LS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3560"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37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 I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37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SPF interarea</a:t>
                      </a:r>
                      <a:br>
                        <a:rPr sz="1700"/>
                      </a:b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summary LSA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lvl="1" marL="343080" indent="-228600">
                        <a:lnSpc>
                          <a:spcPct val="90000"/>
                        </a:lnSpc>
                        <a:spcBef>
                          <a:spcPts val="737"/>
                        </a:spcBef>
                        <a:buClr>
                          <a:srgbClr val="306774"/>
                        </a:buClr>
                        <a:buFont typeface="Arial"/>
                        <a:buChar char="•"/>
                        <a:tabLst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etworks from outside the area of the router, but within the OSPF autonomous syste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343080" indent="-228600">
                        <a:lnSpc>
                          <a:spcPct val="90000"/>
                        </a:lnSpc>
                        <a:spcBef>
                          <a:spcPts val="737"/>
                        </a:spcBef>
                        <a:buClr>
                          <a:srgbClr val="306774"/>
                        </a:buClr>
                        <a:buFont typeface="Arial"/>
                        <a:buChar char="•"/>
                        <a:tabLst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dvertised by way of </a:t>
                      </a:r>
                      <a:br>
                        <a:rPr sz="1700"/>
                      </a:b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ummary LSA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37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 E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37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ype 1 external rout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2440" rIns="82440" tIns="36720" bIns="36720" anchor="ctr">
                      <a:noAutofit/>
                    </a:bodyPr>
                    <a:p>
                      <a:pPr lvl="1" marL="343080" indent="-228600">
                        <a:lnSpc>
                          <a:spcPct val="90000"/>
                        </a:lnSpc>
                        <a:spcBef>
                          <a:spcPts val="737"/>
                        </a:spcBef>
                        <a:buClr>
                          <a:srgbClr val="306774"/>
                        </a:buClr>
                        <a:buFont typeface="Arial"/>
                        <a:buChar char="•"/>
                        <a:tabLst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etworks outside of the autonomous system of the route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343080" indent="-228600">
                        <a:lnSpc>
                          <a:spcPct val="90000"/>
                        </a:lnSpc>
                        <a:spcBef>
                          <a:spcPts val="737"/>
                        </a:spcBef>
                        <a:buClr>
                          <a:srgbClr val="306774"/>
                        </a:buClr>
                        <a:buFont typeface="Arial"/>
                        <a:buChar char="•"/>
                        <a:tabLst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dvertised by way of external LSA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37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 E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37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ype 2 external rout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812880" y="1771560"/>
            <a:ext cx="7969320" cy="401796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alculating Costs for E1 and E2 Rout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09480" y="1879560"/>
            <a:ext cx="7925040" cy="4076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The show ip route Comman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905120"/>
            <a:ext cx="7446960" cy="39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RouterB</a:t>
            </a:r>
            <a:r>
              <a:rPr b="1" lang="en-US" sz="1200" spc="-1" strike="noStrike">
                <a:solidFill>
                  <a:srgbClr val="b92b38"/>
                </a:solidFill>
                <a:latin typeface="Courier New"/>
                <a:ea typeface="宋体"/>
              </a:rPr>
              <a:t>&gt;show ip ro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Codes: C - connected, S - static, R - RIP, M - mobile, B - BG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D - EIGRP, EX - EIGRP external, O - OSPF, IA - OSPF inter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N1 - OSPF NSSA external type 1, N2 - OSPF NSSA external typ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E1 - OSPF external type 1, E2 - OSPF external typ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i - IS-IS, su - IS-IS summary, L1 - IS-IS level-1, L2 - IS-IS level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ia - IS-IS inter area, * - candidate default, U - per-user static ro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o - ODR, P - periodic downloaded static ro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Gateway of last resort is not 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172.31.0.0/24 is subnetted, 2 sub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O IA    172.31.2.0 [110/1563] via 10.1.1.1, 00:12:35, FastEthernet0/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O IA    172.31.1.0 [110/782] via 10.1.1.1, 00:12:35, FastEthernet0/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10.0.0.0/8 is variably subnetted, 6 subnets, 2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C       10.200.200.13/32 is directly connected, Loopback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C       10.1.3.0/24 is directly connected, Serial0/0/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O       10.1.2.0/24 [110/782] via 10.1.3.4, 00:12:35, Serial0/0/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C       10.1.1.0/24 is directly connected, FastEthernet0/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O       10.1.0.0/24 [110/782] via 10.1.1.1, 00:12:37, FastEthernet0/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O E2    10.254.0.0/24 [110/50] via 10.1.1.1, 00:12:37, FastEthernet0/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OSPF LSDB Overload Protec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160" y="2895480"/>
            <a:ext cx="7940520" cy="1633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xcessive LSAs generated by other routers can drain local router resourc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is feature can limit the processing of non-self-generated LSAs for a defined OSPF proces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0720" y="1773360"/>
            <a:ext cx="8159760" cy="915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max-lsa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maximum-numb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[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threshold-percentag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] [warning-only] [ignore-tim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minute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] [ignore-count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count-numb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] [reset-time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minute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3360" y="1405080"/>
            <a:ext cx="31644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Router(config-router)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471680" y="2063880"/>
            <a:ext cx="6194520" cy="37494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Issues with Maintaining a Large OSPF Network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882720" y="3213000"/>
            <a:ext cx="793116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ip ospf cost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interface-co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55560" y="3786120"/>
            <a:ext cx="7925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verrides the default cost calculation. Values from 1 to 65535 can be defin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hanging the Cost Metric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07920" y="4919760"/>
            <a:ext cx="793116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auto-cost reference-bandwidth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ref-b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55560" y="5410080"/>
            <a:ext cx="815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ts the reference bandwidth to values other than 100 Mbps (legal values range from 1 to 4,294,967 in megabits per secon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55560" y="1433520"/>
            <a:ext cx="8305920" cy="14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ijkstra’s algorithm determines the best path by adding all link costs along a pa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cost, or metric, is an indication of the overhead to send packets over an interface. Default = (100 Mbps) / (bandwidth in Mbp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01800" y="2847960"/>
            <a:ext cx="2882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A(config-if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27000" y="4495680"/>
            <a:ext cx="4025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A(config-router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Summa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84000"/>
          </a:bodyPr>
          <a:p>
            <a:pPr lvl="1" marL="288000" indent="-19188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re are four OSPF router types: internal routers, backbone routers, ABRs, and ASBR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8000" indent="-19188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 virtual link allows discontiguous area 0’ to be connected, or a disconnected area to be connected to area 0, via a transit area. Virtual links should be used only for temporary connections or backup after a failure, not as a primary backbone design feature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8000" indent="-19188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re are 11 OSPF LSA types. The first five are the most commonly used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76000" indent="-19188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ype 1 rou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76000" indent="-19188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ype 2 net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76000" indent="-19188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ype 3 and 4 summa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76000" indent="-19188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ype 5 extern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Summary (Cont.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 the IP routing table, OSPF routes are classified as either intra-area, interarea, or external; external routes are subdivided into E1 and E2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SPF LSDB overload protection limits the processing of non-self-generated LSA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OSPF cost defaults to (100 Mbps) / (bandwidth in megabits per second). The cost can be changed on a per-interface basis, and the reference bandwidth (100 Mbps) can also be changed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476440" y="2076480"/>
            <a:ext cx="4381560" cy="25909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744560" y="1558800"/>
            <a:ext cx="5653080" cy="35974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The Solution: OSPF Hierarchical Rout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5334120"/>
            <a:ext cx="7940520" cy="110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nsists of areas and autonomous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inimizes routing update traff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251000" y="1959120"/>
            <a:ext cx="6640560" cy="37987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Types of OSPF Router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62120" y="4648320"/>
            <a:ext cx="7848360" cy="15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lvl="1" marL="34308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Virtual links are used to connect a discontiguous area to area 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 logical connection is built between router A and router 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Virtual links are recommended for backup or temporary conne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Defining Virtual Links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157400" y="1730520"/>
            <a:ext cx="6524640" cy="265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09480" y="4311720"/>
            <a:ext cx="8242560" cy="20127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onfiguring Virtual Link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3360" y="1944720"/>
            <a:ext cx="8235720" cy="1617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area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area-id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virtual-link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router-id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[authentication [message-digest | null]] [hello-interval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second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]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[retransmit-interval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second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]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[transmit-delay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second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]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[dead-interval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second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] [[authentication-key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ke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] | [message-digest-key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key-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md5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ke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]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49360" y="1600200"/>
            <a:ext cx="318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-router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2760" y="3594240"/>
            <a:ext cx="835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reates a virtual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03720" y="4559400"/>
            <a:ext cx="1333440" cy="190440"/>
          </a:xfrm>
          <a:prstGeom prst="rect">
            <a:avLst/>
          </a:prstGeom>
          <a:solidFill>
            <a:srgbClr val="f9de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6880" y="4356000"/>
            <a:ext cx="8077320" cy="16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emoterouter#sh ip osp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ing Process "ospf 1000" with ID 10.2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upports only single TOS(TOS0) ro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upports opaque L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upports Link-local Signaling (LL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upports area transit cap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It is an area border rou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&lt;output omitted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01560" y="1720800"/>
            <a:ext cx="7786800" cy="4329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OSPF Virtual Link Configuration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33520" y="2095560"/>
            <a:ext cx="8165880" cy="3187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3200" y="2127240"/>
            <a:ext cx="8051760" cy="30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rA#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sh ip ospf virtual-lin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Virtual Link OSPF_VL0 to router 10.2.2.2 is 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un as demand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DoNotAge LSA allow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Transit area 1, via interface Serial0/0/1, Cost of using 7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Transmit Delay is 1 sec, State POINT_TO_POI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Timer intervals configured, Hello 10, Dead 40, Wait 40, Retransmit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Hello due in 00:00: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Adjacency State FULL (Hello suppress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Index 1/2, retransmission queue length 0, number of retransmission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First 0x0(0)/0x0(0) Next 0x0(0)/0x0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Last retransmission scan length is 1, maximum is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Last retransmission scan time is 0 msec, maximum is 0 ms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rA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The show ip ospf virtual-links Comman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1739880" y="1460520"/>
          <a:ext cx="5753160" cy="4905360"/>
        </p:xfrm>
        <a:graphic>
          <a:graphicData uri="http://schemas.openxmlformats.org/drawingml/2006/table">
            <a:tbl>
              <a:tblPr/>
              <a:tblGrid>
                <a:gridCol w="1739880"/>
                <a:gridCol w="4013280"/>
              </a:tblGrid>
              <a:tr h="546120"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LSA 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06774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06774"/>
                    </a:solidFill>
                  </a:tcPr>
                </a:tc>
              </a:tr>
              <a:tr h="533520"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outer LS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6120"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etwork LS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8720"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 or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ummary LS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6120"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utonomous system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xternal LS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3160"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ulticast OSPF L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6120"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efined for not-so-stubby are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760"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xternal attributes LSA for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order Gateway Protocol (BGP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8720"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, 10, 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paque LS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LSA Typ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Global Knowledge</dc:creator>
  <dc:description/>
  <dc:language>en-US</dc:language>
  <cp:lastModifiedBy>whccie</cp:lastModifiedBy>
  <cp:lastPrinted>1999-01-27T00:54:54Z</cp:lastPrinted>
  <dcterms:modified xsi:type="dcterms:W3CDTF">2007-01-17T07:44:43Z</dcterms:modified>
  <cp:revision>192</cp:revision>
  <dc:subject>Module 04 Lesson 05</dc:subject>
  <dc:title>BSCI v2.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