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892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08720" y="8796240"/>
            <a:ext cx="460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80" y="8978760"/>
            <a:ext cx="26859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51480" bIns="51480" anchor="t">
            <a:spAutoFit/>
          </a:bodyPr>
          <a:p>
            <a:pPr>
              <a:tabLst>
                <a:tab algn="l" pos="0"/>
                <a:tab algn="l" pos="2441520"/>
                <a:tab algn="l" pos="494028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41520"/>
                <a:tab algn="l" pos="494028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320" y="8993160"/>
            <a:ext cx="681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86D2A8-6150-431E-BFCA-28FF32353A5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906480" y="250920"/>
            <a:ext cx="5437080" cy="407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14360" y="4473360"/>
            <a:ext cx="6276960" cy="4344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480" bIns="514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7C3ECFD-2F78-4A03-926C-941B2EB5E498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70520" y="-1440"/>
            <a:ext cx="3120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3240" y="-1440"/>
            <a:ext cx="3116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8B51C2B-608F-4963-86C6-06CAACEAFDCE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D00DF9D-9FA2-43D9-A727-CA2B43DE170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SPF Route Summariz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520" y="225000"/>
            <a:ext cx="81421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lvl="1" marL="339480" indent="-22608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 summarization improves CPU utilization, reduces LSA flooding, and reduces routing table siz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22608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 ran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is used to summarize 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ABR.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mmary-add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is used to summarize at the ASB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22608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 routes can be used in OSPF to prevent the need for a specific route to all destination networks. The benefits include a much smaller routing table and LSDB, with complete reachabil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22608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uses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-information origin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to inject a default rou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38200" y="1407960"/>
            <a:ext cx="6234120" cy="3988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enefits of Route Summariz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5562360"/>
            <a:ext cx="8224920" cy="106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4520" indent="-23004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inimizes number of routing table ent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calizes impact of a topology ch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duces LSA type 3 and 5 flooding and saves CPU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39840" y="1623960"/>
            <a:ext cx="6664320" cy="3610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Route Summariz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200" y="5300280"/>
            <a:ext cx="6891480" cy="106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rarea summary link carries mas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e or more entries can represent several subne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28560" y="2496960"/>
            <a:ext cx="815976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ea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ea-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range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ddress mas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[advertise | not-advertise] [cos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4560" y="2152800"/>
            <a:ext cx="430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1680" y="33368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solidates interarea routes on an A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Route Summariz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8560" y="413856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ummary-address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 mask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not-advertise] [tag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a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4560" y="379404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720" y="45975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solidates external routes, usually on an AS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03360" y="1741320"/>
            <a:ext cx="6146640" cy="39085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Summarization Configuration Example at AB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4400" y="2013120"/>
            <a:ext cx="7853400" cy="2908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Summarization Configuration Example at ASB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30320" y="2058840"/>
            <a:ext cx="6983280" cy="15098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Default Routes in OSPF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4343040"/>
            <a:ext cx="8066160" cy="1676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default route is injected into OSPF as an external LS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ype 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 route distribution is not on by default; use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-information origin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under the OSPF routing proc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35040" y="308916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rmally, this command advertises a 0.0.0.0 default into the OSPF network only if the default route already exists in the routing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way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word allows the 0.0.0.0 default to be advertised even when the default route does not exist in the routing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2720" y="1995480"/>
            <a:ext cx="7854840" cy="85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default-information originate [always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metric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etric-val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metric-typ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ype-val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route-map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map-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8720" y="1650960"/>
            <a:ext cx="430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 Default Rou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43040" y="1712880"/>
            <a:ext cx="7657920" cy="44323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Default Route Configuration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7:45:46Z</dcterms:modified>
  <cp:revision>142</cp:revision>
  <dc:subject>Module 04 Lesson 06</dc:subject>
  <dc:title>BSCI v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