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8720" y="8796240"/>
            <a:ext cx="460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8978760"/>
            <a:ext cx="26859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480" bIns="51480" anchor="t">
            <a:spAutoFit/>
          </a:bodyPr>
          <a:p>
            <a:pPr>
              <a:tabLst>
                <a:tab algn="l" pos="0"/>
                <a:tab algn="l" pos="2441520"/>
                <a:tab algn="l" pos="494028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41520"/>
                <a:tab algn="l" pos="494028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320" y="8993160"/>
            <a:ext cx="681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9C4B64-4C23-4CC3-8D1D-C5353D0DF90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906480" y="250920"/>
            <a:ext cx="5437080" cy="40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14360" y="4473360"/>
            <a:ext cx="6276960" cy="4344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480" bIns="514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A7BB6D-87CE-42F8-9445-1C2DE6F7C03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CA2E76-9AA2-438B-B3C1-CFBCCE8BC55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205614-4A27-43ED-A8E5-EF379EAC454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D6EC27-0199-42B8-A02D-8FE5AF114E5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B43BFB-1E7E-4A5D-8C4A-0CB5D3F12A7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20D8C1-1867-40B0-A172-D6C990A1E31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4E071C-9B86-4A2B-8F79-8EEB02F357D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13B868-3B30-4B7B-A0C2-4590F5AF6E4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70520" y="-1440"/>
            <a:ext cx="312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240" y="-1440"/>
            <a:ext cx="3116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E76234-1217-4B7F-8167-2928C414657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2356E5-A2B0-4E30-A41A-5B634B35086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CD6C0D-4317-49AA-B6AD-43B324E5FB7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7C6693-3BB5-42E3-8ECC-47D9626DF09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71650C-AB64-45BF-9B73-9ED9F705C38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Special Area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Table in a Standard Ar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89120"/>
            <a:ext cx="8216640" cy="430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00" y="1720800"/>
            <a:ext cx="805176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sh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0.0/32 is subnetted, 4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22.4 [110/782] via 10.1.1.1, 00:02:44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1 [110/1] via 10.1.1.1, 00:02:44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2 [110/782] via 10.1.3.4, 00:02:52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[110/782] via 10.1.1.1, 00:02:52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4 [110/782] via 10.1.1.1, 00:02:44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7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1.0.0/24 [110/782] via 10.1.1.1, 00:03:22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03:23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03:23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E2    10.254.0.0/24 [110/50] via 10.1.1.1, 00:02:3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Table in a Stub Ar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689120"/>
            <a:ext cx="8216640" cy="430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1360" y="5372280"/>
            <a:ext cx="6705360" cy="17748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00" y="2387520"/>
            <a:ext cx="57657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00" y="1720800"/>
            <a:ext cx="805176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sh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10.1.1.1 to network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0.0/32 is subnetted, 4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22.4 [110/782] via 10.1.1.1, 00:01:4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1 [110/1] via 10.1.1.1, 00:01:4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2 [110/782] via 10.1.3.4, 00:01:49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[110/782] via 10.1.1.1, 00:01:4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4 [110/782] via 10.1.1.1, 00:01:4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6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1.0.0/24 [110/782] via 10.1.1.1, 00:01:50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01:50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01:50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*IA 0.0.0.0/0 [110/2] via 10.1.1.1, 00:01:51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5040" y="3022560"/>
            <a:ext cx="78105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Table in a Stub Area with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689120"/>
            <a:ext cx="8216640" cy="430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022560"/>
            <a:ext cx="7645320" cy="2286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724280"/>
            <a:ext cx="66927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00" y="2387520"/>
            <a:ext cx="57657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00" y="1720800"/>
            <a:ext cx="805176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sh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10.1.1.1 to network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0.0/16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22.4/32 [110/782] via 10.1.1.1, 00:13:08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0/24 [110/1] via 10.1.1.1, 00:02:3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6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1.0.0/24 [110/782] via 10.1.1.1, 00:13:08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13:09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13:0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*IA 0.0.0.0/0 [110/2] via 10.1.1.1, 00:13:0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Table in a Totally Stubby Ar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689120"/>
            <a:ext cx="8216640" cy="430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102200"/>
            <a:ext cx="6718320" cy="19044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00" y="2387520"/>
            <a:ext cx="57657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00" y="1720800"/>
            <a:ext cx="8051760" cy="28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sh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10.1.1.1 to network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6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1.0.0/24 [110/782] via 10.1.1.1, 00:16:53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16:53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16:53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*IA 0.0.0.0/0 [110/2] via 10.1.1.1, 00:00:48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1665360"/>
            <a:ext cx="6326280" cy="2373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12880" y="4267080"/>
            <a:ext cx="37591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SA breaks stub area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BR (R1) is allowed in N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al LSA type 7 defined, sent by AS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4267080"/>
            <a:ext cx="4127760" cy="22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BR (R2) converts LSA type 7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LSA typ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BR sends default route into NSSA instead of external routes from other ASB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SA is an RFC addend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ot-So-Stubby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79320" y="1828800"/>
            <a:ext cx="8159760" cy="100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nss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no-redistribution] [default-information-originate [metric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 [metric-typ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type-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] [no-summary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276720"/>
            <a:ext cx="822960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is command instead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st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define the area as N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no-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keyword creates an NSSA totally stubby area; this is a Cisco proprietary fe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SSA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8240" y="1481040"/>
            <a:ext cx="3301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000" y="1898640"/>
            <a:ext cx="8308800" cy="3724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NSSA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74760" y="1908000"/>
            <a:ext cx="8572320" cy="3676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SSA Totally Stubby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5080" y="5759280"/>
            <a:ext cx="874224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SSA totally stubby area is a Cisco proprietary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44400" y="1704960"/>
            <a:ext cx="7823160" cy="67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400" y="2163600"/>
            <a:ext cx="8229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which areas are normal, stub, or N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ow Commands for Stub and NS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400" y="2935440"/>
            <a:ext cx="789624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400" y="3378240"/>
            <a:ext cx="8229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details of LS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400" y="4189320"/>
            <a:ext cx="789624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 database nssa-external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400" y="4640400"/>
            <a:ext cx="8229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specific details of each LSA type 7 update 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400" y="5410080"/>
            <a:ext cx="789624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how 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400" y="5869080"/>
            <a:ext cx="8229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all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120" y="138744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5120" y="263052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120" y="388476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5120" y="510552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1560" y="1643040"/>
            <a:ext cx="8237520" cy="4376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several OSPF area types: standard, backbone, stub, totally stubby, and N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t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define an area as stubb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t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-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keyword on the ABR only to define an area as totally stubb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stub areas, external routes are not visible in the routing table, but are accessible via the intra-area default route. For totally stubby areas, interarea and external routes are not visible in the routing table, but are accessible via the intra-area default rou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nss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define an area as N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osp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ospf datab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rou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to verify all types of stub areas.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ospf database nssa-extern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 to display details of type 7 LS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578640" cy="4852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ypes of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tub and Totally Stub Area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 area can be stub or totally stub i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is a single ABR, or if there is more than one ABR, suboptimal routing paths to other areas or external autonomous systems are accep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 the area are configured as stub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is no ASBR in the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rea is not area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virtual links go through the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2240" y="1363680"/>
            <a:ext cx="6743520" cy="5108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2209680"/>
            <a:ext cx="259092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ternal LS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 st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rou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advertis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o stub are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y the A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50 mus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 configur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Stub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tub Area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720" y="218124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stub [no-summar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6668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turns on stub area networ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 a stub area must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75248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720" y="407196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default-co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665600"/>
            <a:ext cx="8229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defines the cost of a default route sent into the stub are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efault cost is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640" y="3733920"/>
            <a:ext cx="3301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480" y="1498680"/>
            <a:ext cx="8856360" cy="4809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Stub Area Configuration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97040" y="1449360"/>
            <a:ext cx="6396120" cy="4845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1523880"/>
            <a:ext cx="251460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ternal LS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 st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mary LS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 st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ing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reduced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minim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mu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 configur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BR must b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d 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tally stub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Cisc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rietary fe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Totally Stubby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79320" y="182880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stub no-summar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438280"/>
            <a:ext cx="82296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ddition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-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n the ABR creates a totally stubby area and prevents all summary LSAs from entering the stub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otally Stubby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240" y="1481040"/>
            <a:ext cx="3301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1400" y="1676520"/>
            <a:ext cx="6719760" cy="4468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otally Stubby Configuration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6:57Z</dcterms:modified>
  <cp:revision>189</cp:revision>
  <dc:subject>Module 04 Lesson07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