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AA3DE63-EDB6-42E7-9E58-F17D3E73251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8E3428D-032F-4151-97C8-3D776AE00AF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3EC70D-58AD-4577-96E2-9C60D8A7A60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2007F74-ED77-45D3-BBAB-768EAEFC638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3C7B9FA-7641-42C1-8893-3EF7092EA73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A732FEA-4D97-43C6-8A3D-BD581CEA1C6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FD82738-E5D0-427D-960F-FE3097049D3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Authent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644480"/>
            <a:ext cx="8597880" cy="414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7652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1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0.0.0/8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       10.2.2.2/32 [110/782] via 192.168.1.102, 00:00:37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0.1.1.0/24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7 is subnetted,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0.2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28/28/32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160" y="2514600"/>
            <a:ext cx="8597880" cy="365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0120" y="2590920"/>
            <a:ext cx="853452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PF adjacency even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50: OSPF: 2 Way Communication to 10.2.2.2 on Serial0/0/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50: OSPF: Send DBD to 10.2.2.2 on Serial0/0/1 seq 0x9B6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Rcv DBD from 10.2.2.2 on Serial0/0/1 seq 0x23ED opt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Send DBD to 10.2.2.2 on Serial0/0/1 seq 0x23ED opt 0x52 flag 0x2 len 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4    192.168.1.102   Serial0/0/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" y="16002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bug ip ospf 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960" y="20574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adjacency-relat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Simple Password Authentication Probl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828800"/>
            <a:ext cx="84330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8286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1:31.242: OSPF: Rcv pkt from 192.168.1.102, Serial0/0/1 : Mismatch Authentication type. Input packet specified type 0, we use typ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0:43.046: OSPF: Rcv pkt from 192.168.1.101, Serial0/0/1 : Mismatch Authentication type. Input packet specified type 1, we use typ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ple authentication on R1, no authentication on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572000"/>
            <a:ext cx="84330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648320"/>
            <a:ext cx="8286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4:01.238: OSPF: Rcv pkt from 192.168.1.102, Serial0/0/1 : Mismatch Authentication Key - Clea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3:13.050: OSPF: Rcv pkt from 192.168.1.101, Serial0/0/1 : Mismatch Authentication Key - Clea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640" y="3733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ple authentication on R1 and R2, but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689120"/>
            <a:ext cx="8597880" cy="436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765440"/>
            <a:ext cx="8286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01720"/>
            <a:ext cx="861984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adjacency even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2 Way Communication to 10.2.2.2 on Serial0/0/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Send DBD to 10.2.2.2 on Serial0/0/1 seq 0xB37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Rcv DBD from 10.2.2.2 on Serial0/0/1 seq 0x32F opt 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Send DBD to 10.2.2.2 on Serial0/0/1 seq 0x32F opt 0x52 flag 0x2 len 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2.2.2          0   FULL/  -        00:00:35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 Probl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760" y="2755800"/>
            <a:ext cx="85978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3080" y="2832120"/>
            <a:ext cx="828648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1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26.502: OSPF: Rcv pkt from 192.168.1.102, Serial0/0/1 : Mismatch Authentication Key - No message digest key 2 on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2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28.226: OSPF: Send with youngest 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28.286: OSPF: Rcv pkt from 192.168.1.101, Serial0/0/1 : Mismatch Authentication Key - No message digest key 1 on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38.226: OSPF: Send with youngest 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760" y="1955880"/>
            <a:ext cx="8088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on both R1 and R2, but R1 has key 1 and R2 has key 2, both with the same pass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authentication is configured, the router generates and checks every OSPF packet and authenticates the source of each routing update packet that it receives. OSPF supports two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: The router sends an OSPF packet and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: The router generates a message digest, or hash, of the key, key ID, and message. The message digest is sent with the packet; the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simple password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-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message-digest-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d5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 message-dig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neighb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o verify and troubleshoot both types of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MD5 authentication,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output indicates the key ID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Authentication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supports 2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every OSPF packet.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“key” (password); each participating neighbor must have same ke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0560" y="19432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-ke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560" y="16383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040" y="240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s a password to be used with neighbor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960" y="29718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960" y="3276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 [message-digest | nu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440" y="3733920"/>
            <a:ext cx="70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interface (since Cisco IOS softwa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46404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9449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uthentication [message-dige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800" y="54021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area (was in Cisco IOS software before 12.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8120" y="1601640"/>
            <a:ext cx="7072200" cy="4389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Simple Password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16800" y="1511280"/>
            <a:ext cx="17143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pback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2.2.2</a:t>
            </a:r>
            <a:br>
              <a:rPr sz="1800"/>
            </a:br>
            <a:br>
              <a:rPr sz="3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6840" y="2178000"/>
            <a:ext cx="554976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209680"/>
            <a:ext cx="541008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-key plainp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0.2.2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 0.0.0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04280" cy="414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4600" y="1708200"/>
            <a:ext cx="84582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2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0.0.0/8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       10.2.2.2/32 [110/782] via 192.168.1.102, 00:01:17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0.1.1.0/24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7 is subnetted,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0.2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28/29/32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6280" y="195588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message-digest-ke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d5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9800" y="16509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6280" y="2413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s a key ID and key to be used with neighbor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6120" y="30099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960" y="33148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 [message-digest | nu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440" y="3772080"/>
            <a:ext cx="70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interface (since Cisco IOS softwa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46782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49831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uthentication [message-dige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54403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area (was in Cisco IOS software befo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7360" y="1495440"/>
            <a:ext cx="7854840" cy="4514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MD5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2178000"/>
            <a:ext cx="555012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01720" y="2209680"/>
            <a:ext cx="54104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-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message-digest-key 1 md5 secretp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0.2.2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 0.0.0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8:03Z</dcterms:modified>
  <cp:revision>195</cp:revision>
  <dc:subject>Module 04 Lesson 08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