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448-E211-45D3-9A0E-17EA2A2F87CE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F4C-652D-4079-AD18-51869752A43A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B79-9862-477D-B740-77724972D042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is an open-standard link-state routing protocol, offering quick convergence and the ability to scale large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OSPF packet types: hello, DBD, LSU, LSR, and LS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of OSPF is a two-step proc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er OSPF configuration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osp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scribe which interfaces will run OSPF in which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defines three types of networks: point-to-point, broadcast, and NBMA. On NBMA networks, OSPF mode options include nonbroadcast, broadcast, point-to-multipoint, point-to-multipoint nonbroadcast, and point-to-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SAs are the building blocks of the LSDB. There are 11 types of OSPF LS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summarization reduces OSPF LSA flooding and routing table size, which reduces memory and CPU utilization on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b area techniques improve OSPF performance by reducing the LSA floo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supports two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7:50:38Z</dcterms:modified>
  <cp:revision>46</cp:revision>
  <dc:subject/>
  <dc:title>ILT-MA-ModuleSumm-v3.1.ppt</dc:title>
</cp:coreProperties>
</file>