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B3B49FB-8DF9-4C1B-A15C-7F36DCDDBD1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87435F8-6108-4987-831D-CEB1FC2574F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096AFF9-CCB2-4F52-B0ED-2B28F740BF5D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F383B27-BBEA-4FCF-A94F-D4639E9CFCA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E5FF81D-0EC1-4F98-83DC-CF10B8AA92D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7808D5D-DBC8-4053-AD94-26BCB628F7D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 IS-IS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ntroducing IS-IS and Integrated IS-IS Rou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our OSI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Routing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eve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38240" y="1384200"/>
            <a:ext cx="7067520" cy="49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imilarities Between IS-IS and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lvl="1" marL="33588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ed IS-IS and OSPF are both open standard link-state protocols with the following similar featur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nk-state representation, aging timers, and LSDB synchro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F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date, decision, and flooding process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LSM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calability of link-state protocols has been prove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used in ISP backbone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y both converge quickly after chan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6280" y="2030400"/>
            <a:ext cx="6389640" cy="1792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ntegrated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S vs.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OSPF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Area Desig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4352400"/>
            <a:ext cx="7800840" cy="180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SPF is based on a central backbone with all other areas attached to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OSPF the border is inside routers (ABR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h link belongs to one are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76280" y="1835280"/>
            <a:ext cx="6389640" cy="1987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ntegrated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S vs.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OSPF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Area Design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8640" y="4250880"/>
            <a:ext cx="7755120" cy="1476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IS-IS the area borders lie on li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h IS-IS router belongs to exactly one are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is more flexible when extending the backb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3440" y="1359000"/>
            <a:ext cx="5938920" cy="4402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vantages of Integrated IS-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17360" y="5689080"/>
            <a:ext cx="49561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pports CLNP and 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re extensible through TLV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vantages of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has more features, includ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s three area types: normal, stub, and NS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s to scaled metric (IS-IS always 1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is supported by many vendo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formation, examples, and experienced engineers are easier to fi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0000"/>
          </a:bodyPr>
          <a:p>
            <a:pPr lvl="1" marL="274320" indent="-18288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IS-IS is a popular routing protocol in the ISP industry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74320" indent="-18288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IS-IS is a stable, fast-converging IGP that is positioned to route IPv4, CLNS, or IPv6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74320" indent="-18288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All IS-IS interfaces have a default metric of 10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74320" indent="-18288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ES-IS (for CLNS routing only) provides discovery between host and routers using hello packets to form adjacencies. Hosts send ESHs, while routers send ISHs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74320" indent="-18288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OSI defines routing levels 0 through 3. Level 0 is between ES and IS. Levels 1 and 2 are between IS and IS to support intradomain routing. Level 3 supports interdomain routing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48640" indent="-18288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Level 1 is intra-area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48640" indent="-18288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Level 2 is interarea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74320" indent="-18288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IS-IS and OSPF are both open-standard link-state routing protocols that support VLSM, scalability, and quick convergence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es for IS-IS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arge IS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able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riginally deployed by ISPs because U.S. government mandated Internet support of OSI and 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S-IS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=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was originally designed as the IGP for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nectionless Network Service (CLNS), part of the OSI protocol sui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OSI protocol suite layer 3 protocol is the Connectionless Network Protocol (CLNP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uses CLNS addresses to identify routers and bui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LSD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S-IS Featu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2000"/>
          </a:bodyPr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nk-state routing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pports VL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s Dijkstra’s SPF algorithm; has fast converg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s hellos to establish adjacencies and LSPs to exchange link-state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fficient use of bandwidth, memory, and proc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pports two routing level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1: Builds common topology of system IDs in local area and routes within area using lowest cost path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2: Exchanges prefix inform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area addresses) between areas. Routes traffic to area using lowest-cost pat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48000" y="1347840"/>
            <a:ext cx="4221000" cy="2873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3960" y="4168800"/>
            <a:ext cx="800100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uters are identified as Level 1, Level 2, or Level 1-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1 routers use LSPs to build topology for local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2 routers use LSPs to build topology betwe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fferent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1-2 routers act as border routers between Level 1 and Level 2 routing dom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S-IS Link-State Ope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tegrated (or Dual) IS-IS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ed IS-IS is IS-IS for multiple protocol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IP, CLNS, or bo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s its own PDUs to transport IP routing information; updates not sent in IP pac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quires CLNS addresses, even if only routing for 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79480" y="1281240"/>
            <a:ext cx="5759640" cy="3112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30120" y="4203720"/>
            <a:ext cx="457200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 and CLNP address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ust be plan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se two-level hierarch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scalabi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mits LSP flo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vides opportunit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summ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49840" y="4203720"/>
            <a:ext cx="40384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mmariz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mits update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inimizes rout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mory and CPU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tegrated IS-IS Design Princip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ssues with Integrated IS-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080" y="3763800"/>
            <a:ext cx="7940520" cy="2136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narrow metrics are limited to 6-bit interface 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-bit path met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Cisco IOS Software Relase 12.0, wide metrics allow 24-bit interface and 32-bit path metri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isco IOS software has default metric of 10 on all interfa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30320" y="1943280"/>
            <a:ext cx="542628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nd System-to-Intermediate Syst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4214880"/>
            <a:ext cx="7940880" cy="2162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S-IS forms adjacencies between ESs and routers (IS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end-systems do not use ES-I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Ss transmit ESHs to announce their presence to I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s transmit ISHs to announce their presence to 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s transmit IIHs to other I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22400" y="1335240"/>
            <a:ext cx="5299200" cy="273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54:18Z</dcterms:modified>
  <cp:revision>208</cp:revision>
  <dc:subject>Module 05 Lesson 01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