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E0FB90B-F543-4623-85A2-B9551AED7A9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E5763BF-19FE-413E-BE72-01C77DF7396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B7BDC53-2D4D-4091-8EB2-EF8CB93783B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IS-IS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Integrated IS-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720" y="2590920"/>
            <a:ext cx="7518240" cy="295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imple Integrated IS-I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622600"/>
            <a:ext cx="669600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address 10.1.1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06774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ip router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Serial 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address 10.2.2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06774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ip router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router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net 49.0001.0000.0000.000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778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onfigured router acts as an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P-onl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vel 1-2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e IS-IS Router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720" y="23893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-type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1-2 | level-2-only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720" y="2044800"/>
            <a:ext cx="310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847960"/>
            <a:ext cx="8229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the IS-IS level globally on a router; the default i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1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hange IS-IS Interfac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23893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is circuit-type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1-2 | level-2-only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20448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847960"/>
            <a:ext cx="8229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the type of adjacency on an interface; the default is Level 1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hange IS-IS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4880" y="22147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is metric </a:t>
            </a:r>
            <a:r>
              <a:rPr b="1" i="1" lang="sl-SI" sz="1800" spc="-1" strike="noStrike">
                <a:solidFill>
                  <a:srgbClr val="000000"/>
                </a:solidFill>
                <a:latin typeface="Courier New"/>
              </a:rPr>
              <a:t>metr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delay-</a:t>
            </a:r>
            <a:r>
              <a:rPr b="1" i="1" lang="sl-SI" sz="1800" spc="-1" strike="noStrike">
                <a:solidFill>
                  <a:srgbClr val="000000"/>
                </a:solidFill>
                <a:latin typeface="Courier New"/>
              </a:rPr>
              <a:t>metric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xpense-metr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rror-metr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2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0880" y="187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921040"/>
            <a:ext cx="799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the metric for an interface; the default is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ric value is from 1 to 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86200"/>
            <a:ext cx="293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9040" y="42559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tric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efault-val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2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4702320"/>
            <a:ext cx="782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ternately, configures the metric globally for all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85880" y="1612800"/>
            <a:ext cx="7469280" cy="4621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uning IS-IS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36896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router type on R1 and R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interface                                levels on 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metric on S0/0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79320" y="4349880"/>
            <a:ext cx="7702560" cy="43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944720"/>
            <a:ext cx="7765920" cy="579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ummary-address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ress m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[level-1 | level-2 | level-1-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[tag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ag-numb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 [metric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280" y="1600200"/>
            <a:ext cx="348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9160" y="4425840"/>
            <a:ext cx="763272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3R1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ummary-address 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10.3.2.0 255.255.254.0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666880"/>
            <a:ext cx="751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s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is 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760" y="3957480"/>
            <a:ext cx="1192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863960"/>
            <a:ext cx="75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izes 10.3.2.0/23 into Level 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4720" y="2133720"/>
            <a:ext cx="7518240" cy="365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xample: Is Integrated IS-IS Run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165400"/>
            <a:ext cx="66960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r>
              <a:rPr b="1" lang="en-US" sz="1200" spc="-1" strike="noStrike">
                <a:solidFill>
                  <a:srgbClr val="cc0033"/>
                </a:solidFill>
                <a:latin typeface="Courier New"/>
                <a:ea typeface="宋体"/>
              </a:rPr>
              <a:t>show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tocol is "isi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valid after 0 seconds, hold down 0, flushed after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utgoing update filter list for all interfaces is no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update filter list for all interfaces is no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ing: 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Address Summar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aximum path: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ing for Netwo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opback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ing Information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Gateway         Distance      Last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0.10.10.10          115      00:0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0.30.30.30          115      00:00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istance: (default is 1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720" y="5857920"/>
            <a:ext cx="753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the parameters and current state of the active routing protoco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" y="129528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720" y="16002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ip protocols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74720" y="3098880"/>
            <a:ext cx="751824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xample: Are There Any IP Rout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270240"/>
            <a:ext cx="669600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ip route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24 is subnetted, 5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L2    10.30.30.0 [115/45] via 10.2.2.3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L1    10.10.10.0 [115/20] via 10.1.1.1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720" y="4584600"/>
            <a:ext cx="75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the current state of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720" y="24400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ip route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m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] |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protoc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process-i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720" y="21351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8640" y="182880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52388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0968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information about the CL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Troubleshooting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ommand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L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640" y="2967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oco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662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35268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s the protocol-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8640" y="4110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 interface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805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572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s the CLNS-specific information about each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640" y="5253120"/>
            <a:ext cx="815184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 neighbor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ype numb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 [detail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948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71500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both ES and IS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80880" y="1263600"/>
            <a:ext cx="8305920" cy="1421280"/>
            <a:chOff x="380880" y="1263600"/>
            <a:chExt cx="8305920" cy="1421280"/>
          </a:xfrm>
        </p:grpSpPr>
        <p:sp>
          <p:nvSpPr>
            <p:cNvPr id="169" name=""/>
            <p:cNvSpPr/>
            <p:nvPr/>
          </p:nvSpPr>
          <p:spPr>
            <a:xfrm>
              <a:off x="458640" y="1523880"/>
              <a:ext cx="8158320" cy="39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how isis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Courier New"/>
                </a:rPr>
                <a:t>area-tag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route</a:t>
              </a:r>
              <a:r>
                <a:rPr b="1" lang="en-US" sz="2000" spc="-1" strike="noStrike">
                  <a:solidFill>
                    <a:srgbClr val="306774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880" y="1263600"/>
              <a:ext cx="4848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8640" y="1981080"/>
              <a:ext cx="82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plays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-IS Level 1 routing tab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l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(system IDs)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requires that CLNS routing be enab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Troubleshooting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ommand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br>
              <a:rPr sz="3000"/>
            </a:b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LNS an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0880" y="2793960"/>
            <a:ext cx="8305920" cy="1161000"/>
            <a:chOff x="380880" y="2793960"/>
            <a:chExt cx="8305920" cy="1161000"/>
          </a:xfrm>
        </p:grpSpPr>
        <p:sp>
          <p:nvSpPr>
            <p:cNvPr id="174" name=""/>
            <p:cNvSpPr/>
            <p:nvPr/>
          </p:nvSpPr>
          <p:spPr>
            <a:xfrm>
              <a:off x="458640" y="309888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how clns</a:t>
              </a:r>
              <a:r>
                <a:rPr b="1" lang="sl-SI" sz="1800" spc="-1" strike="noStrike">
                  <a:solidFill>
                    <a:srgbClr val="000000"/>
                  </a:solidFill>
                  <a:latin typeface="Courier New"/>
                </a:rPr>
                <a:t> rout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nsap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]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279396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8640" y="355608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plays IS-IS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routing tabl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(are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880" y="4064040"/>
            <a:ext cx="8305920" cy="1160640"/>
            <a:chOff x="380880" y="4064040"/>
            <a:chExt cx="8305920" cy="1160640"/>
          </a:xfrm>
        </p:grpSpPr>
        <p:sp>
          <p:nvSpPr>
            <p:cNvPr id="178" name=""/>
            <p:cNvSpPr/>
            <p:nvPr/>
          </p:nvSpPr>
          <p:spPr>
            <a:xfrm>
              <a:off x="458640" y="436860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how </a:t>
              </a:r>
              <a:r>
                <a:rPr b="1" lang="sl-SI" sz="1800" spc="-1" strike="noStrike">
                  <a:solidFill>
                    <a:srgbClr val="000000"/>
                  </a:solidFill>
                  <a:latin typeface="Courier New"/>
                </a:rPr>
                <a:t>isis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rea-ta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] </a:t>
              </a:r>
              <a:r>
                <a:rPr b="1" lang="sl-SI" sz="1800" spc="-1" strike="noStrike">
                  <a:solidFill>
                    <a:srgbClr val="000000"/>
                  </a:solidFill>
                  <a:latin typeface="Courier New"/>
                </a:rPr>
                <a:t>datab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406404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8640" y="482580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plays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IS-IS LS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0880" y="5334120"/>
            <a:ext cx="8305920" cy="1160640"/>
            <a:chOff x="380880" y="5334120"/>
            <a:chExt cx="8305920" cy="1160640"/>
          </a:xfrm>
        </p:grpSpPr>
        <p:sp>
          <p:nvSpPr>
            <p:cNvPr id="182" name=""/>
            <p:cNvSpPr/>
            <p:nvPr/>
          </p:nvSpPr>
          <p:spPr>
            <a:xfrm>
              <a:off x="452520" y="5715000"/>
              <a:ext cx="815796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how isis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rea-ta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]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topology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8640" y="609588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plays IS-IS least-cost paths to desti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533412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ntegrated IS-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equires NET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CLNS parameters (NET) and area planning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ill required eve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environ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ven wh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egrated IS-IS is used for IP routing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outers still establish CL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jacenc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use CLNS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3360" y="2592360"/>
            <a:ext cx="8412120" cy="3272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95280" y="1663560"/>
            <a:ext cx="66294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ing in a Two-Level Are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Intra-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rea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ter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e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74720" y="1689120"/>
            <a:ext cx="751824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vel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1 and Level 2 Topology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886040"/>
            <a:ext cx="73152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show isis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paths to level-1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      Metric     Next-Hop  Interface  SN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               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                   10         R2        Fa0/0      0016.4650.c4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sis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paths to level-1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      Metric     Next-Hop  Interface  SN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                   10         R1        Fa0/0      0016.4610.fd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               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paths to level-2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      Metric     Next-Hop  Interface  SN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                  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               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3                   35         R3        Se0/0/1    *HDLC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74720" y="1981080"/>
            <a:ext cx="7569360" cy="365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imple Troubleshoot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hat About CLNS Protocol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013120"/>
            <a:ext cx="669600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clns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Router: &lt;Null Ta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ystem Id: 0000.0000.0002.00  IS-Type: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Manual area address(e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49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ing for area address(e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49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s supported by IS-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oopback0 -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1 -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astEthernet0/0 -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ic (on by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for L2 CLNS routes: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RR level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enerate narrow metrics: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pt narrow metrics:  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enerate wide metrics:  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pt wide metrics:    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1397160"/>
            <a:ext cx="8382240" cy="502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djacencies Established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428840"/>
            <a:ext cx="815328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clns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Interface   SNPA             State  Holdtime  Type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3             Se0/0/1     *HDLC*           Up     28        L2  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             Fa0/0       0016.4610.fdb0   Up     23        L1  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show clns interface s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1 is up, line protocol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hecksums enabled, MTU 1500, Encapsulation HD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RPDUs enabled, min. interval 10 ms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LNS fast switching 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LNS SSE switching dis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C compatibility mode OFF for this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 ESH/ISH in 45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ing Protocol: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Circuit Type: level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nterface number 0x1, local circuit ID 0x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System-ID: 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Level-2 Metric: 35, Priority: 64, Circuit ID: R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Level-2 IPv6 Metric: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umber of active level-2 adjacencie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xt IS-IS Hello in 5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f state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6000"/>
          </a:bodyPr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routing for IP uses CLNS and therefore requires CLNS addresses, that is, NET addr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requires planning the addresses, enabling the router, defining the router NET, and enabling the appropriate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can be optimized by adjusting adjacency levels and changing the default metric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summarization can be configured with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y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protoc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verify the IS-IS configuration and IP functiona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io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are used to troubleshoot CLNS IS-IS structures and Integrated IS-I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Area Rout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uilding an OSI Forwarding Database (Routing Tabl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When databases are synchronized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jkstra’s algorithm (SPF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n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DB to calcul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F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hortest path to the destination is the lowest total sum of metri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parate route calculations are made for Level 1 and Level 2 routes in Level 1-2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st paths are plac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SI forwarding database (CLNS routing tabl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uilding an IP Routing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rtial route calculation (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un to calculate IP reach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IP and ES are represented as leaf ob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y 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 participate in SPF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st paths are plac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 routing table following IP preferential ru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hey appear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 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 IP rou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ntegrated IS-IS Configuration Ste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e areas, prepare addressing plan (NETs) for routers, and determine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able IS-IS on the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 the 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able Integrated IS-IS on the appropriate i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                     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 not forget interfaces to stub IP network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terface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although there are no CLN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ighbors ther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ep 1: Define Area and Address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determined by NET 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gn to support two-level hierarch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r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: Plan to support summar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NS: Prefix denotes area. System ID must be uniq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ep 2: Enable IS-IS on the Rou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720" y="23734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r isi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202896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876400"/>
            <a:ext cx="82296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ables the IS-IS routing 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rea-t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me for a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routing of CLNS packet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s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, us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ns rou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ep 3: Configure the 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720" y="23893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t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network-entity-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720" y="2044800"/>
            <a:ext cx="295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847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an IS-IS NET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addres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the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ep 4: Enable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720" y="23385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p router isi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720" y="199404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908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an interface in an IS-IS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57:22Z</dcterms:modified>
  <cp:revision>229</cp:revision>
  <dc:subject>Module 05 Lesson 04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