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69CA-6B9B-4B87-9C03-5CDC0BD13894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C34-3777-419D-AED1-FB1AA2FB11F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is a proven and extensible IP routing protocol that converges quickly and supports VLS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like IP addresses, CLNS addresses apply to entire nodes and not to interfaces. IS-IS runs directly on the data-link layer and does not use IP or CLNS as a network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ven when IS-IS is installed to support IP exclusively, network devices must also be configured with NET addresses. Default settings for IS-IS may result in the inefficient use of router and network resources and suboptimal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7:58:53Z</dcterms:modified>
  <cp:revision>46</cp:revision>
  <dc:subject/>
  <dc:title>ILT-MA-ModuleSumm-v3.1.ppt</dc:title>
</cp:coreProperties>
</file>