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D7C4-B3E3-4242-8D9E-9A916E921E80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7FB0-121B-450A-BB5D-5AC3F8CC7243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41280" y="561960"/>
            <a:ext cx="4388040" cy="3290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39040" cy="434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swer to Example: WAN Adjacen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8:13:53Z</dcterms:modified>
  <cp:revision>50</cp:revision>
  <dc:subject/>
  <dc:title>ILT-MA-ModuleSumm-v3.1.ppt</dc:title>
</cp:coreProperties>
</file>