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2.1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83C9308-A227-4FA1-816C-917ECD906A3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E298C91-8BA7-43BE-978C-11530BD78E7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2465E89-BB3D-4B76-A826-ACA206553CB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AA7D9B4-0BF5-4933-AA52-D8FD9A4E83B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486721A-5BA8-4ADB-AA7B-6A779C4F59F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anipulating Routing Upd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perating a Network Using Multiple IP Routing Protocol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33400" y="1379520"/>
            <a:ext cx="5677200" cy="5011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Multiple IP Routing Protoc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Multiple Routing Protoc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rim during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pplication-specific protoc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e size does not always fit al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litical bounda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oups that do not work well with oth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smatch between de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ltivendor interoper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st-based rou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19160" y="1862280"/>
            <a:ext cx="7104240" cy="40734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edistributing Route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Seed Metric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default-metr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establish the seed metric for the route or specify the metric when redistribu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ce a compatible metric is established, the metric will increase in increments just like any other rou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1200" y="2011320"/>
            <a:ext cx="8709120" cy="3697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edistribution with Seed Metr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ing multiple IP routing protocols can be a result of migrating to a more advanced routing protocol, a  multivendor environment, political boundaries, or device mismat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way that redistributed routes will appear in the routing table will vary depending on the protocols being redistributed and how they are redistribu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seed metric is the metric associated with the redistributed route and should make the route appear worse than any internal rou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8:33:46Z</dcterms:modified>
  <cp:revision>156</cp:revision>
  <dc:subject>Module 06 Lesson 01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