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1E0D395-9A0A-411A-BC7D-3D835248451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04DEA9E-E674-4407-B6EE-A00CBAC859C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5D75E9D-7077-43EB-AD01-CCEFA1A3626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C5A774-DED6-427E-9A58-40A722631F6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72BA138-3625-4557-8118-A9436EBF261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276E32E-8556-4C35-A70F-6967C92E87B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53D735-B619-4763-837E-2D3404C52CD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B58A572-9F74-4A3C-99DC-CFF50354589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7A68D14-AB7F-4885-95E2-83289963984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1B8645D-45D1-4DFE-93C4-E5BE894B0F2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85E3F42-CC56-4198-8A72-D61AA6C57B0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Verifying Route Redistrib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93760" y="2141640"/>
            <a:ext cx="6756480" cy="328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268360"/>
            <a:ext cx="7998120" cy="298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efore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66920" y="2365200"/>
            <a:ext cx="6408720" cy="2938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efore Redistribu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93920"/>
            <a:ext cx="7313760" cy="3247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Configuring Redistribution at Router 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41360" y="2201760"/>
            <a:ext cx="6408720" cy="3487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outing Tables After Route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70080" y="1722600"/>
            <a:ext cx="6481800" cy="4268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outing Tables After Summarizing Routes and Redistribution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7318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veral steps must be followed for accurate IP route redistribution to occ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IP routing protocols can be redistributed into R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IP routing protocols are redistributed into OSPF, additional commands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IP routing protocols are redistributed into EIGRP, a seed metric is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routing protocols are usually redistributed into IS-IS as Level 2 ro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several techniques for verifying IP route re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4840" y="2057400"/>
            <a:ext cx="701064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on Supports All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0400" y="2127240"/>
            <a:ext cx="687060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redistribute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       Border Gateway Protocol (BG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nnected 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     Enhanced Interior Gateway Routing Protocol (EIG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is       ISO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o-igrp   IGRP for OSI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bile     Mobile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dr        On Demand stub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      Open Shortest Path First (OSP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ip        Routing Information Protocol (R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ic     Static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33720"/>
            <a:ext cx="7010640" cy="25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R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2240" y="2133720"/>
            <a:ext cx="66294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?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&lt;1-65535&gt;  Process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1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     Redistribution of OSPF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795920"/>
            <a:ext cx="3467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infi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0480" y="2030400"/>
            <a:ext cx="7705800" cy="3755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R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600200"/>
            <a:ext cx="8382240" cy="297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84000" y="4648320"/>
            <a:ext cx="6568920" cy="15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type is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s do not redistribute by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153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ospf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1-65535&gt;  Autonomous system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100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type    OSPF/IS-IS exterior metric type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bnets        Consider subnets for redistribution into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ag            Set tag for routes redistributed into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846440"/>
            <a:ext cx="7851960" cy="3832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2057400"/>
            <a:ext cx="70102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057400"/>
            <a:ext cx="662940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eigrp 10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1-65535&gt;  Process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1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       Redistribution of OSPF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55800" y="4923000"/>
            <a:ext cx="3632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infi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04920" y="1295280"/>
            <a:ext cx="6719760" cy="327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4640400"/>
            <a:ext cx="548640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in kilobytes = 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ay in tens of microseconds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 = 255 (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ad = 1 (min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133720"/>
            <a:ext cx="8076960" cy="25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133720"/>
            <a:ext cx="77724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is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100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1      IS-IS level-1 route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1-2    IS-IS level-1 and level-2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2      IS-IS level-2 route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Metric for redistributed rout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metric-type  OSPF/IS-IS exterior metric type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put O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280" y="4821120"/>
            <a:ext cx="830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are introduced as Level 2 with a metric of 0 by de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4:09Z</dcterms:modified>
  <cp:revision>185</cp:revision>
  <dc:subject>Module 06 Lesson 0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