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&lt;Title of Course (ACRO) v2.1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01DE389-3F14-4471-B582-F6461492DE5E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9FDAA87-CEC4-41B9-BE05-478C9DC3B58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CF186B3-36EC-4A56-9498-2C092220704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97C1CF1-F7C6-4960-B6A7-F06AEF79F7A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902DFA1-83AC-4DB6-B4E4-6A35A47C108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5A66AC7-2030-44AE-9091-01EFF475E49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314F549-6C15-486A-9180-2342C2064AC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AB8C2AE-AD99-408D-8F0E-047EF30F7F8C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B82CB8B-4680-4A07-B63F-DD1B6A4C6F47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31EE652-97DD-481C-8291-C80E63735E9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B77B195-1F20-444A-8583-BCBB48A54AA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454120"/>
            <a:ext cx="9144000" cy="411192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Manipulating Routing Upd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trolling Routing Update Traff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92320" y="2943360"/>
            <a:ext cx="3159360" cy="1884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720" y="1473120"/>
            <a:ext cx="822960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The match statement may contain multiple referenc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Multiple match criteria in the same line use a logical O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At least one reference must permit the route for it to be a candidate for redistribu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720" y="4902120"/>
            <a:ext cx="822960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Each vertical match uses a logical AN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All match statements must permit the route for it to remain a candidate for redistribu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Route map permit or deny determines if the candidate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will be redistribut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Map Operation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62040" y="5411880"/>
            <a:ext cx="79930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e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otoco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ocess 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route-map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ap-ta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4280" y="5106960"/>
            <a:ext cx="4848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2040" y="5869080"/>
            <a:ext cx="822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ows for detailed control of routes being redistributed into a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-map Command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2040" y="1689120"/>
            <a:ext cx="7993080" cy="435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ap-ta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[permit | deny]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quence-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4280" y="138420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2040" y="2146320"/>
            <a:ext cx="822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ines the route map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2040" y="2984400"/>
            <a:ext cx="79930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atch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ondition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4280" y="267984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-map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2040" y="3441600"/>
            <a:ext cx="822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ines the conditions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2040" y="4233960"/>
            <a:ext cx="79930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t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ction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4280" y="392904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-map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040" y="4691160"/>
            <a:ext cx="822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ines the action to be taken on a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74720" y="3124080"/>
            <a:ext cx="7518240" cy="2394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match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1640" y="1600200"/>
            <a:ext cx="5241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route-map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156120"/>
            <a:ext cx="716292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atch {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ption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ptions 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ip address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-access-lis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ip route-source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-access-list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ip next-hop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-access-lis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interface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yp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umber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metric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tric-val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route-type [external | internal | level-1 | level-2 |local]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057400"/>
            <a:ext cx="822960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t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ands specify criteria to be matc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associated route map statement permits or denies the matching ro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74720" y="2705040"/>
            <a:ext cx="751824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set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9040" y="1447920"/>
            <a:ext cx="364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-map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736720"/>
            <a:ext cx="748332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t {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ption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options 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metric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tric-value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tric-type [type-1 | type-2 | internal | external]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evel [level-1 | level-2 | level-1-2 |stub-area | backbone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ip next-hop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xt-hop-addres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835280"/>
            <a:ext cx="82296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s modify matching ro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ommand modifies parameters in redistributed ro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17520" y="3809880"/>
            <a:ext cx="3492360" cy="2667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Maps and Redistribution Command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0720" y="1371600"/>
            <a:ext cx="8274240" cy="91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)# router osp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router)# redistribute rip route-map redis-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841920"/>
            <a:ext cx="327672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)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redis-rip permit 10 match ip address 23  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t metric 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t metric-type type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redis-rip deny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atch ip address 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redis-rip permit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t metric 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t metric-type type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133720"/>
            <a:ext cx="82296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s matching either access list 23 or 29 are redistributed with an OSPF cost of 500, external typ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s permitted by access list 37 are not re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 other routes are redistributed with an OSPF cost metric of 5000, external typ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24360" y="3809880"/>
            <a:ext cx="502920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25880" y="3841920"/>
            <a:ext cx="50292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)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23 permit 10.1.0.0 0.0.255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29 permit 172.16.1.0 0.0.0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37 permit 10.0.0.0 0.255.255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2070000" y="1689120"/>
          <a:ext cx="4889520" cy="4444920"/>
        </p:xfrm>
        <a:graphic>
          <a:graphicData uri="http://schemas.openxmlformats.org/drawingml/2006/table">
            <a:tbl>
              <a:tblPr/>
              <a:tblGrid>
                <a:gridCol w="2444760"/>
                <a:gridCol w="2444760"/>
              </a:tblGrid>
              <a:tr h="34272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oute 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efault Dist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</a:tr>
              <a:tr h="34308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nected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tatic ro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IGRP summary ro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xternal BG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nal EIGR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GR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SP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S-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IPv1, RIPv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xternal EIGR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nal BG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dministrative Dist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90560" y="2233440"/>
            <a:ext cx="5762880" cy="31276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dministrative Distance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79320" y="2021040"/>
            <a:ext cx="8007480" cy="60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1998"/>
              </a:lnSpc>
              <a:spcBef>
                <a:spcPts val="788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 "/>
              <a:tabLst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distance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dministrative distan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ddress wildcard-mask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-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|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]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5320" y="1676520"/>
            <a:ext cx="430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2666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d for all protocols except EIGRP and BGP re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odifying Administrative Dist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9320" y="3697200"/>
            <a:ext cx="80074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distance eigrp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nternal-distance external-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5320" y="335268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79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d for EIG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90760" y="1293840"/>
            <a:ext cx="5994360" cy="5178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Redistribution Using Administrative Dist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7920" y="1666800"/>
            <a:ext cx="6095880" cy="213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657440"/>
            <a:ext cx="576576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osp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e rip metric 10000 metric-type 1 sub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72.31.0.0 0.0.255.255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vers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e ospf 1 metric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o auto-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195800"/>
            <a:ext cx="6095880" cy="215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9440" y="4200480"/>
            <a:ext cx="568944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osp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e rip metric 10000 metric-type 1 sub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72.31.3.2 0.0.0.0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vers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e ospf 1 metric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o auto-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07760" y="1230480"/>
            <a:ext cx="1821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Router P3R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33320" y="3782880"/>
            <a:ext cx="1821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Router P3R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Redistribution Using Administrative Distance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143480" cy="4406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the passive-interface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61920" y="1676520"/>
            <a:ext cx="7372440" cy="40179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Redistribution Using Administrative Distance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Redistribution Using Administrative Distance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360" y="1905120"/>
            <a:ext cx="4496040" cy="3962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360" y="1981080"/>
            <a:ext cx="4481640" cy="38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hostname P3R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router ospf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e rip metric 10000 metric-type 1 subn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72.31.0.0 0.0.255.255 area 0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distance 125 0.0.0.0 255.255.255.255 64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router ri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version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e ospf 1 metric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0.0.0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no auto-summ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3.1.0 0.0.0.2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3.3.0 0.0.0.2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3.2.0 0.0.0.2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200.200.3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200.200.3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200.200.3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200.200.3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1905120"/>
            <a:ext cx="4419360" cy="3962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981080"/>
            <a:ext cx="4419360" cy="38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hostname P3R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router ospf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e rip metric 10000 metric-type 1 subn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72.31.3.2 0.0.0.0 area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distance 125 0.0.0.0 255.255.255.255 6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router ri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version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e ospf 1 metric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0.0.0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no auto-summ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3.1.0 0.0.0.2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3.3.0 0.0.0.2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3.2.0 0.0.0.2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200.200.3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200.200.3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200.200.3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200.200.3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7440" y="1425600"/>
            <a:ext cx="6909120" cy="49212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Redistribution Using Administrative Distance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7400" y="15476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0000"/>
          </a:bodyPr>
          <a:p>
            <a:pPr lvl="1" marL="308520" indent="-2055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assive-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mmand allows control of routing upda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distribute list uses an ACL to control routing upda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distribute list may be applied to an interface or to redistribute rou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route map is a complex tool used for manipulating and filtering routes and uses match–set or if–then logi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route-map can be used to streamline the route redistribution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ministrative distance is a value used by routers to evaluate the route received from more than one routing protoco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ach IP routing protocol is assigned a value by Cisco, which can be changed with Cisco IOS software comman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uring route redistribution, administrative distance must be manipulated at times to maintain routing accurac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12920" y="1447920"/>
            <a:ext cx="6591240" cy="4749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trolling Routing Update Traff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79320" y="2325600"/>
            <a:ext cx="8159760" cy="91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distribute-lis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ccess–list-numb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|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–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|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ing–proc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ing-process parame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]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5320" y="1981080"/>
            <a:ext cx="430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distribute-li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9320" y="4319640"/>
            <a:ext cx="815976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distribute-li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ccess–list-numb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|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| [route-map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ap-ta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in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-type interface-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5320" y="397512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18148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964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Use an access list (or route map) to permit or deny rou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964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an be applied to transmitted, received, or redistributed routing upd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523880"/>
            <a:ext cx="5715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r outbound upd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517920"/>
            <a:ext cx="5715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r inbound upd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52560" y="5791320"/>
            <a:ext cx="7238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100000"/>
              </a:lnSpc>
              <a:spcBef>
                <a:spcPts val="1375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Hides network 10.0.0.0 using interface filt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Filtering Routing Updates with a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Distribute Li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55308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27320" y="1652760"/>
            <a:ext cx="6487920" cy="451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trolling Redistribution with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Distribute Lis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Map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5000"/>
          </a:bodyPr>
          <a:p>
            <a:pPr lvl="1" marL="9720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ute maps are similar to a scripting language for these rea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2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y work like a more sophisticated access l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9404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y offer top-down process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9404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ce there is a match, leave the route ma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2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nes are sequence-numbered for easier edi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9404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ertion of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9404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letion of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2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 maps are named rather than numbered for easi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ocument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2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tch criteria and set criteria can be used, similar to the “if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n” logic in a scripting langu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Map Applic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common uses of route maps are as follow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distribution route filtering: a more sophisticated alternative to distribute 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licy-based routing: the ability to determine routing policy based on criteria other than the destination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policy implementation: the primary tool for defining BGP routing polic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5480" y="3581280"/>
            <a:ext cx="7518600" cy="247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65160" y="3613320"/>
            <a:ext cx="6696000" cy="24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my_bgp permit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{ match statement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{ match statement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{ set statement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{ set statement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my_bgp deny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: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: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my_bgp permit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: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: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Map Ope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list of statements constitutes a route ma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list is processed top-down like an access l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first match found for a route is appli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sequence number is used for inserting or deleting specific route map state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8:40:23Z</dcterms:modified>
  <cp:revision>176</cp:revision>
  <dc:subject>Module 06 Lesson 03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