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8827-60AD-4624-9E96-48168DCBB9F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ing multiple IP routing protocols can be a result of migrating to a more advanced routing protocol, a multivendor environment, political boundaries, or device mismat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redistribution is possible between any two IP routing protoco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 is necessary to use filters and modify administrative distance during redistrib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Cisco IOS device can be configured as a DHCP server, relay agent, or cli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30:47Z</dcterms:created>
  <dc:creator> </dc:creator>
  <dc:description/>
  <dc:language>en-US</dc:language>
  <cp:lastModifiedBy>whccie</cp:lastModifiedBy>
  <dcterms:modified xsi:type="dcterms:W3CDTF">2007-01-17T08:45:23Z</dcterms:modified>
  <cp:revision>66</cp:revision>
  <dc:subject/>
  <dc:title>Layers in the Hierarchical Model</dc:title>
</cp:coreProperties>
</file>