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2C4E89A-619D-4F0F-9A18-ABEECCBB911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1600482-A10C-49A7-87A4-A33A6218BE7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3F4D465-7959-42EF-974A-4375FC81B60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8610736-3075-4BE4-A67A-AF6E0A5B820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250929C-7AC5-4505-9895-72A68841169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782B83A-FFA8-4D80-92E2-42FD6BBB59D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B8F869D-4B06-4BF9-8206-C1098ABB21B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79D6655-5593-4331-9F8F-F641F370C2A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8C766D4-E7FB-409A-B6FB-33B0F0867A6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plaining BGP Concepts and Termi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Characterist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lvl="1" marL="29160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 is most appropriate when at least one of the following conditions exis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AS allows packets to transit through it to reach other autonomous systems (for example, it is a service provid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AS has multiple connections to other autonomous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ing policy and route selection for traffic entering and leaving the AS must be manipula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 is not always appropriate. You do not have to use BGP if you have one of the following condi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mited understanding of route filtering and BGP path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io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single connection to the Internet or another 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ck of memory or processor power to handle consta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es on BGP rou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Characteristics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GP is a path-vector protocol with the following enhancements over distance vector protoc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le updates: runs on top of TCP (port 17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remental, triggered updates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ic keepalive messages to verify TCP conne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ch metrics (called path vectors or attribu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igned to scale to huge internetworks (for example, the Interne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GP Databa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ighbor ta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G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GP table (forwarding databa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all networks learned from each neigh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contain multiple paths to destination networ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ains BGP attributes for each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routing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est paths to destin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Message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2000"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GP defines the following message typ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hold time and BGP router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epa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ation for one path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could be to multiple networ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path attributes and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error is det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connection closed after message is 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your network is multihomed—has more than one connection to the Internet—then using BGP to connect to your ISPs may be appropri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homing options include having each ISP pass the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ly a default 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efault route and provider-owned specific ro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the external routing protocol used between autonomous systems. Forwarding is based on policy and not on best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routers exchange network reachability information called path vectors, made up of path attributes. The path-vector information includes a list of the full path of BGP AS numbers necessary to reach a destination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outer running BGP keeps its own tables to store BGP information that it receives from and sends to other routers, including a neighbor table, a BGP table (also called a forwarding database or topology database), and an IP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four BGP message types: open, keepalive, update, and notif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7320" y="1487520"/>
            <a:ext cx="7518600" cy="482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5560" y="225360"/>
            <a:ext cx="814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BGP to Connect to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hat Is Multihom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necting to two or more ISPs to increase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ility: If one ISP or connection fails, there is still Internet ac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formance: Path selection to common Internet destinations is be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3160" y="1662120"/>
            <a:ext cx="7512120" cy="4219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Default Routes from All Provid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9600" y="1371600"/>
            <a:ext cx="8524800" cy="48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ault Routes from All Providers and Partial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7200" y="1601640"/>
            <a:ext cx="7688160" cy="439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Full Routes from All Provid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4320" y="1300320"/>
            <a:ext cx="6975360" cy="3195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Autonomous System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1560" y="4484160"/>
            <a:ext cx="7940880" cy="202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AS is a collection of networks under a single technical administ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GPs operate within an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used between autonomous sys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change of loop-free routing information is guarante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20840" y="1601640"/>
            <a:ext cx="6475320" cy="2103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Path-Vector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560" y="3885840"/>
            <a:ext cx="7940880" cy="2514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GPs announce networks and describe the metric to reach those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announces paths and the networks that are reachable at the end of the path. BGP describes the path by using attributes, which are similar to metri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allows administrators to define policies or rules for how data will flow through the autonomous sys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6120" y="1868400"/>
            <a:ext cx="7486560" cy="2494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Routing Poli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560" y="4919400"/>
            <a:ext cx="7940880" cy="79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GP can support any policy conforming to the hop-by-h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-by-AS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ing paradig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49:15Z</dcterms:modified>
  <cp:revision>182</cp:revision>
  <dc:subject>Module 07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