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B0250F2-758B-40E6-B0BE-83490730FBF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0AA5AC6-BDB8-4EB5-BFD4-468D83FA65B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BCD1E1E-78FC-429C-A78A-1D0CA02B215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ADF9357-44C6-4DA2-869B-BF720B0DF99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FBD2BE8-9333-489A-A098-2875DDB1B2F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F378909-9B48-49CA-97CC-9ABCE7EE466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F0CA7BE-CD88-4898-921A-69696F2E7E1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D3391E0-0F89-4FAB-BAF2-85200B4DB76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EBGP and IBG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8320" y="1536840"/>
            <a:ext cx="6842160" cy="223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eers = N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1560" y="4114800"/>
            <a:ext cx="7940880" cy="239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“BGP peer,” also known as a “BGP neighbor,” is a specific term that is used for BGP speakers that have established a neighbor relationship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y two routers that have formed a TCP connection to exchange BGP routing information are called BGP peers or BGP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81800" cy="342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ternal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1560" y="5105160"/>
            <a:ext cx="794088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running between neighbors that belong to different autonomous systems, it is called E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BGP neighbors, by default, need to be directly conne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1406520"/>
            <a:ext cx="6273720" cy="3470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nal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1560" y="5029200"/>
            <a:ext cx="7940880" cy="1447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running between neighbors within the same AS, it is call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ighbors do not have to be directly conne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7800" y="1468440"/>
            <a:ext cx="7988400" cy="3030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BGP in a Transit AS (ISP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3640" y="5028840"/>
            <a:ext cx="7940880" cy="1219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istributing BGP into an IGP (OSPF in this example) is not recomme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ead, run IBGP on all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0960" cy="425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BGP in a NonTransit 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5791320"/>
            <a:ext cx="83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learned via IBGP are never propagated to other IBGP peers, so they need full-mesh I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0160" y="1521000"/>
            <a:ext cx="7481880" cy="2493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Issues If BGP Not on in All Routers in Transit Pa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419720"/>
            <a:ext cx="794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50000"/>
          </a:bodyPr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will drop the packet to network 10.0.0.0. Router C is not running IBGP; therefore, it has not learned about the route to network 10.0.0.0 from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router B and router E are not redistributing BGP into OSP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key terms to describe relationships between routers running BGP ar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peaker, or BGP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eer, or neighb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BGP and EBG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BGP neighbors are directly connected routers in different autonomous syste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BGP neighbors are routers in the same AS that are reachable by static routes or a dynamic internal routing protoco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transit path within an AS should ru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ully mesh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0:11Z</dcterms:modified>
  <cp:revision>156</cp:revision>
  <dc:subject>Module 07 Lesson 0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