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2.1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640D49E-1332-4819-9149-5D14EF00F03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C08CE7F-4EDA-4E9D-B6CE-339767B6A7D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5D152B0-6721-4EBC-BAE7-42E877A1E25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E7CA497-A573-4530-83CF-9A846EF07D9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AD5E0EC-D339-4362-BC76-A3671971DC0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45B61C7-C59C-45F7-968E-60E1458C175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F4DD27D-1474-42E4-B3C6-F768560D446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C1CA66C-FAE3-4955-95B5-E3D81325C3B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8C9DFCF-382C-4490-822A-5CDB576889C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E340C31-B21C-4586-B9DE-6577BD45417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28A679A-729D-4252-AE0E-A8C1AE28DDE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5EAF3C3-C227-47CB-8057-0771DC61011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BG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Basic BGP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ighbor ebgp-multihop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320" y="1792440"/>
            <a:ext cx="7956720" cy="43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{</a:t>
            </a:r>
            <a:r>
              <a:rPr b="1" i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ebgp-multihop [</a:t>
            </a:r>
            <a:r>
              <a:rPr b="1" i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ttl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]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5320" y="1447920"/>
            <a:ext cx="371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666880"/>
            <a:ext cx="82296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increases the default of one hop for EBGP pe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t allows routes to the EBGP loopback addres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which will have a hop count greater than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2840" y="1982880"/>
            <a:ext cx="8542080" cy="395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ebgp-multihop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ext-Hop Behavi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174600" indent="-174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is an AS-by-AS routing protocol, not a router-by-router routing protoco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BGP, the next hop does not mean the next router; it means the IP address to reach the next 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EBGP, the default next hop is the IP address of the neighbor router that sent the up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IBGP, the BGP protocol states that the next hop advertised by EBGP should be carried into IBG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4689360" cy="3579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Next-Hop Behavi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5049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A advertis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 172.16.0.0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B in EBGP, wi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next hop of 10.10.10.3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B advertis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2.16.0.0 in IBGP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C, keeping 10.10.10.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the next-hop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ighbor next-hop-self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560" y="2633760"/>
            <a:ext cx="7940880" cy="1557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ces all updates for this neighbor to b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vertised with this router as the next ho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IP address used for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xt-hop-sel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ption will be the same as the source IP address of the BGP pack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94472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next-hop-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640" y="1600200"/>
            <a:ext cx="3336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8000" y="1982880"/>
            <a:ext cx="8310240" cy="4110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next-hop-self Configuration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876920" cy="3160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8160" y="1600200"/>
            <a:ext cx="4343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following takes place in a multiaccess net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B advertis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 172.30.0.0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A in EBGP wi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next hop of 10.10.10.2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 10.10.10.1. This avoid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unnecessary h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is being efficient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forming AS 64520 of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st entry point into AS 65000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network 172.30.0.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7360" y="5105520"/>
            <a:ext cx="72626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B in AS 65000 also advertises to AS 64520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best entry point for each network in AS 64600 is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xt hop of router C because that is the best path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ve through AS 65000 to AS 646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Next Hop on a Multiaccess Networ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171612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eer-grou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640" y="1371600"/>
            <a:ext cx="430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1747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creates a pe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a Peer Grou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316404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eer-group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640" y="281952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3657600"/>
            <a:ext cx="8076960" cy="23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defines a template with parameters set for a group of neighbors instead of individ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is useful when many neighbors have the same outbound poli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mbers can have a different inbound pol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s are generated once per pe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ation is simpl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683400" cy="2090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01560" y="3870000"/>
            <a:ext cx="37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C Using a Pe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5320" y="3403440"/>
            <a:ext cx="394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C Without a Pe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840" y="3886200"/>
            <a:ext cx="449568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4800" y="3885480"/>
            <a:ext cx="438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 bgp 65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4.1 remote-as 65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4.1 update-source Loopback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4.1 next-hop-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4.1 distribute-list 20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5.1 remote-as 65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5.1 update-source Loopback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5.1 next-hop-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5.1 distribute-list 20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6.1 remote-as 65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6.1 update-source Loopback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6.1 next-hop-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6.1 distribute-list 20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61080" y="4406760"/>
            <a:ext cx="4117680" cy="176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5400" y="4433040"/>
            <a:ext cx="4021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 bgp 65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nternal peer-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nternal remote-as 65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nternal update-source Loopback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nternal next-hop-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nternal distribute-list 20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4.1 peer-group 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5.1 peer-group 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6.1 peer-group 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Using a Peer Group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twork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1690560"/>
            <a:ext cx="800748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twork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twork-numb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mas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network-mas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route-map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p-ta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1640" y="1346040"/>
            <a:ext cx="34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8305920" cy="24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tells BGP what network to advert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mmand does no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ctivate the protocol on an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thout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s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ption, the command advertises classful networks. If a subnet of the classful network exists in a routing table, the classful address is annou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s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ption, BGP looks for an exact match in the local routing table before announcing the ro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Command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3360" y="179244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 bg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utonomous-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9360" y="1447920"/>
            <a:ext cx="248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362320"/>
            <a:ext cx="8229600" cy="33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enters router configuration mode only; subcommands must be entered to activate BG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ly one instance of BGP can be configured on the router at a singl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utonomous system number identifies the autonomous system to which the router belo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utonomous system number in this command is compared to the autonomous system numbers listed in neighbor statements to determine if the neighbor is an internal or external neigh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network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69056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92.168.1.1 mask 255.255.25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1640" y="1346040"/>
            <a:ext cx="34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235240"/>
            <a:ext cx="8305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router looks for exactly 192.168.1.1/24 in the routing table, but cannot find it, so it will not announce an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505320"/>
            <a:ext cx="80071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92.168.0.0 mask 255.255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120" y="3160800"/>
            <a:ext cx="3489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4038480"/>
            <a:ext cx="807732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router looks for exactly 192.168.0.0/16 in the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the exact route is not in the table, you can add a static route to null0 so that the route can be annou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Synchron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560" y="1282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Synchronization rule: Do not use or advertise to an external neighbor a route learned by IBGP until a matching route has been learned from an IG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nsures consistency of information throughout the 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fe to have it off only if all routers in the transit path in the AS are running full-mesh IBGP; </a:t>
            </a:r>
            <a:r>
              <a:rPr b="1" lang="en-US" sz="1800" spc="-1" strike="noStrike">
                <a:solidFill>
                  <a:srgbClr val="b92b38"/>
                </a:solidFill>
                <a:latin typeface="Arial"/>
                <a:ea typeface="宋体"/>
              </a:rPr>
              <a:t>off by default in Cisco IOS software release 12.2(8)T and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7240" y="387036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o synchroniza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565440"/>
            <a:ext cx="484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287960"/>
            <a:ext cx="822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ables BGP synchronization so that a router will advertise routes in BGP without learning them in an I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531828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ynchroniza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040" y="5029200"/>
            <a:ext cx="484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775480"/>
            <a:ext cx="82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ables BGP synchronization so that a router will not advertise routes in BGP until it learns them in an I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71640" y="1339920"/>
            <a:ext cx="7346880" cy="2322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Synchron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581280"/>
            <a:ext cx="815328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11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synchronization is on,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1125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s A, C, and D would not use or advertise the route 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72.16.0.0 until they receive the matching route via an IG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1125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 E would not hear about 172.16.0.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11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synchronization is off (the default),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1125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s A, C, and D would use and advertise the route that the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ceive via IBGP; router E would hear about 172.16.0.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1125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router E sends traffic for 172.16.0.0, routers A, C, and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uld route the packets correctly to router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05440" cy="5110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9480" y="2133720"/>
            <a:ext cx="7850160" cy="342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Example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209680"/>
            <a:ext cx="79246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. RouterB(config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er bgp 6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2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10.1.1.2 remote-as 645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3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192.168.2.2 remote-as 6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4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192.168.2.2 update-source Loopback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5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192.168.2.2 next-hop-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6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twork 172.16.10.0 mask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7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twork 192.168.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8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twork 192.168.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9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o synchr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Sta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1000"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hen establishing a BGP session, BGP goes through the following stat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0080" indent="-277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Id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Router is searching routing table to see whether a route exists to reach the neighb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0080" indent="-277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Conn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Router found a route to the neighbor and has completed the three-way TCP handshak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0080" indent="-277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Open s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Open message sent, with the parameters for the BGP sess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0080" indent="-277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Open confir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Router received agreement on the parameters for establishing sess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800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ternatively, router goes into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ac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tate if no response to open mes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0080" indent="-277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Establish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Peering is established; routing begi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Established and Idle Sta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7784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Id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he router in this state cannot find the address of the neighbor in the routing table. Check for an IGP problem. Is the neighbor announcing the ro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7784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Establishe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he established state is the prop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te for BGP operations. In the output of the </a:t>
            </a: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how ip bgp summ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, if the state column has a number, then the route is in the established state. The number is how many routes have been learned from this neighb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1486080"/>
            <a:ext cx="838224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486080"/>
            <a:ext cx="8153640" cy="46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sh ip bgp neighb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neighbor is 172.31.1.3,  remote AS 64998, external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version 4, remote router ID 172.3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BGP state = Establishe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, up for 00:19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read 00:00:10, last write 00:00:10, hold time is 180, keepalive interval is 60 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capabilit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 refresh: advertised and received(old &amp; 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dress family IPv4 Unicast: advertised and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ssage statist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Q depth i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utQ depth i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nt       Rc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pens:                  7      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otifications:          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pdates:               13        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show ip bgp neighbors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Active State Troubleshoo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92b38"/>
                </a:solidFill>
                <a:latin typeface="Arial"/>
                <a:ea typeface="宋体"/>
              </a:rPr>
              <a:t>Activ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The router has sent an open packet and is waiting for a response. The state may cycle between active and idle. The neighbor may not know how to get back to this router because of the following reasons: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 does not have a route to the source IP address of the BGP open packet generated by this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 is peering with the wrong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 does not have a neighbor statement for this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number is misconfigu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Active State Troubleshoo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lvl="1" marL="3394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 number misconfigur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25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t the router with the wrong remote AS numb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%BGP-3-NOTIFICATION: sent to neighbor 172.31.1.3 2/2 (peer in wrong AS) 2 bytes FDE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FFFF FFFF FFFF FFFF FFFF FFFF FFFF FFFF 002D 0104 FDE6 00B4 AC1F 0203 1002 0601 0400 0100 0102 0280 0002 0202 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25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t the remote rout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%BGP-3-NOTIFICATION: received from neighbor 172.31.1.1 2/2 (peer in wrong AS) 2 bytes FDE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ighbor remote-as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3360" y="1792440"/>
            <a:ext cx="8159760" cy="777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emote-as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utonomous-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9360" y="1447920"/>
            <a:ext cx="432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765520"/>
            <a:ext cx="822960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activates a BGP session with this neigh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IP address that is specified is the destination address of BGP packets going to this neigh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router must have an IP path to reach this neighb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fore it can set up a BGP relationsh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mote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ption shows what AS this neighbor is in. This AS number is used to determine if the neighbor is internal or exter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is used for both external and internal neighb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574640"/>
            <a:ext cx="8534160" cy="428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Peer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663560"/>
            <a:ext cx="838188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bgp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router identifier 10.1.1.1, local AS number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table version is 124, main routing table version 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9 network entries using 1053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22 path entries using 1144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2/5 BGP path/bestpath attribute entries using 1488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6 BGP AS-PATH entries using 144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 BGP route-map cache entries using 0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 BGP filter-list cache entries using 0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using 3829 total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activity 58/49 prefixes, 72/50 paths, scan interval 60 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    V    AS MsgRcvd MsgSent   TblVer  InQ OutQ Up/Down  State/PfxR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1.0.2     4 65001      11      11      124    0    0 00:02:28    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1.3   4 64998      21      18      124    0    0 00:01:13       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11.4  4 64999      11      10      124    0    0 00:01:11       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ighbor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authentication uses MD5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e a key (password); router generates a message digest, or hash, of the key and the mess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ssage digest is sent; key is not 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generates and checks the MD5 digest of every segment sent on the TCP connection. Router authenticates the source of each routing update packet that it rece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3360" y="189684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{ip-address | peer-group-name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assword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9360" y="1447920"/>
            <a:ext cx="3336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55560" y="225360"/>
            <a:ext cx="8145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Neighbo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85640" y="2133720"/>
            <a:ext cx="81709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04920" y="1447920"/>
            <a:ext cx="8594640" cy="4647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show ip bgp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0120" y="1517760"/>
            <a:ext cx="843300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b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table version is 14, local router ID is 172.31.1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atus codes: s suppressed, d damped, h history, * valid, &gt; best, i - internal, r RIB-failure, S S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rigin codes: i - IGP, e - EGP, ? - in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         Next Hop            Metric LocPrf Weight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 10.1.0.0/24      0.0.0.0                  0         3276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                 10.1.0.2                 0    100      0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 10.1.1.0/24      0.0.0.0                  0         3276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10.1.2.0/24      10.1.0.2                 0    100      0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 10.97.97.0/24    172.31.1.3                             0 64998 64997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                  172.31.11.4                            0 64999 64997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                 172.31.11.4              0    100      0 64999 64997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&gt; 10.254.0.0/24    172.31.1.3               0             0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                  172.31.11.4                            0 64999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                 172.31.1.3               0    100      0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&gt; 172.31.1.0/24    172.31.1.3               0             0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                  172.31.11.4                            0 64999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 i                 172.31.1.3               0    100      0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 172.31.2.0/24    172.31.1.3               0             0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97200" y="6121440"/>
            <a:ext cx="51850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networks from lowest to high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1447920"/>
            <a:ext cx="859464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show ip bgp rib-failure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0120" y="1517760"/>
            <a:ext cx="8433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bgp rib-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           Next Hop                      RIB-failure   RIB-NH M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1.0/24      172.31.1.3          Higher admin distance              n/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11.0/24     172.31.11.4         Higher admin distance              n/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743200"/>
            <a:ext cx="83818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28600" indent="-228600">
              <a:lnSpc>
                <a:spcPct val="90000"/>
              </a:lnSpc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networks that are not installed in the RIB and the reason that they were not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learing the BGP Ses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policies such as access lists or attributes are changed, the change takes effect immediately, and the next time that a prefix or path is advertised or received, the new policy is used. It can take a long time for the policy to be applied to all network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 must trigger an update to ensure that the policy is immediately applied to all affected prefixes and path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ays to trigger an upda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rd re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ft re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 refre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55640" y="179244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lear ip bgp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640" y="1447920"/>
            <a:ext cx="430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251080"/>
            <a:ext cx="82296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sets all BGP connections with this ro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tire BGP forwarding table is discar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session makes the transition from established to idle; everything must be relear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Hard Reset of BGP Ses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431640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lear ip bg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1640" y="39718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4775040"/>
            <a:ext cx="815328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sets only a single neigh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session makes the transition from established to idle; everything from this neighbor must be relear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ss seve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ear ip bg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657000"/>
            <a:ext cx="8145720" cy="355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oft Reset Outbou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3360" y="19447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lear ip bgp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[soft ou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9360" y="1600200"/>
            <a:ext cx="248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403360"/>
            <a:ext cx="792468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s learned from this neighbor are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router resends all BGP information to the neighbor without resetting the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nnection remains establ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option is highly recommended when you are changing outbound pol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ft 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ption does not help if you are changing inbound pol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bound Soft Res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5400" y="1792440"/>
            <a:ext cx="782964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soft-reconfiguration in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1400" y="144792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5560" y="2251080"/>
            <a:ext cx="822960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router stores all updates from this neighbor in case the inbound policy is chan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mmand is memory-int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5400" y="3773520"/>
            <a:ext cx="782964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lear ip bgp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sof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1400" y="342900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6320" y="4321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the stored information to generate new inboun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3560" y="1716120"/>
            <a:ext cx="720720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lear ip bgp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[soft in | in]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9560" y="1371600"/>
            <a:ext cx="430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560" y="2251080"/>
            <a:ext cx="7302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s advertised to this neighbor are not withdra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oes not store update information lo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nnection remains establ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roduced in Cisco IOS software release 12.0(2)S and 12.0(6)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Refresh: Dynamic Inbound Soft Res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730520"/>
            <a:ext cx="7012080" cy="4060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neighbor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46120" y="1328760"/>
            <a:ext cx="7924680" cy="511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ebug ip bgp updates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371600"/>
            <a:ext cx="763272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debug ip bgp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bile router debugging is on for address family: IPv4 Uni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clear ip bgp 10.1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%BGP-5-ADJCHANGE: neighbor 10.1.0.2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BGP(0): 10.1.0.2 send UPDATE (format)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10.1.1.0/24, next 10.1.0.1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metric 0, path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BGP(0): 10.1.0.2 send UPDATE (prepend, chgflags: 0x0) 10.1.0.0/24, next 10.1.0.1, metric 0, path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BGP(0): 10.1.0.2 NEXT_HOP part 1 net 10.97.97.0/24, next 172.31.1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BGP(0): 10.1.0.2 send UPDATE (format)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10.97.97.0/24, next 172.31.11.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, metric 0, path 64999 64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BGP(0): 10.1.0.2 NEXT_HOP part 1 net 172.31.22.0/24, next 172.31.1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BGP(0): 10.1.0.2 send UPDATE (format) 172.31.22.0/24, next 172.31.11.4, metric 0, path 64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49: BGP(0):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10.1.0.2 rcvd UPD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w/ attr: nexthop 10.1.0.2, origin i, localpref 100, metric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49: BGP(0): 10.1.0.2 rcvd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10.1.2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49: BGP(0): 10.1.0.2 rcvd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10.1.0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36520" y="1490760"/>
            <a:ext cx="875520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8000"/>
          </a:bodyPr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GP is configured with the following basic BGP comma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 bg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utonomous-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-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emote-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utonomous-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-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[mas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-ma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 activates a BGP session with a neighboring rou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ut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 administratively shuts down a BGP neighb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n creating a BGP packet,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atement defines the destination IP address and the outbound interface defines the source IP addr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n establishing a BGP session, BGP goes through the following states: idle, connect, open sent, open confirm, and establis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ou can configure MD5 authentication between two BGP peers, meaning that each segment sent on the TCP connection between the peers is verifie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o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b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s are used to troubleshoot the BGP s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ighbor shutdown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040" y="1981080"/>
            <a:ext cx="781200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shutdow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6002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3560" y="4191120"/>
            <a:ext cx="773280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o neighbor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shutdow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80988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240" y="2516040"/>
            <a:ext cx="822816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ministratively brings down a BGP neigh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for maintenance and policy changes to prev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 fl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7084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-enables a BGP neighbor that has been administratively shut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Issues with Source IP Addr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creating a BGP packet, the neighbor statement defines the destination IP address and the outbound interface defines the source IP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a BGP packet is received for a new BGP session, the source address of the packet is compared to the list of neighbor state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a match is found, a relationship is establish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no match is found, the packet is igno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ke sure that the source IP address matches the address that the other router has in its neighbor stat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4880" cy="4981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IBGP Peering Iss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ighbor update-source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9320" y="1792440"/>
            <a:ext cx="8159760" cy="777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update-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-type interface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5320" y="1447920"/>
            <a:ext cx="371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36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command allows the BGP process to use the IP address of a specified interface as the source IP address of all BGP updates to that neighb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loopback interface is usually used, because it will be available as long as the router is operat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 address used in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 o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outer will be the destination IP address of all BGP updates and should be the loopback interfac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o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pdate-sour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mand is normally used only with IBGP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address of an EBGP neighbor must be directly connected 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fault; the loopback of an EBGP neighbor is not directly 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0840" y="1901880"/>
            <a:ext cx="8866080" cy="396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Using Loopback 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8:51:11Z</dcterms:modified>
  <cp:revision>313</cp:revision>
  <dc:subject>Module 07 Lesson 03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