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2.2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E6656D7-521B-46A8-88C3-B1465D8A715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85E0BA5-1050-4A7F-AE1A-13CE1524C9A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675DB51-A45E-4686-B744-ABD8C73678E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05C00FC-A07C-4917-AF4F-1CCC03F1A34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CFA1339-48BD-49C6-880E-56D2AA8AEE8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BG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Using Route Maps to Manipulate Basic BGP Path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1447920"/>
            <a:ext cx="6896160" cy="495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 for Router 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3880"/>
            <a:ext cx="66294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A’s Configur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bgp 65001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2.2.2.2 remote-as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3.3.3.3 remote-as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2.2.2.2 update-sour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3.3.3.3 update-sour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8.1 remote-as 65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8.1 route-map med_65004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6 permit 192.168.25.0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6 permit 192.168.26.0.0 0.0.0.25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ed_65004 permit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ip address 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ed_65004 permit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88840" y="1530360"/>
            <a:ext cx="6972480" cy="4641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 for Router B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600200"/>
            <a:ext cx="662940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B’s Configur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bgp 6500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.1.1.1 remote-as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3.3.3.3 remote-as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.1.1.1 update-sour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3.3.3.3 update-sour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72.20.50.1 remote-as 65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72.20.50.1 route-map med_65004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6 permit 192.168.24.0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ed_65004 permit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ip address 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ed_65004 permit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1409760"/>
            <a:ext cx="8686800" cy="3263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ED Learned by Router Z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960" y="1411200"/>
            <a:ext cx="862344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Z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b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table version is 7, local router ID is 122.30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atus codes: s suppressed, d damped, h history, * valid, &gt; best, i - internal, r RIB-failure, S S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rigin codes: i - IGP, e - EGP, ? - in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         Next Hop       Metric LocPrf Weight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192.168.24.0     172.20.50.2      100    100       0 65001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                 192.168.28.2     200    100       0 65001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192.168.25.0     172.20.50.2      200    100       0 65001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                 192.168.28.2     100    100       0 65001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192.168.26.0     172.20.50.2      200    100       0 65001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                 192.168.28.2     100    100       0 65001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768920"/>
            <a:ext cx="876276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xamine the networks that have been learned from AS 65001 on Router Z in AS 65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or all networks: Weight is equal (0); local preference is equal (100); routes are not originated in this AS; AS path is equal (65001); origin code is equal (i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92.168.24.0 has a lower metric (MED) through 172.20.50.2 (100) than 192.168.28.2 (20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92.168.25.0 has a lower metric (MED) through 192.168.28.2 (100) than 172.20.50.2 (20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92.168.26.0 has a lower metric (MED) through 192.168.28.2 (100) than 172.20.50.2 (20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1880" y="1738440"/>
            <a:ext cx="8220240" cy="4219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5560" y="225360"/>
            <a:ext cx="8145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in an Enterp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7000"/>
          </a:bodyPr>
          <a:p>
            <a:pPr lvl="1" marL="29844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BGP local preference attribute can be changed to manipulate the best-path decision process, either for all routes or for selected routes using route map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igher local preference values are prefer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al preference is used only between IBGP speakers within the same 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MED values can be changed to manipulate packe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turning to an AS, either for all routes or for selected routes, using route maps.      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wer MED values are prefer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MED is sent to EBGP neighbors; those routers propagate the MED within their AS. The routers within the AS use the MED but do not pass it on to the next 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s in a typical enterprise BGP implementation multihome to two ISPs and pass default routes to other routers within the enterpri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4846680"/>
            <a:ext cx="60958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is designed for manipulating routing p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Is Designed to Implement Policy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73280" y="2246400"/>
            <a:ext cx="759744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hanging BGP Local Preference For All Rou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5320" y="384984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bgp default local-preference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5320" y="3505320"/>
            <a:ext cx="394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5320" y="4308480"/>
            <a:ext cx="82296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changes the default local preferen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s advertised to an IBGP neighbor have the local preference set to the value specifi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5320" y="1476360"/>
            <a:ext cx="822960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cal preference is used in these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thin an AS between IBGP spe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determine the best path to exit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to reach an outsid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 to 100 by default; higher values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1473120"/>
            <a:ext cx="8763120" cy="3962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1360" y="5575320"/>
            <a:ext cx="77086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 is the best path for router C to 65003, 65004, and 65005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ocal Preference Case Stud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371600"/>
            <a:ext cx="883944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r C BGP Table with Default Setting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403280"/>
            <a:ext cx="883908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C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b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table version is 7, local router ID is 3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atus codes: s suppressed, d damped, h history, * valid, &gt; best, i - internal,  r RIB-failure, S S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rigin codes: i - IGP, e - EGP, ? - in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         Next Hop       Metric LocPrf Weight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172.16.0.0       172.20.50.1             100       0 65005 65004 65003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                 192.168.28.1            100       0 65002 65003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172.24.0.0       172.20.50.1             100       0 65005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                 192.168.28.1            100       0 65002 65003 65004 65005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172.30.0.0       172.20.50.1             100       0 65005 65004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                 192.168.28.1            100       0 65002 65003 65004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7840" y="4799160"/>
            <a:ext cx="876312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14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By default, BGP selects the shortest AS path as the best (&gt;) path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14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In AS 65001, the percentage of traffic going to 172.24.0.0 is 30%, 172.30.0.0 is 20%, and 172.16.0.0 is 10%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14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50% of all traffic will go to the next hop of 172.20.50.1 (AS 65005), and 10% of all traffic will go to the next hop of 192.168.28.1 (AS 65002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14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Make traffic to 172.30.0.0 select the next hop of 192.168.28.1 to achieve load sharing where both external links get approximately 30% of the loa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08240" y="1752480"/>
            <a:ext cx="6705360" cy="441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 for Router 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3120" y="1930320"/>
            <a:ext cx="6388200" cy="40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bgp 65001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2.2.2.2 remote-as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3.3.3.3 remote-as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2.2.2.2 remote-as 65001 update-sour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3.3.3.3 remote-as 65001 update-sour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8.1 remote-as 65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8.1 route-map local_pref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5 permit 172.30.0.0 0.0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local_pref permit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ip address 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local-preference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local_pref permi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5520" y="1295280"/>
            <a:ext cx="40557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uter A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371600"/>
            <a:ext cx="8839440" cy="327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r C BGP Table with Local Preference Learn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373040"/>
            <a:ext cx="8763120" cy="34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C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b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table version is 7, local router ID is 3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atus codes: s suppressed, d damped, h history, * valid, &gt; best, i - internal,  r RIB-failure, S S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rigin codes: i - IGP, e - EGP, ? - in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         Next Hop       Metric LocPrf Weight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172.16.0.0       172.20.50.1             100       0 65005 65004 65003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                 192.168.28.1            100       0 65002 65003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172.24.0.0       172.20.50.1             100       0 65005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                 192.168.28.1            100       0 65002 65003 65004 65005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172.30.0.0       172.20.50.1             100       0 65005 65004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                 192.168.28.1        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4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0 65002 65003 65004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749840"/>
            <a:ext cx="861048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est (&gt;) paths for networks 172.16.0.0/16 and 172.24.0.0/16 have not chang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est (&gt;) path for network 172.30.0.0 has changed to a new next hop of 192.168.28.1 because the next hop of 192.168.28.1 has a higher local preference, 4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 AS 65001, the percentage of traffic going to 172.24.0.0 is 30%, 172.30.0.0 is 20%, and 172.16.0.0 is 1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% of all traffic will go to the next hop of 172.20.50.1 (AS 65005), and 30% of all traffic will go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next hop of 192.168.28.1 (AS 6500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hanging BGP MED for All Rou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38300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fault-metric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038480"/>
            <a:ext cx="371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42000"/>
            <a:ext cx="8229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91960" indent="-177480">
              <a:lnSpc>
                <a:spcPct val="10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D is considered the metric of BG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s that are advertised to an EBGP neighbor are set to the value specified using this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447920"/>
            <a:ext cx="8001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D is used when multiple paths exist between two autonomous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lower MED value is prefer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efault setting for Cisco is MED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metric is an optional, nontransitive attribu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ually, MED is shared only between two autonom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ystems that have multiple EBGP connections 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Using Route Maps and the M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600" y="2057400"/>
            <a:ext cx="8415360" cy="336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8:59:08Z</dcterms:modified>
  <cp:revision>202</cp:revision>
  <dc:subject>Module 07 Lesson 06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