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5EC9-184C-48D7-B77A-B09084DC5B25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F3F0-0576-4F5B-9D64-92767E3C3203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4440" cy="32878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sson 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Enter lesson aim here.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ule 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560" y="152352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is a path-vector routing protocol that allows routing policy decisions at the AS level to be enforc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forms EBGP relationships with external neighbors and IBGP with internal neighbors. All routers in the transit path within an AS must run fully meshed IBG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BGP is properly configured, it will establish a neighbor relationship, set the next-hop address, set the source IP address of a BGP update, and announce the networks to other BGP rou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performs a multistep process when selecting the best path to reach a destin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can manipulate path selection to affect the inbound and outbound traffic policies of an AS. Route maps can be configured to manipulate the local preference and MED BGP attribu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5:29:42Z</dcterms:created>
  <dc:creator>CLS Production and Editing QA Services</dc:creator>
  <dc:description>04/04, v3.1, Libby Goga
applied new ILSG learning design
04/24/04, v3.1, Erin Stanley
prepared for production</dc:description>
  <dc:language>en-US</dc:language>
  <cp:lastModifiedBy>whccie</cp:lastModifiedBy>
  <dcterms:modified xsi:type="dcterms:W3CDTF">2007-01-17T09:00:54Z</dcterms:modified>
  <cp:revision>50</cp:revision>
  <dc:subject/>
  <dc:title>ILT-MA-ModuleSumm-v3.1.ppt</dc:title>
</cp:coreProperties>
</file>