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7736-CAA0-4275-A9FE-6C167BCE71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tocol Independent Multicast (PIM) Sparse-mode (RFC 2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tilizes a rendezvous point (RP) to coordinate forwarding from source to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gardless of location/number of receivers, senders register with RP and send a single copy of multicast data through it to registered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gardless of location/number of sources, group members register to receive data and always receive it through the 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ppropriat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de scale deployment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nsely and sparsely populated groups in the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ptimal choice for all production networks regardless of size and membership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SM Shared Tree J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example, there is an active receiver (attached to leaf router at the bottom of the drawing) has joined multicast group “G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f router knows the IP address of the Rendezvous Point (RP) for group G and when it sends a (*,G) Join for this group towards the R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(*, G) Join travels hop-by-hop to the RP building a branch of the Shared Tree that extends from the RP to the last-hop router directly connected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, group “G” traffic can flow down the Shared Tree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SM Shared Tree J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example, there is an active receiver (attached to leaf router at the bottom of the drawing) has joined multicast group “G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f router knows the IP address of the Rendezvous Point (RP) for group G and when it sends a (*,G) Join for this group towards the R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(*, G) Join travels hop-by-hop to the RP building a branch of the Shared Tree that extends from the RP to the last-hop router directly connected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, group “G” traffic can flow down the Shared Tree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Distribution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fines the path down which traffic flows from source to receiver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nlike unicast forwarding which uses the “destination” address to make it’s forwarding decision, multicast forwarding uses the “source” address to make it’s forwarding d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ype of Multicast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nse Mode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res Mode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 or Shortest Path Tre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es optimal path (shortest distance and minimized delay) from source to all receivers, but requires more memory to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ared Tre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es sub-optimal path (may not be shortest distance and may introduce extra delay) from source to all receivers, but requires less memory to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uters must know packet origin, rather than destination (opposite of 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origination IP address denotes known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destination IP address denotes unknown group of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tilizes Reverse Path Forwarding (R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Broadcast: floods packets out all interfaces except incoming from source; initially assuming every host on network is part of multicast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Prune: eliminates tree branches without multicast group members; cuts off transmission to LANs without interested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Selective Forwarding: requires its own integrated unicast routing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Multic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Multicast Routing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98720" y="1925640"/>
            <a:ext cx="6945120" cy="439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90440" y="1935000"/>
            <a:ext cx="7439040" cy="4395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509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ults After Pru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rse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otoco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depend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works with any of the underlying unicast routing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both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ource and shared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Based on an explicit pull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an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ders and receivers 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meet each o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ders are registered with RP by their first-hop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eivers are joined to the shared t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rooted at the RP) by their local 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1789200"/>
            <a:ext cx="6164280" cy="4395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SM Shared Tree Jo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le RPs with Auto 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200" y="1995480"/>
            <a:ext cx="769608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multicast requires multiple protocols and processes for proper packet forwar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urce and shared trees may be used to define multicast packet flows to group me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tilizes the distribution trees for proper packet forwar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 is the routing protocol for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-DM uses flood and prun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-SM uses less device and bandwidth resources and is typically chosen to implement multicast. PIM sparse-dense mode is the recommended methodology for maximum efficiency in IP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Protocol Bas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distribution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ource-rooted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lso called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oted at a meeting point in the network; </a:t>
            </a:r>
            <a:r>
              <a:rPr b="1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306774"/>
                </a:solidFill>
                <a:latin typeface="Arial"/>
              </a:rPr>
              <a:t>hared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ypes of multicast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nse mode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arse mode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2049480"/>
            <a:ext cx="7200720" cy="4232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orte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Tre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4587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ortest-Path or Source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orte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Tree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587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ortest-Path or Source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2049480"/>
            <a:ext cx="7200720" cy="42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071800"/>
            <a:ext cx="7475400" cy="4213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Distribution Tre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7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63640" y="2049480"/>
            <a:ext cx="7567560" cy="4232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Distribution Tree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47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Distribution Trees</a:t>
            </a:r>
            <a:br>
              <a:rPr sz="3000"/>
            </a:b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(S,G) 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For this particul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urce sending to this particul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affic forwarded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hortest path 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(*,G) 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For any (*) source sending to 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affic forwarded via a meeting point for 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Forwar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operation is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he opposit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cast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cast routing is concerned with where the packet is go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is concerned with where the packet comes fro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ses Reverse Path Forwarding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to prevent </a:t>
            </a:r>
            <a:r>
              <a:rPr b="1" lang="sl-SI" sz="2400" spc="-1" strike="noStrike">
                <a:solidFill>
                  <a:srgbClr val="b92b38"/>
                </a:solidFill>
                <a:latin typeface="Arial"/>
              </a:rPr>
              <a:t>forwarding loops</a:t>
            </a:r>
            <a:r>
              <a:rPr b="1" lang="en-US" sz="2400" spc="-1" strike="noStrike">
                <a:solidFill>
                  <a:srgbClr val="306774"/>
                </a:solidFill>
                <a:latin typeface="Arial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93680" y="1928880"/>
            <a:ext cx="7439040" cy="439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09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8:57:07Z</dcterms:created>
  <dc:creator>Bill T</dc:creator>
  <dc:description/>
  <dc:language>en-US</dc:language>
  <cp:lastModifiedBy>whccie</cp:lastModifiedBy>
  <dcterms:modified xsi:type="dcterms:W3CDTF">2007-01-17T09:24:58Z</dcterms:modified>
  <cp:revision>71</cp:revision>
  <dc:subject/>
  <dc:title>Slide 1</dc:title>
</cp:coreProperties>
</file>