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19F-9CC8-4683-B57B-C6FB581BDA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ommand lists the RPs - they can be learned statically or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re can be multiple RPs in the network each supporting a different multicast address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f traffic is not flowing to recei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the IGMP group membership has to be checked in local routers. The command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igmp interfac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shows various information on the selected interface and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ip igmp group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lists the local groups known to the rou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erifying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state of multicast groups on the rou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the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ip igmp inter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 command to determine which router is the IGMPv2 Querier on the multiaccess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 “Designated Router” is a different function and is listed separately in the display abo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Note also th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router itself joined two groups (224.0.1.40 – Auto-RP, whi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a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joined automatically, and 224.2.127.254 – SDR, which was joined by configuring </a:t>
            </a:r>
            <a:r>
              <a:rPr b="0" i="1" lang="sl-SI" sz="1200" spc="-1" strike="noStrike">
                <a:solidFill>
                  <a:srgbClr val="000000"/>
                </a:solidFill>
                <a:latin typeface="Times New Roman"/>
              </a:rPr>
              <a:t>ip sdr listen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on the interf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GMP State in “rtr-a”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224.1.1.1 is active on Ethernet 0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as been active on this interface for six days and 17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 expires (and will be deleted) in two minutes and 31 seconds if an IGMP Host Membership report for this group is not heard in tha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ast Host to report membership was 1.1.1.11 (H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Group 224.0.1.40 (Auto-RP) is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t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omatically joined by Cisco routers and thus its expiration shows </a:t>
            </a:r>
            <a:r>
              <a:rPr b="0" i="1" lang="sl-SI" sz="1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how multicast group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and to display the multicast group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how multicast route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and to display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information about dynamically learned and manually configured multicast route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s.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IGM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fies to display only the configuration information learned through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n the example above we have IGMP enabled multicast router with the IP address 10.0.0.1 and a multicast receiver with the IP address 10.0.0.2 connected to the router via switch that has IGMP Snooping enabled over ports 4/1 and 4/2 respectively. Both ports are in a vlan 10. The IGMP router with the MAC address 00-10-11-7e-74-8d is a member of multicast  group 224.0.1.40 and the multicast receiver with the MAC address 00-90-5f-69-a0-21 is receiving mulicast traffic from multicast group 224.1.2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7960" y="460440"/>
            <a:ext cx="4043520" cy="3031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3733560"/>
            <a:ext cx="50292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output of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gmp statistic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shows sample statistics for VLAN 10. The number of Group Specific Queries and General Queries is shown along with the number of Host Memebrship Report and Group Leav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statistics are split into Receive and Transmit par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407960" y="460440"/>
            <a:ext cx="4043520" cy="3031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733560"/>
            <a:ext cx="50292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multicast route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displays the information about IGMP router port and VLAN configuration on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multicast group igmp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list the information about the VLAN, multicast group and ports that are joined to that multicast group on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mrout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is the most useful command in determining the state of multicast sources and groups as seen from the selected router perspective. The output of the command generally represents a part of the multicast distribution tree with incoming interface ald list of outgoing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al output taken from a production router in Cisco’s network for more interesting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a generic multicast routing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*,G) and (S,G)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coming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tgoing interface list (O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P (if 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m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 - how long the entry has been in the table and when it will ex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When PIM Dense Mode is configu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the first step to chec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proper operation is to determine the PIM neighbors. The following commands do 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pim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pim neigh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mr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br Count = number of neighbors on this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R = 0.0.0.0 in this example, because p2p links do not have D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ptime—indicates how long the neighbor adjacency has ex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ires—indicates when the adjacency will timeout and be removed - PIM hellos maintain this adjac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de—indicates what mode the interface is running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ommand lists the RPs - they can be learned statically or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re can be multiple RPs in the network each supporting a different multicast address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3004920"/>
            <a:ext cx="779796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Multic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cast Configuration and Ver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9800" y="4241880"/>
            <a:ext cx="3848040" cy="2919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1803240"/>
            <a:ext cx="3441960" cy="2541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3080" y="1530360"/>
            <a:ext cx="8458200" cy="472428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(towards the 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rpf 10.127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formation for NA-1 (10.127.0.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terface: Serial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neighbor: ? (10.127.0.2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oute/mask: 10.127.0.7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type: unicast (ospf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ecursion count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Doing distance-preferred lookups across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(towards the 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rpf 10.139.17.1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formation for ? (10.139.17.1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terface: Serial0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neighbor: ? (10.139.16.1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oute/mask: 10.139.17.0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type: unicast (ospf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ecursion count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Doing distance-preferred lookups across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hecking 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a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igmp interface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23623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multicast-related information about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640" y="35053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igmp groups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2004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640" y="396252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multicast groups that are directly connected to the router and that were learned via 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gm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terf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640" y="2020320"/>
            <a:ext cx="7848720" cy="37443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tr-a&gt;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ow ip igmp interface 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Ethernet0 is up, line protocol i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is 1.1.1.1, subnet mask is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is en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urrent IGMP version i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GMP is dis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y interval is 6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ier timeout is 12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max query response time is 1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bound IGMP access group is not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routing is en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TTL threshold i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designated router (DR) is 1.1.1.1 (this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ying router is 1.1.1.1 (this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groups joined: 224.0.1.40 224.2.127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gm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5440" y="3237120"/>
            <a:ext cx="8458200" cy="13107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tr-a&gt;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 ip igmp group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Connected Group Memb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 Address    Interface      Uptime    Expires   Last Re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224.1.1.1        Ethernet0      6d17h     00:01:47  1.1.1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224.0.1.40       Ethernet0      6d17h     never     1.1.1.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Verifying IGMP Snoo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200" y="2363760"/>
            <a:ext cx="83152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multicast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g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is used, only IGMP-learned information is sh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7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multicast group [igmp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c_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lan_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it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1200" y="4444920"/>
            <a:ext cx="83152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on dynamically learned and manually configured multicast router por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g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is used, only IGMP-learned information is sh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720" y="40258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multicast router [igmp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d_num/port_nu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lan_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720" y="368136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it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9600" y="1782720"/>
            <a:ext cx="6183360" cy="4232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3080" y="1609200"/>
            <a:ext cx="8458200" cy="45651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ow igmp statistics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statistics for vlan 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statistics for vlan 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ransm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eneral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 Specific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port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Leav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cei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eneral Queries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 Specific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ports: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Leav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tal Valid pkts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tal Invalid pkt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Other pkts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MAC-Based General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Failures to add GDA to EARL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pology Notification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3080" y="2397240"/>
            <a:ext cx="8458200" cy="298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ow multicast router ig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Port       V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---------- 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4/1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otal Number of Entries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'*' - Config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'+' - RGMP-cap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ow multicast group ig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VLAN  Dest MAC/Route Des  [CoS]  Destination Ports or VCs / [Protocol Typ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----  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    01-00-5e-00-01-28          4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    01-00-5e-01-02-03          4/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otal Number of Entrie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ing a simple multicast network requires a global multicast command, a multicast command for each interface, and the specification of an RP discovery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ffective methods for verifying a multicast network include checking the multicast routing table and checking PIM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ing IGMP snooping on an Ethernet switch avoids the problem of multicast frame floo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I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M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figuratio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1600200"/>
            <a:ext cx="8305920" cy="1161000"/>
            <a:chOff x="380880" y="1600200"/>
            <a:chExt cx="8305920" cy="1161000"/>
          </a:xfrm>
        </p:grpSpPr>
        <p:sp>
          <p:nvSpPr>
            <p:cNvPr id="92" name=""/>
            <p:cNvSpPr/>
            <p:nvPr/>
          </p:nvSpPr>
          <p:spPr>
            <a:xfrm>
              <a:off x="458640" y="190512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p multicast-routin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1600200"/>
              <a:ext cx="4848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(config)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8640" y="236232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ables multicast rout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3048120"/>
            <a:ext cx="8305920" cy="1465560"/>
            <a:chOff x="380880" y="3048120"/>
            <a:chExt cx="8305920" cy="1465560"/>
          </a:xfrm>
        </p:grpSpPr>
        <p:sp>
          <p:nvSpPr>
            <p:cNvPr id="96" name=""/>
            <p:cNvSpPr/>
            <p:nvPr/>
          </p:nvSpPr>
          <p:spPr>
            <a:xfrm>
              <a:off x="458640" y="335268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p pim { sparse-mode | sparse-dense-mode }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304812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(config-if)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8640" y="3809880"/>
              <a:ext cx="82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ables PIM SM on an interface;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arse-dense-mod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ption enables mixed sparse-dense grou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8640" y="4952880"/>
            <a:ext cx="8158320" cy="51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pim send-rp-announce 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 scope 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roup-list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pim send-rp-discovery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cope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64832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8640" y="551196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s the ability of a group of routers to be and discov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Ps dynam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spec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ulticast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u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2363760"/>
            <a:ext cx="83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plays the contents of the IP multicast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ummary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 one-line, abbreviated summary of each entry in the IP multicast routing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oun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statistics about the group and source, including number of packets, packets per second, average packet size, and bits per sec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ctive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rate at which active sources are sending to multicast groups. Active sources are those sending at a rate specified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b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rgument or higher.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b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rgument defaults to 4 k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720" y="1944720"/>
            <a:ext cx="8159760" cy="335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how ip mroute [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 [summary] [count] [activ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bp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mrou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" y="1606680"/>
            <a:ext cx="8458200" cy="457200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1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 ip m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P Multicast 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Flags: D - Dense, S - Sparse, B - Bidir Group, s - SSM Group, C - Conn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L - Local, P - Pruned, R - RP-bit set, F - Register fl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 - SPT-bit set, J - Join SPT, M - MSDP created entr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X - Proxy Join Timer Running, A - Advertised via MSDP, U - UR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 - Received Source Specific Host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flags: H - Hardware 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imers: Uptime/Exp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terface state: Interface, Next-Hop or VCD, State/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(*, 224.1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), 00:07:54/00:02:59, RP 10.127.0.7, flags: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coming interface: Null, RPF nbr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lis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erial1/3, Forward/Sparse, 00:07:54/00:02: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8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, 224.1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), 00:01:29/00:02:08, flags: 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coming interface: Serial1/4, RPF nbr 10.139.16.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lis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erial1/3, Forward/Sparse, 00:00:57/00:02: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Finding PIM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interface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count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8640" y="23623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interfaces configured for P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35053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neighbor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2004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8640" y="39625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s the PIM neighbors discovered by the Cisco IO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51055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rinfo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hosthan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8006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640" y="556272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ueries which neighboring multicast routers are peering with the local router or router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ow ip pim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terf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080" y="2914560"/>
            <a:ext cx="8458200" cy="175284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ip 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ress          Interface          Ver/   Nbr    Query  DR    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de   Count  Intvl  P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39.16.133    Serial0/0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27.0.170     Serial1/2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27.0.242     Serial1/3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ow ip pim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hb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080" y="2914560"/>
            <a:ext cx="8458200" cy="175284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ip pim neigh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PIM Neighbor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eighbor          Interface          Uptime/Expires    Ver   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Address                                                      Pri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39.16.134     Serial0/0          00:01:46/00:01:28 v2    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27.0.169      Serial1/2          00:01:05/00:01:40 v2    1        (B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27.0.241      Serial1/3          00:01:56/00:01:18 v2    1        (B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hecking R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200" y="2363760"/>
            <a:ext cx="83152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ctive RPs that are cached with associated multicast rout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Mapp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displays all group-to-RP mappings that the router is awar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7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rp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mapping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200" y="4686480"/>
            <a:ext cx="831528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how IP multicast routing does Reverse Path Forwarding (R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IP address of a source of an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720" y="42800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pf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720" y="393552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95360" y="2654280"/>
            <a:ext cx="3416400" cy="2793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943280"/>
            <a:ext cx="2514600" cy="2664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ip pim 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3080" y="1720800"/>
            <a:ext cx="8458200" cy="434340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P4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pim 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: 224.1.2.3, RP: 10.127.0.7, uptime 00:00:20, expires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4-2#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ow ip pim rp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IM Group-to-RP Mapp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 224.0.1.39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 10.127.0.7 (NA-1), 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fo source: local, via Auto-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ptime: 00:00:21, expires: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 224.0.1.40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 10.127.0.7 (NA-1), 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fo source: local, via Auto-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ptime: 00:00:21, expires: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: 224.0.0.0/4,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: 10.127.0.7 (NA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7:33:32Z</dcterms:created>
  <dc:creator> </dc:creator>
  <dc:description/>
  <dc:language>en-US</dc:language>
  <cp:lastModifiedBy>whccie</cp:lastModifiedBy>
  <dcterms:modified xsi:type="dcterms:W3CDTF">2007-01-17T09:06:33Z</dcterms:modified>
  <cp:revision>23</cp:revision>
  <dc:subject/>
  <dc:title>Implementing Multicast</dc:title>
</cp:coreProperties>
</file>