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EF0-CB2C-4343-8287-522B24AA14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multicast supports numerous critical applications within an enterpr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sues related to multicast frame flooding at the Ethernet level are resolved with IGMP snooping and CGM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 multicast routing protocols are PIM-DM, PIM-SM, and PIM sparse-dense mo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 is implemented at the interface lev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2:36:46Z</dcterms:created>
  <dc:creator> </dc:creator>
  <dc:description/>
  <dc:language>en-US</dc:language>
  <cp:lastModifiedBy>whccie</cp:lastModifiedBy>
  <dcterms:modified xsi:type="dcterms:W3CDTF">2007-01-17T09:07:25Z</dcterms:modified>
  <cp:revision>7</cp:revision>
  <dc:subject/>
  <dc:title>Module Summary</dc:title>
</cp:coreProperties>
</file>