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5DF2CE9-EE63-4C1C-BB8C-17D35833041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963960" y="-1440"/>
            <a:ext cx="3036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3240" y="-1440"/>
            <a:ext cx="3033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81240" y="571680"/>
            <a:ext cx="4444920" cy="33336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75880" y="4052520"/>
            <a:ext cx="5265720" cy="43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Implementing IPv6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Introducing IPv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Why Do We Need a Larger Address Spac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78000"/>
          </a:bodyPr>
          <a:p>
            <a:pPr lvl="1" marL="267480" indent="-178200">
              <a:lnSpc>
                <a:spcPct val="90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Internet populatio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34600" indent="-178200">
              <a:lnSpc>
                <a:spcPct val="90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Approximately 973 million users in November 2005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34600" indent="-178200">
              <a:lnSpc>
                <a:spcPct val="90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Emerging population and geopolitical and address spac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178200">
              <a:lnSpc>
                <a:spcPct val="90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Mobile user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34600" indent="-178200">
              <a:lnSpc>
                <a:spcPct val="90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PDA, pen-tablet, notepad, and so on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34600" indent="-178200">
              <a:lnSpc>
                <a:spcPct val="90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Approximately 20 million in 2004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178200">
              <a:lnSpc>
                <a:spcPct val="90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Mobile phone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34600" indent="-178200">
              <a:lnSpc>
                <a:spcPct val="90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Already 1 billion mobile phones delivered by the industry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178200">
              <a:lnSpc>
                <a:spcPct val="90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34600" indent="-178200">
              <a:lnSpc>
                <a:spcPct val="90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1 billion automobiles forecast for 2008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34600" indent="-178200">
              <a:lnSpc>
                <a:spcPct val="90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Internet access in planes – Example: Lufthansa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178200">
              <a:lnSpc>
                <a:spcPct val="90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Consumer device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34600" indent="-178200">
              <a:lnSpc>
                <a:spcPct val="90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Sony mandated that all its products be IPv6-enabled by 2005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34600" indent="-178200">
              <a:lnSpc>
                <a:spcPct val="90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Billions of home and industrial appliance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Arial"/>
              </a:rPr>
              <a:t>IPv6 Advanced Featur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5200" y="1636560"/>
            <a:ext cx="38941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Larger address sp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Global reachability and flexi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Aggreg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Multihom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Autoconfigu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Plug-and-pl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End to end without NAT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Renumbe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01960" y="1636560"/>
            <a:ext cx="38941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Simpler hea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Routing efficien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Performance and forwarding rate scal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No broadca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No checksu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Extension head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Flow label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Arial"/>
              </a:rPr>
              <a:t>IPv6 Advanced Features (C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5200" y="1636560"/>
            <a:ext cx="38941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bility and secur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obile IP RFC-complia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Psec mandator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or native) for IPv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01960" y="1636560"/>
            <a:ext cx="38941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Transi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ich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Dual st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6to4 tunn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700680" cy="19382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Arial"/>
              </a:rPr>
              <a:t>Larger Address Spa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1560" y="3530520"/>
            <a:ext cx="7940880" cy="2844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v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32 bits or 4 bytes l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4,200,000,000 possible addressable no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v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28 bits or 16 bytes: four times the bits of IPv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3.4 *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3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possible addressable no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340,282,366,920,938,463,374,607,432,768,211,4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 *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addresses per pers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70080" y="5302080"/>
            <a:ext cx="2836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35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70080" y="5626080"/>
            <a:ext cx="2836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35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70080" y="5969160"/>
            <a:ext cx="2836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35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0080" y="4273560"/>
            <a:ext cx="2836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35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31760" y="1535040"/>
            <a:ext cx="7078680" cy="33544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500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Arial"/>
              </a:rPr>
              <a:t>Larger Address Space Enable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Address Aggreg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5038560"/>
            <a:ext cx="8458200" cy="1285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ggregation of prefixes announced in the global routing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fficient and scalable rou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mproved bandwidth and functionality for user traff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v6 is a powerful enhancement to IPv4. Features that offer functional improvement include a larger address space, simplified header, and mobility and securit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v6 increases the number of address bits by a factor of four, from 32 to 12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6:14:29Z</dcterms:created>
  <dc:creator>Cisco User</dc:creator>
  <dc:description/>
  <dc:language>en-US</dc:language>
  <cp:lastModifiedBy>whccie</cp:lastModifiedBy>
  <dcterms:modified xsi:type="dcterms:W3CDTF">2007-01-17T09:09:15Z</dcterms:modified>
  <cp:revision>187</cp:revision>
  <dc:subject/>
  <dc:title>Objectives</dc:title>
</cp:coreProperties>
</file>