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9984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1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2"/>
          </p:nvPr>
        </p:nvSpPr>
        <p:spPr>
          <a:xfrm>
            <a:off x="-360" y="8805600"/>
            <a:ext cx="303228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3"/>
          </p:nvPr>
        </p:nvSpPr>
        <p:spPr>
          <a:xfrm>
            <a:off x="3963600" y="8805600"/>
            <a:ext cx="303228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55D289D-AB44-4D1A-9F3A-01C45EC7F656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963960" y="-1440"/>
            <a:ext cx="303696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-3240" y="-1440"/>
            <a:ext cx="3033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281240" y="571680"/>
            <a:ext cx="4444920" cy="33336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875880" y="4052520"/>
            <a:ext cx="5265720" cy="4376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4044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532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556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4044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532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55200" y="225000"/>
            <a:ext cx="81457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4044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532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5556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4044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532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5200" y="225000"/>
            <a:ext cx="81457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228680"/>
          </a:xfrm>
          <a:prstGeom prst="rect">
            <a:avLst/>
          </a:prstGeom>
          <a:solidFill>
            <a:srgbClr val="3067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lnSpc>
                <a:spcPct val="9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lnSpc>
                <a:spcPct val="9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 rot="10800000">
            <a:off x="8756640" y="-9720"/>
            <a:ext cx="387360" cy="377640"/>
          </a:xfrm>
          <a:prstGeom prst="rtTriangl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061480" y="6377040"/>
            <a:ext cx="1082520" cy="480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454120"/>
            <a:ext cx="9144000" cy="4403880"/>
          </a:xfrm>
          <a:prstGeom prst="rect">
            <a:avLst/>
          </a:prstGeom>
          <a:solidFill>
            <a:srgbClr val="3067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55200" y="2951280"/>
            <a:ext cx="77979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rcRect l="0" t="13669" r="0" b="64133"/>
          <a:stretch/>
        </p:blipFill>
        <p:spPr>
          <a:xfrm>
            <a:off x="0" y="0"/>
            <a:ext cx="9140760" cy="25369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342720" algn="ctr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 algn="ctr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228600" algn="ctr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 algn="ctr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55200" y="2951280"/>
            <a:ext cx="77979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Implementing IPv6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55560" y="3606840"/>
            <a:ext cx="78026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Defining IPv6 Address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476440" y="2076480"/>
            <a:ext cx="4381560" cy="25909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0" y="0"/>
            <a:ext cx="9144000" cy="155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49400" y="1447920"/>
            <a:ext cx="8843760" cy="20048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fr-CA" sz="3000" spc="-1" strike="noStrike">
                <a:solidFill>
                  <a:srgbClr val="ffffff"/>
                </a:solidFill>
                <a:latin typeface="Arial"/>
              </a:rPr>
              <a:t>Simple and Efficient Head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76480" y="3929040"/>
            <a:ext cx="6519600" cy="2052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 simpler and more efficient header mea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64-bit aligned fields and fewer fiel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Hardware-based, efficient process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mproved routing efficiency and performa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Faster forwarding rate with better scalabi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85840" y="1494000"/>
            <a:ext cx="8537400" cy="47718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IPv4 and IPv6 Header Compariso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100160" y="1743120"/>
            <a:ext cx="6773760" cy="26226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fr-CA" sz="3000" spc="-1" strike="noStrike">
                <a:solidFill>
                  <a:srgbClr val="ffffff"/>
                </a:solidFill>
                <a:latin typeface="Arial"/>
              </a:rPr>
              <a:t>IPv6 Extension Header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55560" y="4481640"/>
            <a:ext cx="7940880" cy="17683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Simpler and more efficient header mea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Arial"/>
              </a:rPr>
              <a:t>IPv6 has extension header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Arial"/>
              </a:rPr>
              <a:t>It handles the options more efficiently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Arial"/>
              </a:rPr>
              <a:t>It enables faster forwarding rate and end nodes processing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723960" y="3708360"/>
            <a:ext cx="7467480" cy="237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IPv6 Address Representatio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47640" y="1650960"/>
            <a:ext cx="81914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79000"/>
          </a:bodyPr>
          <a:p>
            <a:pPr indent="0">
              <a:lnSpc>
                <a:spcPct val="95000"/>
              </a:lnSpc>
              <a:spcBef>
                <a:spcPts val="913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宋体"/>
              </a:rPr>
              <a:t>Format: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270720" indent="-180360">
              <a:lnSpc>
                <a:spcPct val="95000"/>
              </a:lnSpc>
              <a:spcBef>
                <a:spcPts val="737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Arial"/>
                <a:ea typeface="宋体"/>
              </a:rPr>
              <a:t>x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0" i="1" lang="en-US" sz="1700" spc="-1" strike="noStrike">
                <a:solidFill>
                  <a:srgbClr val="000000"/>
                </a:solidFill>
                <a:latin typeface="Arial"/>
                <a:ea typeface="宋体"/>
              </a:rPr>
              <a:t>x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0" i="1" lang="en-US" sz="1700" spc="-1" strike="noStrike">
                <a:solidFill>
                  <a:srgbClr val="000000"/>
                </a:solidFill>
                <a:latin typeface="Arial"/>
                <a:ea typeface="宋体"/>
              </a:rPr>
              <a:t>x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0" i="1" lang="en-US" sz="1700" spc="-1" strike="noStrike">
                <a:solidFill>
                  <a:srgbClr val="000000"/>
                </a:solidFill>
                <a:latin typeface="Arial"/>
                <a:ea typeface="宋体"/>
              </a:rPr>
              <a:t>x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0" i="1" lang="en-US" sz="1700" spc="-1" strike="noStrike">
                <a:solidFill>
                  <a:srgbClr val="000000"/>
                </a:solidFill>
                <a:latin typeface="Arial"/>
                <a:ea typeface="宋体"/>
              </a:rPr>
              <a:t>x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0" i="1" lang="en-US" sz="1700" spc="-1" strike="noStrike">
                <a:solidFill>
                  <a:srgbClr val="000000"/>
                </a:solidFill>
                <a:latin typeface="Arial"/>
                <a:ea typeface="宋体"/>
              </a:rPr>
              <a:t>x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0" i="1" lang="en-US" sz="1700" spc="-1" strike="noStrike">
                <a:solidFill>
                  <a:srgbClr val="000000"/>
                </a:solidFill>
                <a:latin typeface="Arial"/>
                <a:ea typeface="宋体"/>
              </a:rPr>
              <a:t>x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0" i="1" lang="en-US" sz="1700" spc="-1" strike="noStrike">
                <a:solidFill>
                  <a:srgbClr val="000000"/>
                </a:solidFill>
                <a:latin typeface="Arial"/>
                <a:ea typeface="宋体"/>
              </a:rPr>
              <a:t>x,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宋体"/>
              </a:rPr>
              <a:t>where </a:t>
            </a:r>
            <a:r>
              <a:rPr b="0" i="1" lang="en-US" sz="1700" spc="-1" strike="noStrike">
                <a:solidFill>
                  <a:srgbClr val="000000"/>
                </a:solidFill>
                <a:latin typeface="Arial"/>
                <a:ea typeface="宋体"/>
              </a:rPr>
              <a:t>x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宋体"/>
              </a:rPr>
              <a:t>is a 16-bit hexadecimal field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541440" indent="-180360">
              <a:lnSpc>
                <a:spcPct val="95000"/>
              </a:lnSpc>
              <a:spcBef>
                <a:spcPts val="737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宋体"/>
              </a:rPr>
              <a:t>Case-insensitive for hexadecimal A, B, C, D, E, and F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270720" indent="-180360">
              <a:lnSpc>
                <a:spcPct val="95000"/>
              </a:lnSpc>
              <a:spcBef>
                <a:spcPts val="737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宋体"/>
              </a:rPr>
              <a:t>Leading zeros in a field are optional: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541440" indent="-180360">
              <a:lnSpc>
                <a:spcPct val="95000"/>
              </a:lnSpc>
              <a:spcBef>
                <a:spcPts val="737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宋体"/>
              </a:rPr>
              <a:t>2031</a:t>
            </a:r>
            <a:r>
              <a:rPr b="1" lang="en-US" sz="1700" spc="-1" strike="noStrike">
                <a:solidFill>
                  <a:srgbClr val="b92b38"/>
                </a:solidFill>
                <a:latin typeface="Arial"/>
                <a:ea typeface="宋体"/>
              </a:rPr>
              <a:t>:0: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宋体"/>
              </a:rPr>
              <a:t>130F</a:t>
            </a:r>
            <a:r>
              <a:rPr b="1" lang="en-US" sz="1700" spc="-1" strike="noStrike">
                <a:solidFill>
                  <a:srgbClr val="b92b38"/>
                </a:solidFill>
                <a:latin typeface="Arial"/>
                <a:ea typeface="宋体"/>
              </a:rPr>
              <a:t>:0:0:9C0: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宋体"/>
              </a:rPr>
              <a:t>876A:130B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270720" indent="-180360">
              <a:lnSpc>
                <a:spcPct val="95000"/>
              </a:lnSpc>
              <a:spcBef>
                <a:spcPts val="737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宋体"/>
              </a:rPr>
              <a:t>Successive fields of 0 can be represented as ::, but only once per address.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270720" indent="0">
              <a:lnSpc>
                <a:spcPct val="95000"/>
              </a:lnSpc>
              <a:spcBef>
                <a:spcPts val="737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宋体"/>
              </a:rPr>
              <a:t>Examples: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541440" indent="-180360">
              <a:lnSpc>
                <a:spcPct val="95000"/>
              </a:lnSpc>
              <a:spcBef>
                <a:spcPts val="737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宋体"/>
              </a:rPr>
              <a:t>2031:0000:130F:0000:0000:09C0:876A:130B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541440" indent="-180360">
              <a:lnSpc>
                <a:spcPct val="95000"/>
              </a:lnSpc>
              <a:spcBef>
                <a:spcPts val="737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宋体"/>
              </a:rPr>
              <a:t>2031:0:130f</a:t>
            </a:r>
            <a:r>
              <a:rPr b="1" lang="en-US" sz="1700" spc="-1" strike="noStrike">
                <a:solidFill>
                  <a:srgbClr val="b92b38"/>
                </a:solidFill>
                <a:latin typeface="Arial"/>
                <a:ea typeface="宋体"/>
              </a:rPr>
              <a:t>::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宋体"/>
              </a:rPr>
              <a:t>9c0:876a:130b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541440" indent="-180360">
              <a:lnSpc>
                <a:spcPct val="95000"/>
              </a:lnSpc>
              <a:spcBef>
                <a:spcPts val="737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宋体"/>
              </a:rPr>
              <a:t>2031</a:t>
            </a:r>
            <a:r>
              <a:rPr b="1" lang="en-US" sz="1700" spc="-1" strike="noStrike">
                <a:solidFill>
                  <a:srgbClr val="b92b38"/>
                </a:solidFill>
                <a:latin typeface="Arial"/>
                <a:ea typeface="宋体"/>
              </a:rPr>
              <a:t>::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宋体"/>
              </a:rPr>
              <a:t>130f</a:t>
            </a:r>
            <a:r>
              <a:rPr b="1" lang="en-US" sz="1700" spc="-1" strike="noStrike">
                <a:solidFill>
                  <a:srgbClr val="b92b38"/>
                </a:solidFill>
                <a:latin typeface="Arial"/>
                <a:ea typeface="宋体"/>
              </a:rPr>
              <a:t>::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宋体"/>
              </a:rPr>
              <a:t>9c0:876a:130b—incorrect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541440" indent="-180360">
              <a:lnSpc>
                <a:spcPct val="95000"/>
              </a:lnSpc>
              <a:spcBef>
                <a:spcPts val="737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宋体"/>
              </a:rPr>
              <a:t>FF01:0:0:0:0:0:0:1    FF01::1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541440" indent="-180360">
              <a:lnSpc>
                <a:spcPct val="95000"/>
              </a:lnSpc>
              <a:spcBef>
                <a:spcPts val="737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宋体"/>
              </a:rPr>
              <a:t>0:0:0:0:0:0:0:1    ::1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541440" indent="-180360">
              <a:lnSpc>
                <a:spcPct val="95000"/>
              </a:lnSpc>
              <a:spcBef>
                <a:spcPts val="737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宋体"/>
              </a:rPr>
              <a:t>0:0:0:0:0:0:0:0    ::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71680" y="52243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080" rIns="82080" tIns="-41040" bIns="-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895480" y="55738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080" rIns="82080" tIns="-41040" bIns="-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95480" y="59119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080" rIns="82080" tIns="-41040" bIns="-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fr-CA" sz="3000" spc="-1" strike="noStrike">
                <a:solidFill>
                  <a:srgbClr val="ffffff"/>
                </a:solidFill>
                <a:latin typeface="Arial"/>
              </a:rPr>
              <a:t>IPv6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Address Types</a:t>
            </a:r>
            <a:r>
              <a:rPr b="1" lang="fr-CA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55560" y="15699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76000"/>
          </a:bodyPr>
          <a:p>
            <a:pPr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Arial"/>
              </a:rPr>
              <a:t>IPv6 use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173520">
              <a:lnSpc>
                <a:spcPct val="90000"/>
              </a:lnSpc>
              <a:spcBef>
                <a:spcPts val="700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Arial"/>
              </a:rPr>
              <a:t>Unic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520920" indent="-173520">
              <a:lnSpc>
                <a:spcPct val="90000"/>
              </a:lnSpc>
              <a:spcBef>
                <a:spcPts val="700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Arial"/>
              </a:rPr>
              <a:t>Address is for a single interfac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520920" indent="-173520">
              <a:lnSpc>
                <a:spcPct val="90000"/>
              </a:lnSpc>
              <a:spcBef>
                <a:spcPts val="700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Arial"/>
              </a:rPr>
              <a:t>IPv6 has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several</a:t>
            </a:r>
            <a:r>
              <a:rPr b="1" lang="fr-CA" sz="1600" spc="-1" strike="noStrike">
                <a:solidFill>
                  <a:srgbClr val="000000"/>
                </a:solidFill>
                <a:latin typeface="Arial"/>
              </a:rPr>
              <a:t> types (for example, global and IPv4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mapped</a:t>
            </a:r>
            <a:r>
              <a:rPr b="1" lang="fr-CA" sz="16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173520">
              <a:lnSpc>
                <a:spcPct val="90000"/>
              </a:lnSpc>
              <a:spcBef>
                <a:spcPts val="700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Arial"/>
              </a:rPr>
              <a:t>Multic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520920" indent="-173520">
              <a:lnSpc>
                <a:spcPct val="90000"/>
              </a:lnSpc>
              <a:spcBef>
                <a:spcPts val="700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Arial"/>
              </a:rPr>
              <a:t>One-to-man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520920" indent="-173520">
              <a:lnSpc>
                <a:spcPct val="90000"/>
              </a:lnSpc>
              <a:spcBef>
                <a:spcPts val="700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Arial"/>
              </a:rPr>
              <a:t>Enables more efficient use of the networ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520920" indent="-173520">
              <a:lnSpc>
                <a:spcPct val="90000"/>
              </a:lnSpc>
              <a:spcBef>
                <a:spcPts val="700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Arial"/>
              </a:rPr>
              <a:t>Uses a larger address ran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173520">
              <a:lnSpc>
                <a:spcPct val="90000"/>
              </a:lnSpc>
              <a:spcBef>
                <a:spcPts val="700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Arial"/>
              </a:rPr>
              <a:t>Anyc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520920" indent="-173520">
              <a:lnSpc>
                <a:spcPct val="90000"/>
              </a:lnSpc>
              <a:spcBef>
                <a:spcPts val="700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Arial"/>
              </a:rPr>
              <a:t>One-to-nearest (allocated from unicast address spac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520920" indent="-173520">
              <a:lnSpc>
                <a:spcPct val="90000"/>
              </a:lnSpc>
              <a:spcBef>
                <a:spcPts val="700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Arial"/>
              </a:rPr>
              <a:t>Multiple devices share the same addres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520920" indent="-173520">
              <a:lnSpc>
                <a:spcPct val="90000"/>
              </a:lnSpc>
              <a:spcBef>
                <a:spcPts val="700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Arial"/>
              </a:rPr>
              <a:t>All anycast nodes should provide uniform servic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520920" indent="-173520">
              <a:lnSpc>
                <a:spcPct val="90000"/>
              </a:lnSpc>
              <a:spcBef>
                <a:spcPts val="700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Arial"/>
              </a:rPr>
              <a:t>Source devices send packets to anycast addres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520920" indent="-173520">
              <a:lnSpc>
                <a:spcPct val="90000"/>
              </a:lnSpc>
              <a:spcBef>
                <a:spcPts val="700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Arial"/>
              </a:rPr>
              <a:t>Routers decide on closest device to reach that destination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520920" indent="-173520">
              <a:lnSpc>
                <a:spcPct val="90000"/>
              </a:lnSpc>
              <a:spcBef>
                <a:spcPts val="700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Arial"/>
              </a:rPr>
              <a:t>Suitable for load balancing and content delivery service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373040" y="1447920"/>
            <a:ext cx="6396120" cy="169524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48844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IPv6 Global Unicast (and Anycast)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Addresse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2120" y="3276720"/>
            <a:ext cx="7619760" cy="30477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788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IPv6 has same address format for global unicast and for anycast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612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Uses a global routing prefix—a structure that enables aggregation upward, eventually to the ISP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612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 single interface may be assigned multiple addresses of any type (unicast, anycast, multicast)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612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Every IPv6-enabled interface must contain at least one loopback (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::1/128)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 and one link-local address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612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Optionally, every interface can have multiple unique local and global addresses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612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nycast address is a global unicast address assigned to a set of interfaces (typically on different nodes)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612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IPv6 anycast is used for a network multihomed to several ISPs that have multiple connections to each other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IPv6 Unicast  Addressing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Pv6 addressing rules are covered by multiple RFC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rchitecture defined by RFC 4291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Unicast: One to on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Globa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Link local (FE80::/1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 single interface may be assigned multiple IPv6 addresses of any type: unicast, anycast, or multicas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Summary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 IPv6 header has 40 octets and is simpler and more efficient than the IPv4 header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Pv6 addresses use 16-bit hexadecimal number fields separated by colons (:) to represent the 128-bit addressing forma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 three types of IPv6 addresses are unicast, multicast, and anycas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9T16:14:29Z</dcterms:created>
  <dc:creator>Cisco User</dc:creator>
  <dc:description/>
  <dc:language>en-US</dc:language>
  <cp:lastModifiedBy>whccie</cp:lastModifiedBy>
  <dcterms:modified xsi:type="dcterms:W3CDTF">2007-01-17T09:10:08Z</dcterms:modified>
  <cp:revision>216</cp:revision>
  <dc:subject/>
  <dc:title>Objectives</dc:title>
</cp:coreProperties>
</file>