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6B8-30D8-4F39-B446-1B6D8CCBE9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has numerous features and functions that make it a superior alternative to IPv4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provides a larger address space in a hexadecimal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v6 addresses can be obtained by IPv6 hosts dynamically utilizing autoconfigu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will require new versions of RIP, EIGRP, IS-IS, BGP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OSP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4-to-IPv6 transition methodologies will include dual stack and tunneling, with 6to4 tunneling being preval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7:34:31Z</dcterms:created>
  <dc:creator> </dc:creator>
  <dc:description/>
  <dc:language>en-US</dc:language>
  <cp:lastModifiedBy>whccie</cp:lastModifiedBy>
  <dcterms:modified xsi:type="dcterms:W3CDTF">2007-01-17T09:18:44Z</dcterms:modified>
  <cp:revision>12</cp:revision>
  <dc:subject/>
  <dc:title>Module 8 Summary</dc:title>
</cp:coreProperties>
</file>