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53C-7044-4959-9BED-3DF8DBDB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E69-9788-4432-970D-446AD4DC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EBD-FCCD-4A6A-AEE6-6C16883D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966-6AB9-4F2A-A7DF-E815ABCA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F2C4-3493-469B-B397-6CC9D572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4007-9FF4-4B26-B74A-C873D3F2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0A5B-3E6A-48D4-8D50-F7E0D0E5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6471-F45B-4638-9A9C-447B10A7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32AF-F5E3-44B0-BDE6-9E40E54C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1110-5980-4859-B307-AAFEA5CC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C43F-6C48-4002-A6D1-5619538B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AF6-9D7A-442C-AF98-4AC48EF5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FE93-D6E8-4252-B24A-32D35D2D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AFCD-488F-4287-98A1-8C2C894E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129C-9D06-4B45-9FAD-E2A43554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AC7A-0EAB-4737-ADEE-BE64C6C3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5326-F77F-4824-A8AF-EBED4F4F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FAA1-73C6-43D0-A6E6-5A28761E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A96D-86C3-4879-9AD1-9DF8F912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AB56-96CD-4E02-AF00-CB714B0E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D8BDD-A6FC-4EC2-B172-6BCF0A2A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85DCC-FCEF-4128-8D59-547A632B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B84-FB9D-4804-8AFF-AA19D94E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F84E-92A1-4E71-B686-31FC3F6F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09DF-CF59-4203-B181-6B103717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132F-F93C-4A8D-8D48-8AD5C6D2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4384-1BF1-4CA1-80E8-7D85C55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E7EC-D4E2-4EB4-BA46-030C5909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F09A7-A38E-4C9B-A3B8-535D6E8B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3C0F-1685-4701-9E9D-10F3D5A6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53C-86AE-47BA-B352-11BD688C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1E3-AE6C-4A49-95A9-E853FB2E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F81-9C64-4D14-ABDA-DBA80F16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95E-308C-4679-A1ED-CB2E83D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6F7-C3F3-4460-AB51-5E5350BB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E50-4C61-4C5E-A248-525121F9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A30B-A3D9-4DF9-8D42-22E22C38DE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716A-F202-4AA0-8BC3-3688141DC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5647-9FEC-49FC-A8D9-7CE34FF3B7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7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7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5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9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7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7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7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7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99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99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23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7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15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7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9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7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04:26:34Z</dcterms:created>
  <dc:creator/>
  <dc:description/>
  <dc:language>en-US</dc:language>
  <cp:lastModifiedBy>i-hongys</cp:lastModifiedBy>
  <dcterms:modified xsi:type="dcterms:W3CDTF">2000-12-21T04:26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4</vt:r8>
  </property>
</Properties>
</file>