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C6C4-5ABF-4AA7-8150-CC148613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AA96-6D0D-4423-89EA-EC27AF4E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7AEB-96D7-42E2-AD47-7851AB6B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F9D9-75D7-4976-8648-7407FE88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8589-04A9-410F-95FF-DC917B72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FFC5-D6E5-493F-B5B3-A974B526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CFD7-7675-4402-A781-0FFA18C7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F3AE-F93C-4409-B14D-B4161E5C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BC54-14F7-4F60-8300-5FBBD9B7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2390-18DB-4845-92C0-CAB48557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9AD5-8A8E-4241-843B-50F235C3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A535-06E1-431D-8858-F0FC2E3D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BF4A-7471-4153-BBE5-37B10A4AC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08:04:09Z</dcterms:created>
  <dc:creator/>
  <dc:description/>
  <dc:language>en-US</dc:language>
  <cp:lastModifiedBy>WIN7EN</cp:lastModifiedBy>
  <dcterms:modified xsi:type="dcterms:W3CDTF">2010-06-25T08:04:52Z</dcterms:modified>
  <cp:revision>1</cp:revision>
  <dc:subject/>
  <dc:title>Slide 1</dc:title>
</cp:coreProperties>
</file>