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8A8-05FF-41A3-A033-68416C3F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C9A-9475-4144-B192-3651E56A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F5C-C5B1-41C8-9FAA-A312E675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CB7-DF80-4C1A-A4DA-A43F2BFA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36C-3A70-4BF7-BC2C-28756428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2C4-A512-4324-B357-42C01035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822-6C04-44A1-8172-173BDC9B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FBA-1984-490E-9B6E-4D2BF5FC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96C-A690-41F1-B2D4-9BDD6DCE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DFF-217F-47C0-BCC6-255FEED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417-C1E0-4168-9CD0-10A6FF4F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258-FF5F-4869-8D8D-C812032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27A3-F297-42B2-95FE-1D2BC23D8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8:04:09Z</dcterms:created>
  <dc:creator/>
  <dc:description/>
  <dc:language>en-US</dc:language>
  <cp:lastModifiedBy>WIN7EN</cp:lastModifiedBy>
  <dcterms:modified xsi:type="dcterms:W3CDTF">2010-06-25T08:04:52Z</dcterms:modified>
  <cp:revision>1</cp:revision>
  <dc:subject/>
  <dc:title>Slide 1</dc:title>
</cp:coreProperties>
</file>