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11.wmf" ContentType="image/x-wmf"/>
  <Override PartName="/ppt/media/image6.wmf" ContentType="image/x-wmf"/>
  <Override PartName="/ppt/media/image47.jpeg" ContentType="image/jpeg"/>
  <Override PartName="/ppt/media/image7.png" ContentType="image/png"/>
  <Override PartName="/ppt/media/image37.png" ContentType="image/png"/>
  <Override PartName="/ppt/media/image36.png" ContentType="image/png"/>
  <Override PartName="/ppt/media/image44.jpeg" ContentType="image/jpeg"/>
  <Override PartName="/ppt/media/image34.png" ContentType="image/png"/>
  <Override PartName="/ppt/media/image49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52.jpeg" ContentType="image/jpeg"/>
  <Override PartName="/ppt/media/image14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30.png" ContentType="image/png"/>
  <Override PartName="/ppt/media/image13.png" ContentType="image/png"/>
  <Override PartName="/ppt/media/image54.jpeg" ContentType="image/jpeg"/>
  <Override PartName="/ppt/media/image12.wmf" ContentType="image/x-wmf"/>
  <Override PartName="/ppt/media/image27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5DE1-7D62-4161-A042-1CE8D239440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E3B5-C1C2-4CF6-83A9-6CD42F8FC97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病毒防治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存在的媒体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网络传播感染网络中的可执行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计算机中的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启动扇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和硬盘的系统引导扇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传染的方法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驻留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驻留内存，并一直处于激活状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驻留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得到机会激活时并不感染计算机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危害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害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磁盘的可用空间 ，不影响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内存、显示图像、发出声音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成严重的错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常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程序、破坏数据、清除系统内存区和操作系统中重要的信息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算法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伴随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改变文件本身，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的伴随体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蠕虫”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计算机网络传播，占用系统内存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生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型病毒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诡秘型病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型病毒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执行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伴随，批次型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灵，多形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成器，变体机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发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，蠕虫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窗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宏病毒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连网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爪哇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邮件炸弹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今阶段的新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防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取安全措施预防病毒侵入计算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指定环境中准确地报出病毒名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病毒类型对感染对象的修改，并按照病毒的感染特性所进行的恢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恢复过程不能破坏未被病毒修改的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防治的评价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防病毒侵入计算机系统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准确地、实时地监测预警，清除 、隔离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现和追踪病毒来源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毒率和误报率来评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毒能力是指从感染对象中清除病毒，恢复被病毒感染前的原始信息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毒率来评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磁盘的引导扇区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后引导记录会发生变化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计算机的空余内存空间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内存分配情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运行时设定的时间、日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盘无法读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盘无法读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文件正常，但经常无法启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了解什么是病毒以及病毒的危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掌握预防计算机病毒的策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病毒防治具体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杀毒软件的部署及使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不带病毒的硬盘引导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能够实时监控引导扇区的防杀病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常用能够查杀引导型病毒的防杀病毒软件进行检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传染磁盘上的可执行文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并驻留内存伺机传染其他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文件的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染后长度、日期和时间多发生变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型病毒长度、日期和时间不发生变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同一目录列的目录文件的总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引导扇区被不名原因破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文件长度发生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外来文件经常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无法正常启动或经常出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速度变慢、显示内存不足或打印机不正常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带有写保护的软盘拷贝文件提示有写保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并使用有实时监控文件系统功能的防杀病毒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更新查杀计算机病毒引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常使用防杀计算机病毒软件对系统进行计算机病毒检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预防方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系统文件、保密的数据在没有计算机病毒的环境下经常备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影响系统正常工作的情况下对系统文件设置最低的访问权限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文件夹窗口中的缺省属性 ，要求显示所有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寄存在文档或模板的宏中的计算机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宏病毒被激活后驻留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板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染性较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00000">
            <a:off x="3891240" y="327636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  <a:ea typeface="PMingLiU"/>
              </a:rPr>
              <a:t>WordBa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7880" y="3886200"/>
            <a:ext cx="128592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939000" y="2819520"/>
          <a:ext cx="1954080" cy="24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9000" y="2819520"/>
                    <a:ext cx="1954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048120" y="4419720"/>
          <a:ext cx="19126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4419720"/>
                    <a:ext cx="1912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0246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19800000">
            <a:off x="995760" y="38095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  <a:ea typeface="PMingLiU"/>
              </a:rPr>
              <a:t>Visual basic for Applications (VB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288120" cy="421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2357280" cy="4857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77640" y="2059560"/>
            <a:ext cx="55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Open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New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close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等自动宏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2200" y="2564280"/>
            <a:ext cx="57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Save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SaveAS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Exit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等文件操作宏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3280" y="3110400"/>
            <a:ext cx="45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AAZAO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PayLoad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之类的怪名称的宏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403280" y="29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39607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85880" y="385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不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419640" y="4292640"/>
            <a:ext cx="504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0400" y="385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不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2000" y="4221000"/>
            <a:ext cx="57600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识别方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不进行操作，退出却提示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档进行另存操作，却只能以模板方式进行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启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出现内存不足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使用过程中出现打印不正常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413000"/>
            <a:ext cx="4753080" cy="4706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68520" y="2708280"/>
            <a:ext cx="4824360" cy="3703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74240" y="18435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提示保存</a:t>
            </a:r>
            <a:r>
              <a:rPr b="1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Normal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模板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28880" y="220500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9080" y="378864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清理模板和加载项</a:t>
            </a:r>
            <a:r>
              <a:rPr b="1" lang="en-US" sz="28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88880" y="4076640"/>
            <a:ext cx="2016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1480" y="15238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rmal.do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属性为只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防病毒软件，启动该软件的实时扫描的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量不打开提示有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启用宏”的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病毒的识别和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是病毒主要的传播途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易打开不明来历的邮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设置“自动回信”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邮件过滤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00000" y="2565360"/>
          <a:ext cx="7390800" cy="2409120"/>
        </p:xfrm>
        <a:graphic>
          <a:graphicData uri="http://schemas.openxmlformats.org/drawingml/2006/table">
            <a:tbl>
              <a:tblPr/>
              <a:tblGrid>
                <a:gridCol w="3693240"/>
                <a:gridCol w="3697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第一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第二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个人计算机病毒防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计算机网络防病毒方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名称：瑞星杀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版本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类型：病毒防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平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9X/Me/NT/2000/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网站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risin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.c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270480" cy="448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5856120" cy="2047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5580000" y="2997360"/>
            <a:ext cx="1440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019640" y="2997360"/>
            <a:ext cx="865080" cy="86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安装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481720" cy="392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3563640" y="1916280"/>
            <a:ext cx="1655640" cy="43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51640" y="5157720"/>
            <a:ext cx="201600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启动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727760" cy="4033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1552680" cy="155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495880" cy="3357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59640" y="4941720"/>
            <a:ext cx="1014480" cy="10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工作窗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8560" cy="470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87600" y="1989000"/>
            <a:ext cx="3024000" cy="2500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090880" y="2060640"/>
            <a:ext cx="2595600" cy="3970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64160" y="2782800"/>
            <a:ext cx="2333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87240" y="3500280"/>
            <a:ext cx="40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8600" y="2756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病毒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00560" y="3692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查杀目标路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50880" y="5516640"/>
            <a:ext cx="2333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3520" y="529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查杀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996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6520" y="220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主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451240" y="2133720"/>
            <a:ext cx="3889080" cy="337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459240" y="2205000"/>
            <a:ext cx="243504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快速查杀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49440" y="1413000"/>
            <a:ext cx="6335640" cy="4599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 flipV="1">
            <a:off x="3276720" y="3715920"/>
            <a:ext cx="302400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4040" y="4435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指定扫描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1557360"/>
            <a:ext cx="122400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1440" y="1557360"/>
            <a:ext cx="1223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软件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38280" y="1413000"/>
            <a:ext cx="4200480" cy="460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473200" y="2060640"/>
            <a:ext cx="4186440" cy="4592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41880" y="1410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定时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45160" y="2347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监控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监控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120000" cy="3214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072120" cy="2708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5400720" cy="2408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24000" y="1557360"/>
            <a:ext cx="5616720" cy="4646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908000" y="1787400"/>
            <a:ext cx="4751640" cy="1860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2484360" y="3933720"/>
            <a:ext cx="489600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隔离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632720" cy="401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192720" cy="2363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71640" y="4411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宋体"/>
                <a:ea typeface="宋体"/>
              </a:rPr>
              <a:t>启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15760" y="53726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设置隔离区存储空间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杀毒软件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名称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rton Anti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版本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类型：病毒防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平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9X/Me/NT/2000/X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网站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symantec.c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个人计算机病毒防治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2720" y="1557360"/>
            <a:ext cx="5976720" cy="4346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413080" y="1268280"/>
            <a:ext cx="5810040" cy="4226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549440" y="1268280"/>
            <a:ext cx="6553080" cy="4764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052720" y="1628640"/>
            <a:ext cx="6480000" cy="47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veUpdate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791160" cy="1306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275840" y="1987200"/>
            <a:ext cx="41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安装完成后启动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Live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veUpdat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696000" cy="465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46200" y="1341360"/>
            <a:ext cx="7059600" cy="4908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266920" y="1486080"/>
            <a:ext cx="6696000" cy="465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042920" y="1197000"/>
            <a:ext cx="5761080" cy="400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2122560" y="1844640"/>
            <a:ext cx="6624720" cy="459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767640" y="1987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升级向导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4880" y="3787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查找更新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2520" y="508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选择更新组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orton Antiviru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杀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34960" y="1125360"/>
            <a:ext cx="6737400" cy="4818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722600" y="1700280"/>
            <a:ext cx="6264000" cy="405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164040" y="3284640"/>
            <a:ext cx="410508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8120" y="134136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本章的学习，将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是能够自我复制的一组计算机程序或者程序代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具有破坏性和传染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破坏行为有多种类型，一般可以依据破坏目标和攻击部位来区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发展是有规律的，经历了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阶段的发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防治应从防毒、查毒和解毒三方面来进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杀病毒软件是防毒、查毒和解毒最好的手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瑞星杀病毒软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on Antivirus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的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后功能能够正常启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中各任务的操作能够实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计算机病毒的概念和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病毒的分类及发展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计算机病毒的防范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种常见病毒的防范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个人版杀病毒软件的安装和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　　什么是计算机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华人民共和国计算机信息系统安全保护条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明确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“编制或者在计算机程序中插入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破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功能或者破坏数据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影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且能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我复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组计算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程序代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4937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506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自我复制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传染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破坏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0" y="3357720"/>
            <a:ext cx="1401480" cy="1114200"/>
            <a:chOff x="4572000" y="3357720"/>
            <a:chExt cx="1401480" cy="11142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572000" y="3357720"/>
              <a:ext cx="14014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793400" y="3649680"/>
              <a:ext cx="1073520" cy="56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1905120" cy="1790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940360" y="2708280"/>
            <a:ext cx="43200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4508640"/>
            <a:ext cx="432000" cy="57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43640" y="1989000"/>
            <a:ext cx="1039680" cy="1735200"/>
            <a:chOff x="6443640" y="1989000"/>
            <a:chExt cx="1039680" cy="173520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443640" y="1989000"/>
              <a:ext cx="79236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6568920" y="2444760"/>
              <a:ext cx="6066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6877080" y="2276640"/>
              <a:ext cx="60624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系统数据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内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扰系统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下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性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扰乱屏幕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04T02:31:58Z</dcterms:modified>
  <cp:revision>189</cp:revision>
  <dc:subject/>
  <dc:title>Understanding Basic HTML</dc:title>
</cp:coreProperties>
</file>