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E255-464A-4759-94B6-548A7B79639B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作为补充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 Engineering Task For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工程任务组 负责标准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协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每年开三次会，以讨论不断出现的项目、建议和标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由多个工作组组成，组成员在许多领域有丰富的经验。工作组有公开成员资格和参与权利。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DN W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主席控制各组的方向，并帮助它作出决定和提出生产性成果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rnet Corporation for Assigned Names &amp; Nu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(ICANN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互联网名称与地址分配机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ICANN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是一个致力于促进和管理一个国际承认的互联网域名和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地址分配体系的机构，总部设在美国加利福尼亚州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ph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（囊地鼠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网上的一种分布式文本检索服务，它使用一个分层的选单系统去显示信息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ph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客户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模式，允许用户访问网上多台主机中各种类型的信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在教学指导书中，说明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区别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人容易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l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混淆，而实际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l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将用户的计算机当成远端计算机的一台终端，用户在完成远程登陆后，具有远端计算机上的本地用户一样的权限。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给予用户这种地位，它只允许用户对远方计算机上的文件进行有限的操作，包括查看文件、交换文件以及改变文件目录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.PKU.edu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指的是北大计算机科学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4F48-0DE1-40EC-9FA8-786C14FFBED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FEE1-3922-4904-BC48-52870EEFD6B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应用层协议与应用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0" name=""/>
          <p:cNvGrpSpPr/>
          <p:nvPr/>
        </p:nvGrpSpPr>
        <p:grpSpPr>
          <a:xfrm>
            <a:off x="1127880" y="1913760"/>
            <a:ext cx="6467760" cy="4610880"/>
            <a:chOff x="1127880" y="1913760"/>
            <a:chExt cx="6467760" cy="4610880"/>
          </a:xfrm>
        </p:grpSpPr>
        <p:sp>
          <p:nvSpPr>
            <p:cNvPr id="2601" name=""/>
            <p:cNvSpPr/>
            <p:nvPr/>
          </p:nvSpPr>
          <p:spPr>
            <a:xfrm>
              <a:off x="6012000" y="3645000"/>
              <a:ext cx="1296720" cy="2808360"/>
            </a:xfrm>
            <a:prstGeom prst="ellipse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780000" y="3716280"/>
              <a:ext cx="1296720" cy="2808360"/>
            </a:xfrm>
            <a:prstGeom prst="ellipse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835280" y="3645000"/>
              <a:ext cx="1296720" cy="2808360"/>
            </a:xfrm>
            <a:prstGeom prst="ellipse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360" y="385272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KU.EDU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465720" y="3859200"/>
              <a:ext cx="19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SING.EDU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726160" y="385920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A.COM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127880" y="1913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各不相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名和主机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2268360" y="5157720"/>
            <a:ext cx="577800" cy="450720"/>
            <a:chOff x="2268360" y="5157720"/>
            <a:chExt cx="577800" cy="450720"/>
          </a:xfrm>
        </p:grpSpPr>
        <p:sp>
          <p:nvSpPr>
            <p:cNvPr id="2610" name=""/>
            <p:cNvSpPr/>
            <p:nvPr/>
          </p:nvSpPr>
          <p:spPr>
            <a:xfrm>
              <a:off x="2547720" y="535752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717280" y="538308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547720" y="535752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639520" y="534816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80840" y="521784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700000" y="522288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596680" y="523224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558880" y="536868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 flipV="1">
              <a:off x="2567880" y="538596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606400" y="539424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599920" y="537660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647440" y="53877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560320" y="538632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 flipV="1">
              <a:off x="2558880" y="537948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666520" y="543528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639520" y="5440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458800" y="537048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577600" y="54147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458800" y="541656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550600" y="54212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469960" y="538776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526840" y="537372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 flipV="1">
              <a:off x="2545560" y="537804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>
              <a:off x="2537640" y="537984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>
              <a:off x="2533320" y="538452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 flipV="1">
              <a:off x="2517120" y="539100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 flipV="1">
              <a:off x="2509560" y="539748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 flipV="1">
              <a:off x="2506320" y="540216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 flipV="1">
              <a:off x="2491560" y="540540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 flipV="1">
              <a:off x="2486880" y="541116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2572560" y="542916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2559960" y="542448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2534760" y="541332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2521800" y="540864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2509560" y="540360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2498400" y="539748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H="1">
              <a:off x="2485800" y="539244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29800" y="540864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>
              <a:off x="2612160" y="540216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2594880" y="539748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2577240" y="53910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>
              <a:off x="2561400" y="538452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2542320" y="537840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325240" y="516708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368080" y="52434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00120" y="5214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391840" y="520668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410920" y="5251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415960" y="52592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418840" y="523692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414160" y="523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403000" y="52178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360160" y="5213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56920" y="520992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298240" y="526392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496960" y="540684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547720" y="54147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538000" y="540864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545920" y="54226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65000" y="542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534760" y="54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541240" y="54244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71480" y="5421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74640" y="5379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544480" y="538632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488680" y="54086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522160" y="538452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534760" y="540216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52400" y="53910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555640" y="53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14240" y="53989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406240" y="539568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409480" y="5400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328480" y="529560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350800" y="528948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300040" y="528156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317320" y="5467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336400" y="555768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311200" y="515772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268360" y="540216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269800" y="541008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6516720" y="5157720"/>
            <a:ext cx="577800" cy="450720"/>
            <a:chOff x="6516720" y="5157720"/>
            <a:chExt cx="577800" cy="450720"/>
          </a:xfrm>
        </p:grpSpPr>
        <p:sp>
          <p:nvSpPr>
            <p:cNvPr id="2692" name=""/>
            <p:cNvSpPr/>
            <p:nvPr/>
          </p:nvSpPr>
          <p:spPr>
            <a:xfrm>
              <a:off x="6796080" y="535752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65640" y="538308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96080" y="535752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87880" y="534816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829200" y="521784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948360" y="522288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45040" y="523224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807240" y="536868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 flipV="1">
              <a:off x="6816240" y="538596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854760" y="539424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848280" y="537660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895800" y="53877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808680" y="538632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 flipV="1">
              <a:off x="6807240" y="537948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914880" y="543528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87880" y="5440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707160" y="537048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825960" y="54147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707160" y="541656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798960" y="54212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718320" y="538776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775200" y="537372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 flipV="1">
              <a:off x="6793920" y="537804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H="1" flipV="1">
              <a:off x="6786000" y="537984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H="1" flipV="1">
              <a:off x="6781680" y="538452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 flipV="1">
              <a:off x="6765480" y="539100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 flipV="1">
              <a:off x="6757920" y="539748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H="1" flipV="1">
              <a:off x="6754680" y="540216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6739920" y="540540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 flipV="1">
              <a:off x="6735240" y="541116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6820920" y="542916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6808320" y="542448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6783120" y="541332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6770160" y="540864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6757920" y="540360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6746760" y="539748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6734160" y="539244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H="1">
              <a:off x="6878160" y="540864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6860520" y="540216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>
              <a:off x="6843240" y="539748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6825600" y="53910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H="1">
              <a:off x="6809760" y="538452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6790680" y="537840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573600" y="516708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616440" y="52434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648480" y="5214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640200" y="520668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659280" y="5251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664320" y="52592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667200" y="523692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62520" y="523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651360" y="52178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608520" y="5213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605280" y="520992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546600" y="526392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745320" y="540684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796080" y="54147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786360" y="540864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794280" y="54226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813360" y="542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783120" y="54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789600" y="54244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19840" y="5421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723000" y="5379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92840" y="538632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37040" y="54086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70520" y="538452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83120" y="540216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800760" y="53910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804000" y="53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762600" y="53989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654600" y="539568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57840" y="5400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576840" y="529560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599160" y="528948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548400" y="528156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565680" y="5467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584760" y="555768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559560" y="515772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16720" y="540216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518160" y="541008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4356000" y="5157720"/>
            <a:ext cx="577800" cy="450720"/>
            <a:chOff x="4356000" y="5157720"/>
            <a:chExt cx="577800" cy="450720"/>
          </a:xfrm>
        </p:grpSpPr>
        <p:sp>
          <p:nvSpPr>
            <p:cNvPr id="2774" name=""/>
            <p:cNvSpPr/>
            <p:nvPr/>
          </p:nvSpPr>
          <p:spPr>
            <a:xfrm>
              <a:off x="4635360" y="535752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804920" y="538308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5360" y="535752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727160" y="534816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68480" y="521784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787640" y="522288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84320" y="523224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46520" y="536868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 flipV="1">
              <a:off x="4655520" y="538596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94040" y="539424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87560" y="537660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35080" y="53877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47960" y="538632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H="1" flipV="1">
              <a:off x="4646520" y="537948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54160" y="543528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27160" y="5440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546440" y="537048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65240" y="54147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546440" y="541656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38240" y="54212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57600" y="538776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14480" y="537372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4633200" y="537804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 flipV="1">
              <a:off x="4625280" y="537984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 flipV="1">
              <a:off x="4620960" y="538452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 flipV="1">
              <a:off x="4604760" y="539100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4597200" y="539748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 flipV="1">
              <a:off x="4593960" y="540216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 flipV="1">
              <a:off x="4579200" y="540540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 flipV="1">
              <a:off x="4574520" y="541116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4660200" y="542916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4647600" y="542448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H="1">
              <a:off x="4622400" y="541332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H="1">
              <a:off x="4609440" y="540864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4597200" y="540360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586040" y="539748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4573440" y="539244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4717440" y="540864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4699800" y="540216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4682520" y="539748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>
              <a:off x="4664880" y="53910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4649040" y="538452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4629960" y="537840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12880" y="516708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55720" y="52434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87760" y="5214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79480" y="520668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98560" y="5251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3600" y="52592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06480" y="523692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01800" y="523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490640" y="52178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447800" y="5213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4560" y="520992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385880" y="526392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584600" y="540684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635360" y="54147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25640" y="540864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633560" y="54226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52640" y="542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22400" y="54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28880" y="54244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59120" y="5421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62280" y="5379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32120" y="538632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76320" y="54086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9800" y="538452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22400" y="540216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40040" y="53910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43280" y="53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01880" y="53989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93880" y="539568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97120" y="5400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16120" y="529560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8440" y="528948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87680" y="528156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04960" y="5467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24040" y="555768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98840" y="515772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56000" y="540216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357440" y="541008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1981440" y="5659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070520" y="5659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231240" y="5659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221840" y="13388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台主机名字都是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W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437560" y="56592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K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524120" y="56592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TSING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680520" y="565920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SIN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98320" y="2489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能区分三台主机的名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名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名信息存储在数据库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服务器负责管理一至多个区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、辅域名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域名服务器从磁盘文件中调入该区域的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域名服务器从主域名服务器中调入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互独立和冗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使用高速缓存来提高域名解析速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名服务采用的是客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/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模式。进行名字和地址映射时调用解析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析程序将请求交域名服务器处理，请求相应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发送到本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，查询本地的缓存，如果有则返回信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本地没有查询到，则向其他服务器发送查询请求，直到返回正确的记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域名服务器将返回结果保存在本地缓存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原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析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递归解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逐级向服务器发送查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迭代解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向多个服务器发送查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速缓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一个查询请求得到响应时，信息将存储在它的高速缓存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有同样的查询，则首先检查高速缓存并响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证服务器上信息的有效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870" name=""/>
          <p:cNvGraphicFramePr/>
          <p:nvPr/>
        </p:nvGraphicFramePr>
        <p:xfrm>
          <a:off x="324000" y="1844640"/>
          <a:ext cx="703404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703404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普通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873" name=""/>
          <p:cNvGraphicFramePr/>
          <p:nvPr/>
        </p:nvGraphicFramePr>
        <p:xfrm>
          <a:off x="1763640" y="2421000"/>
          <a:ext cx="5135760" cy="3992040"/>
        </p:xfrm>
        <a:graphic>
          <a:graphicData uri="http://schemas.openxmlformats.org/drawingml/2006/table">
            <a:tbl>
              <a:tblPr/>
              <a:tblGrid>
                <a:gridCol w="1617840"/>
                <a:gridCol w="3517920"/>
              </a:tblGrid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商业机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E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教育机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G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政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国际组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美国军事网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网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O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其它组织机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三字符标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国家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二字符的国家编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572000" y="1819440"/>
            <a:ext cx="8380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3809520" y="2395440"/>
            <a:ext cx="10494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419640" y="2035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0" name=""/>
          <p:cNvGrpSpPr/>
          <p:nvPr/>
        </p:nvGrpSpPr>
        <p:grpSpPr>
          <a:xfrm>
            <a:off x="2771640" y="2827440"/>
            <a:ext cx="1133640" cy="517320"/>
            <a:chOff x="2771640" y="2827440"/>
            <a:chExt cx="1133640" cy="517320"/>
          </a:xfrm>
        </p:grpSpPr>
        <p:sp>
          <p:nvSpPr>
            <p:cNvPr id="2881" name=""/>
            <p:cNvSpPr/>
            <p:nvPr/>
          </p:nvSpPr>
          <p:spPr>
            <a:xfrm>
              <a:off x="2771640" y="28274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070800" y="2900520"/>
              <a:ext cx="424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U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>
            <a:off x="2817720" y="36352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203280" y="3691080"/>
            <a:ext cx="26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789280" y="5275440"/>
            <a:ext cx="1135080" cy="51732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276720" y="3376440"/>
            <a:ext cx="25200" cy="255600"/>
          </a:xfrm>
          <a:custGeom>
            <a:avLst/>
            <a:gdLst/>
            <a:ahLst/>
            <a:rect l="l" t="t" r="r" b="b"/>
            <a:pathLst>
              <a:path w="16" h="161">
                <a:moveTo>
                  <a:pt x="13" y="0"/>
                </a:moveTo>
                <a:lnTo>
                  <a:pt x="0" y="0"/>
                </a:lnTo>
                <a:lnTo>
                  <a:pt x="2" y="161"/>
                </a:lnTo>
                <a:lnTo>
                  <a:pt x="16" y="16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41280" y="2909880"/>
            <a:ext cx="331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 flipH="1">
            <a:off x="4500360" y="23954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3995640" y="2827440"/>
            <a:ext cx="1133640" cy="517320"/>
            <a:chOff x="3995640" y="2827440"/>
            <a:chExt cx="1133640" cy="517320"/>
          </a:xfrm>
        </p:grpSpPr>
        <p:sp>
          <p:nvSpPr>
            <p:cNvPr id="2890" name=""/>
            <p:cNvSpPr/>
            <p:nvPr/>
          </p:nvSpPr>
          <p:spPr>
            <a:xfrm>
              <a:off x="3995640" y="28274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314960" y="2900520"/>
              <a:ext cx="40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C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2790720" y="4483080"/>
            <a:ext cx="1133640" cy="517320"/>
            <a:chOff x="2790720" y="4483080"/>
            <a:chExt cx="1133640" cy="517320"/>
          </a:xfrm>
        </p:grpSpPr>
        <p:sp>
          <p:nvSpPr>
            <p:cNvPr id="2893" name=""/>
            <p:cNvSpPr/>
            <p:nvPr/>
          </p:nvSpPr>
          <p:spPr>
            <a:xfrm>
              <a:off x="2790720" y="4483080"/>
              <a:ext cx="1133640" cy="51732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78360" y="4556160"/>
              <a:ext cx="435240" cy="33552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u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>
            <a:off x="3365640" y="498780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2340000" y="49878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564000" y="49878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330720" y="417816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2195280" y="412416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492360" y="41241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5238720" y="2827440"/>
            <a:ext cx="1133640" cy="517320"/>
            <a:chOff x="5238720" y="2827440"/>
            <a:chExt cx="1133640" cy="517320"/>
          </a:xfrm>
        </p:grpSpPr>
        <p:sp>
          <p:nvSpPr>
            <p:cNvPr id="2902" name=""/>
            <p:cNvSpPr/>
            <p:nvPr/>
          </p:nvSpPr>
          <p:spPr>
            <a:xfrm>
              <a:off x="5238720" y="28274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706720" y="290052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446280" y="5848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anza.cup.ca.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5219640" y="2421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50072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4140000" y="3357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500720" y="3357720"/>
            <a:ext cx="358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57974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5436720" y="3357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797440" y="3357720"/>
            <a:ext cx="3589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"/>
          <p:cNvSpPr/>
          <p:nvPr/>
        </p:nvSpPr>
        <p:spPr>
          <a:xfrm>
            <a:off x="2008080" y="3500280"/>
            <a:ext cx="1135080" cy="3952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反向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向域用来将一个地址映射为名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792600" y="2035080"/>
            <a:ext cx="838080" cy="609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2711160" y="2611440"/>
            <a:ext cx="13683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639880" y="2251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3848760" y="6018840"/>
            <a:ext cx="397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121.45.34.132.in-addr.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992240" y="2852640"/>
            <a:ext cx="1133640" cy="393840"/>
          </a:xfrm>
          <a:prstGeom prst="ellipse">
            <a:avLst/>
          </a:prstGeom>
          <a:solidFill>
            <a:srgbClr val="fc0128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350440" y="285264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ar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1" name=""/>
          <p:cNvGrpSpPr/>
          <p:nvPr/>
        </p:nvGrpSpPr>
        <p:grpSpPr>
          <a:xfrm>
            <a:off x="2136240" y="3213000"/>
            <a:ext cx="864000" cy="287280"/>
            <a:chOff x="2136240" y="3213000"/>
            <a:chExt cx="864000" cy="287280"/>
          </a:xfrm>
        </p:grpSpPr>
        <p:grpSp>
          <p:nvGrpSpPr>
            <p:cNvPr id="2922" name=""/>
            <p:cNvGrpSpPr/>
            <p:nvPr/>
          </p:nvGrpSpPr>
          <p:grpSpPr>
            <a:xfrm>
              <a:off x="2136240" y="3213000"/>
              <a:ext cx="864000" cy="191160"/>
              <a:chOff x="2136240" y="3213000"/>
              <a:chExt cx="864000" cy="191160"/>
            </a:xfrm>
          </p:grpSpPr>
          <p:sp>
            <p:nvSpPr>
              <p:cNvPr id="2923" name=""/>
              <p:cNvSpPr/>
              <p:nvPr/>
            </p:nvSpPr>
            <p:spPr>
              <a:xfrm flipH="1">
                <a:off x="2136240" y="321300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2568240" y="321300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5" name=""/>
            <p:cNvSpPr/>
            <p:nvPr/>
          </p:nvSpPr>
          <p:spPr>
            <a:xfrm>
              <a:off x="2568240" y="321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6" name=""/>
          <p:cNvSpPr/>
          <p:nvPr/>
        </p:nvSpPr>
        <p:spPr>
          <a:xfrm>
            <a:off x="2205720" y="354348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In-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1979640" y="4797360"/>
            <a:ext cx="1135080" cy="39384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1981080" y="4146480"/>
            <a:ext cx="1133640" cy="393840"/>
            <a:chOff x="1981080" y="4146480"/>
            <a:chExt cx="1133640" cy="393840"/>
          </a:xfrm>
        </p:grpSpPr>
        <p:sp>
          <p:nvSpPr>
            <p:cNvPr id="2929" name=""/>
            <p:cNvSpPr/>
            <p:nvPr/>
          </p:nvSpPr>
          <p:spPr>
            <a:xfrm>
              <a:off x="1981080" y="4146480"/>
              <a:ext cx="1133640" cy="39384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320560" y="4203000"/>
              <a:ext cx="384840" cy="30528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1" name=""/>
          <p:cNvGrpSpPr/>
          <p:nvPr/>
        </p:nvGrpSpPr>
        <p:grpSpPr>
          <a:xfrm>
            <a:off x="2134800" y="3860640"/>
            <a:ext cx="864000" cy="287640"/>
            <a:chOff x="2134800" y="3860640"/>
            <a:chExt cx="864000" cy="287640"/>
          </a:xfrm>
        </p:grpSpPr>
        <p:grpSp>
          <p:nvGrpSpPr>
            <p:cNvPr id="2932" name=""/>
            <p:cNvGrpSpPr/>
            <p:nvPr/>
          </p:nvGrpSpPr>
          <p:grpSpPr>
            <a:xfrm>
              <a:off x="2134800" y="3860640"/>
              <a:ext cx="864000" cy="191520"/>
              <a:chOff x="2134800" y="3860640"/>
              <a:chExt cx="864000" cy="191520"/>
            </a:xfrm>
          </p:grpSpPr>
          <p:sp>
            <p:nvSpPr>
              <p:cNvPr id="2933" name=""/>
              <p:cNvSpPr/>
              <p:nvPr/>
            </p:nvSpPr>
            <p:spPr>
              <a:xfrm flipH="1">
                <a:off x="2134800" y="3860640"/>
                <a:ext cx="43164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566800" y="3860640"/>
                <a:ext cx="43200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5" name=""/>
            <p:cNvSpPr/>
            <p:nvPr/>
          </p:nvSpPr>
          <p:spPr>
            <a:xfrm>
              <a:off x="256680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2134800" y="4508640"/>
            <a:ext cx="864000" cy="287280"/>
            <a:chOff x="2134800" y="4508640"/>
            <a:chExt cx="864000" cy="287280"/>
          </a:xfrm>
        </p:grpSpPr>
        <p:grpSp>
          <p:nvGrpSpPr>
            <p:cNvPr id="2937" name=""/>
            <p:cNvGrpSpPr/>
            <p:nvPr/>
          </p:nvGrpSpPr>
          <p:grpSpPr>
            <a:xfrm>
              <a:off x="2134800" y="4508640"/>
              <a:ext cx="864000" cy="191160"/>
              <a:chOff x="2134800" y="4508640"/>
              <a:chExt cx="864000" cy="191160"/>
            </a:xfrm>
          </p:grpSpPr>
          <p:sp>
            <p:nvSpPr>
              <p:cNvPr id="2938" name=""/>
              <p:cNvSpPr/>
              <p:nvPr/>
            </p:nvSpPr>
            <p:spPr>
              <a:xfrm flipH="1">
                <a:off x="2134800" y="450864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566800" y="450864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0" name=""/>
            <p:cNvSpPr/>
            <p:nvPr/>
          </p:nvSpPr>
          <p:spPr>
            <a:xfrm>
              <a:off x="2566800" y="4508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1" name=""/>
          <p:cNvSpPr/>
          <p:nvPr/>
        </p:nvSpPr>
        <p:spPr>
          <a:xfrm>
            <a:off x="1992240" y="5445000"/>
            <a:ext cx="1135080" cy="393840"/>
          </a:xfrm>
          <a:prstGeom prst="ellipse">
            <a:avLst/>
          </a:prstGeom>
          <a:solidFill>
            <a:srgbClr val="ff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2134800" y="5157720"/>
            <a:ext cx="864000" cy="287280"/>
            <a:chOff x="2134800" y="5157720"/>
            <a:chExt cx="864000" cy="287280"/>
          </a:xfrm>
        </p:grpSpPr>
        <p:grpSp>
          <p:nvGrpSpPr>
            <p:cNvPr id="2943" name=""/>
            <p:cNvGrpSpPr/>
            <p:nvPr/>
          </p:nvGrpSpPr>
          <p:grpSpPr>
            <a:xfrm>
              <a:off x="2134800" y="5157720"/>
              <a:ext cx="864000" cy="191160"/>
              <a:chOff x="2134800" y="5157720"/>
              <a:chExt cx="864000" cy="191160"/>
            </a:xfrm>
          </p:grpSpPr>
          <p:sp>
            <p:nvSpPr>
              <p:cNvPr id="2944" name=""/>
              <p:cNvSpPr/>
              <p:nvPr/>
            </p:nvSpPr>
            <p:spPr>
              <a:xfrm flipH="1">
                <a:off x="2134800" y="515772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566800" y="515772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566800" y="5157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7" name=""/>
          <p:cNvSpPr/>
          <p:nvPr/>
        </p:nvSpPr>
        <p:spPr>
          <a:xfrm>
            <a:off x="1992240" y="6132600"/>
            <a:ext cx="1135080" cy="39348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8" name=""/>
          <p:cNvGrpSpPr/>
          <p:nvPr/>
        </p:nvGrpSpPr>
        <p:grpSpPr>
          <a:xfrm>
            <a:off x="2134800" y="5845320"/>
            <a:ext cx="864000" cy="287280"/>
            <a:chOff x="2134800" y="5845320"/>
            <a:chExt cx="864000" cy="287280"/>
          </a:xfrm>
        </p:grpSpPr>
        <p:grpSp>
          <p:nvGrpSpPr>
            <p:cNvPr id="2949" name=""/>
            <p:cNvGrpSpPr/>
            <p:nvPr/>
          </p:nvGrpSpPr>
          <p:grpSpPr>
            <a:xfrm>
              <a:off x="2134800" y="5845320"/>
              <a:ext cx="864000" cy="191160"/>
              <a:chOff x="2134800" y="5845320"/>
              <a:chExt cx="864000" cy="191160"/>
            </a:xfrm>
          </p:grpSpPr>
          <p:sp>
            <p:nvSpPr>
              <p:cNvPr id="2950" name=""/>
              <p:cNvSpPr/>
              <p:nvPr/>
            </p:nvSpPr>
            <p:spPr>
              <a:xfrm flipH="1">
                <a:off x="2134800" y="584532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566800" y="584532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2" name=""/>
            <p:cNvSpPr/>
            <p:nvPr/>
          </p:nvSpPr>
          <p:spPr>
            <a:xfrm>
              <a:off x="2566800" y="5845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3" name=""/>
          <p:cNvSpPr/>
          <p:nvPr/>
        </p:nvSpPr>
        <p:spPr>
          <a:xfrm>
            <a:off x="3276720" y="630864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619280" y="2708280"/>
            <a:ext cx="1873080" cy="39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068800" y="544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名字的索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名字空间区域划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区域包括一个主要的域名服务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域边界划分由区域管理员负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9" name=""/>
          <p:cNvGraphicFramePr/>
          <p:nvPr/>
        </p:nvGraphicFramePr>
        <p:xfrm>
          <a:off x="971640" y="2536920"/>
          <a:ext cx="727380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36920"/>
                    <a:ext cx="727380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解析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962" name=""/>
          <p:cNvGraphicFramePr/>
          <p:nvPr/>
        </p:nvGraphicFramePr>
        <p:xfrm>
          <a:off x="1116000" y="1844640"/>
          <a:ext cx="154800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15480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4" name=""/>
          <p:cNvGraphicFramePr/>
          <p:nvPr/>
        </p:nvGraphicFramePr>
        <p:xfrm>
          <a:off x="3708360" y="1628640"/>
          <a:ext cx="1511280" cy="147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628640"/>
                    <a:ext cx="151128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6" name=""/>
          <p:cNvGraphicFramePr/>
          <p:nvPr/>
        </p:nvGraphicFramePr>
        <p:xfrm>
          <a:off x="6227640" y="1600200"/>
          <a:ext cx="1511280" cy="14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600200"/>
                    <a:ext cx="151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8" name=""/>
          <p:cNvGraphicFramePr/>
          <p:nvPr/>
        </p:nvGraphicFramePr>
        <p:xfrm>
          <a:off x="4500720" y="3789360"/>
          <a:ext cx="1511280" cy="14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789360"/>
                    <a:ext cx="15112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0" name=""/>
          <p:cNvGraphicFramePr/>
          <p:nvPr/>
        </p:nvGraphicFramePr>
        <p:xfrm>
          <a:off x="1763640" y="3789360"/>
          <a:ext cx="1511280" cy="14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3789360"/>
                    <a:ext cx="151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2" name=""/>
          <p:cNvSpPr/>
          <p:nvPr/>
        </p:nvSpPr>
        <p:spPr>
          <a:xfrm>
            <a:off x="2700360" y="249228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914920" y="222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219640" y="247320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434200" y="22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H="1">
            <a:off x="5940360" y="3068640"/>
            <a:ext cx="936720" cy="172872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140160" y="363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3276720" y="4653000"/>
            <a:ext cx="1224000" cy="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709800" y="429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3276720" y="4941720"/>
            <a:ext cx="1224000" cy="0"/>
          </a:xfrm>
          <a:prstGeom prst="line">
            <a:avLst/>
          </a:prstGeom>
          <a:ln w="28440">
            <a:solidFill>
              <a:srgbClr val="1106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3709800" y="501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6156360" y="3068280"/>
            <a:ext cx="1008000" cy="187308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734160" y="393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5219640" y="270828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437440" y="2706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627280" y="285264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989440" y="292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输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面向连接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无连接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段格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连接与段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流量控制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段格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简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最常用的网络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基本的协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Mail Transmission Protoco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相同或不同操作系统计算机之间的邮件交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交换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3" name=""/>
          <p:cNvGraphicFramePr/>
          <p:nvPr/>
        </p:nvGraphicFramePr>
        <p:xfrm>
          <a:off x="1476360" y="2349360"/>
          <a:ext cx="596412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596412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5" name=""/>
          <p:cNvSpPr/>
          <p:nvPr/>
        </p:nvSpPr>
        <p:spPr>
          <a:xfrm>
            <a:off x="1619280" y="2492280"/>
            <a:ext cx="1081080" cy="244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2843280" y="2492280"/>
            <a:ext cx="1584360" cy="25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707200" y="5303880"/>
            <a:ext cx="19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aa01"/>
                </a:solidFill>
                <a:latin typeface="Arial"/>
                <a:ea typeface="宋体"/>
              </a:rPr>
              <a:t>电子邮件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aa01"/>
                </a:solidFill>
                <a:latin typeface="Arial"/>
                <a:ea typeface="宋体"/>
              </a:rPr>
              <a:t>客户端程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aa01"/>
                </a:solidFill>
                <a:latin typeface="Arial"/>
                <a:ea typeface="宋体"/>
              </a:rPr>
              <a:t>常用的有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a01"/>
                </a:solidFill>
                <a:latin typeface="Arial"/>
                <a:ea typeface="宋体"/>
              </a:rPr>
              <a:t>Outlook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a01"/>
                </a:solidFill>
                <a:latin typeface="Arial"/>
                <a:ea typeface="宋体"/>
              </a:rPr>
              <a:t>Microsoft Outl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a01"/>
                </a:solidFill>
                <a:latin typeface="Arial"/>
                <a:ea typeface="宋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572000" y="2421000"/>
            <a:ext cx="273672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5500440" y="509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电子邮件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服务器端程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的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547640" y="1989000"/>
            <a:ext cx="525780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276720" y="1989000"/>
            <a:ext cx="23004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aa01"/>
                </a:solidFill>
                <a:latin typeface="宋体"/>
                <a:ea typeface="宋体"/>
              </a:rPr>
              <a:t>@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76240" y="2133720"/>
            <a:ext cx="1371600" cy="40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本地部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3635280" y="2133720"/>
            <a:ext cx="2911680" cy="36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域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776240" y="2979720"/>
            <a:ext cx="1787760" cy="880920"/>
          </a:xfrm>
          <a:prstGeom prst="wedgeRoundRectCallout">
            <a:avLst>
              <a:gd name="adj1" fmla="val 1333"/>
              <a:gd name="adj2" fmla="val -104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aa01"/>
                </a:solidFill>
                <a:latin typeface="Times New Roman"/>
                <a:ea typeface="宋体"/>
              </a:rPr>
              <a:t>电子邮件的邮箱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3948120" y="2881440"/>
            <a:ext cx="2424240" cy="979200"/>
          </a:xfrm>
          <a:prstGeom prst="wedgeRoundRectCallout">
            <a:avLst>
              <a:gd name="adj1" fmla="val -4291"/>
              <a:gd name="adj2" fmla="val -84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aa01"/>
                </a:solidFill>
                <a:latin typeface="Times New Roman"/>
                <a:ea typeface="宋体"/>
              </a:rPr>
              <a:t>电子邮件帐号所在域的域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824200" y="466092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056320" y="4875840"/>
            <a:ext cx="379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benet@jb-aptech.com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的传输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329120" y="15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建立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1" name=""/>
          <p:cNvGrpSpPr/>
          <p:nvPr/>
        </p:nvGrpSpPr>
        <p:grpSpPr>
          <a:xfrm>
            <a:off x="2050920" y="2349360"/>
            <a:ext cx="5372280" cy="3070440"/>
            <a:chOff x="2050920" y="2349360"/>
            <a:chExt cx="5372280" cy="3070440"/>
          </a:xfrm>
        </p:grpSpPr>
        <p:grpSp>
          <p:nvGrpSpPr>
            <p:cNvPr id="3012" name=""/>
            <p:cNvGrpSpPr/>
            <p:nvPr/>
          </p:nvGrpSpPr>
          <p:grpSpPr>
            <a:xfrm>
              <a:off x="2050920" y="2349360"/>
              <a:ext cx="5372280" cy="3070440"/>
              <a:chOff x="2050920" y="2349360"/>
              <a:chExt cx="5372280" cy="3070440"/>
            </a:xfrm>
          </p:grpSpPr>
          <p:sp>
            <p:nvSpPr>
              <p:cNvPr id="3013" name=""/>
              <p:cNvSpPr/>
              <p:nvPr/>
            </p:nvSpPr>
            <p:spPr>
              <a:xfrm>
                <a:off x="2050920" y="2349360"/>
                <a:ext cx="5372280" cy="307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2279520" y="2547360"/>
                <a:ext cx="1142640" cy="594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客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051600" y="2547360"/>
                <a:ext cx="1142640" cy="59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服务器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2850840" y="3141720"/>
                <a:ext cx="360" cy="217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622920" y="3141720"/>
                <a:ext cx="720" cy="217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2850480" y="3438720"/>
                <a:ext cx="37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850840" y="4231080"/>
                <a:ext cx="37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2850480" y="5023440"/>
                <a:ext cx="3771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36640" y="3240720"/>
                <a:ext cx="228600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20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服务就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536640" y="4033080"/>
                <a:ext cx="228600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E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536640" y="4825440"/>
                <a:ext cx="228600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50 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4" name=""/>
          <p:cNvSpPr/>
          <p:nvPr/>
        </p:nvSpPr>
        <p:spPr>
          <a:xfrm>
            <a:off x="3562560" y="15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邮件传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2700360" y="184464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8" name=""/>
          <p:cNvGraphicFramePr/>
          <p:nvPr/>
        </p:nvGraphicFramePr>
        <p:xfrm>
          <a:off x="2843280" y="2133720"/>
          <a:ext cx="4859280" cy="43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485928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0" name=""/>
          <p:cNvSpPr/>
          <p:nvPr/>
        </p:nvSpPr>
        <p:spPr>
          <a:xfrm>
            <a:off x="5721840" y="15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连接终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4859280" y="184464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2268360" y="3141720"/>
            <a:ext cx="5372280" cy="2448000"/>
            <a:chOff x="2268360" y="3141720"/>
            <a:chExt cx="5372280" cy="2448000"/>
          </a:xfrm>
        </p:grpSpPr>
        <p:sp>
          <p:nvSpPr>
            <p:cNvPr id="3033" name=""/>
            <p:cNvSpPr/>
            <p:nvPr/>
          </p:nvSpPr>
          <p:spPr>
            <a:xfrm>
              <a:off x="2268360" y="3141720"/>
              <a:ext cx="5372280" cy="244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496960" y="3340080"/>
              <a:ext cx="114300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服务器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3059280" y="3933720"/>
              <a:ext cx="9360" cy="158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40360" y="3362400"/>
              <a:ext cx="0" cy="21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3068280" y="4230720"/>
              <a:ext cx="37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068640" y="5022720"/>
              <a:ext cx="37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754440" y="4032360"/>
              <a:ext cx="2286000" cy="396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Q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754440" y="4826160"/>
              <a:ext cx="2286000" cy="395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服务关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269040" y="3340080"/>
              <a:ext cx="114300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客户端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浏览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最为广泛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的协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超文本传输协议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text Transfer Protoco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形式为文本、超文本、音频、视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浏览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工作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统一资源定位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ph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7" name=""/>
          <p:cNvGraphicFramePr/>
          <p:nvPr/>
        </p:nvGraphicFramePr>
        <p:xfrm>
          <a:off x="1692360" y="2133720"/>
          <a:ext cx="522900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52290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9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0" name=""/>
          <p:cNvGraphicFramePr/>
          <p:nvPr/>
        </p:nvGraphicFramePr>
        <p:xfrm>
          <a:off x="1619280" y="3645000"/>
          <a:ext cx="543888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645000"/>
                    <a:ext cx="54388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2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053080" y="5307840"/>
            <a:ext cx="4961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http://news.sina.com.cn/weath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静态网页和动态网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态网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网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7" name=""/>
          <p:cNvGraphicFramePr/>
          <p:nvPr/>
        </p:nvGraphicFramePr>
        <p:xfrm>
          <a:off x="1763640" y="2276640"/>
          <a:ext cx="525636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76640"/>
                    <a:ext cx="525636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9" name="" descr=""/>
          <p:cNvPicPr/>
          <p:nvPr/>
        </p:nvPicPr>
        <p:blipFill>
          <a:blip r:embed="rId3"/>
          <a:stretch/>
        </p:blipFill>
        <p:spPr>
          <a:xfrm>
            <a:off x="2627280" y="1844640"/>
            <a:ext cx="5338800" cy="460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远程登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将用户的计算机当成远端计算机的一台终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Netwo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专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登录到远程的计算机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像本地用户一样使用部分或全部资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时的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多个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通过终端与计算机实现交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造一种专有的“现象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用户账号和口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注册和远程注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平台上的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903960" y="2918880"/>
            <a:ext cx="4863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C:\&gt;telnet 192.168.1.6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6" name="" descr=""/>
          <p:cNvPicPr/>
          <p:nvPr/>
        </p:nvPicPr>
        <p:blipFill>
          <a:blip r:embed="rId1"/>
          <a:stretch/>
        </p:blipFill>
        <p:spPr>
          <a:xfrm>
            <a:off x="611280" y="3848040"/>
            <a:ext cx="7056360" cy="1741680"/>
          </a:xfrm>
          <a:prstGeom prst="rect">
            <a:avLst/>
          </a:prstGeom>
          <a:ln w="0">
            <a:noFill/>
          </a:ln>
        </p:spPr>
      </p:pic>
      <p:sp>
        <p:nvSpPr>
          <p:cNvPr id="3067" name=""/>
          <p:cNvSpPr/>
          <p:nvPr/>
        </p:nvSpPr>
        <p:spPr>
          <a:xfrm>
            <a:off x="1409760" y="1780920"/>
            <a:ext cx="547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Telnet [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目标主机或</a:t>
            </a: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IP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地址</a:t>
            </a: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]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　端口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层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应用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域名解析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电子邮件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并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原理和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以及静态网页和动态网页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备上的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采用二种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终端－设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台上的“超级终端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超级终端配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备－设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ne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Transfer Protoco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传输协议，基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传输重要和较大的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控制连接，端口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数据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vial File Transfer Protoco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文件传输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可靠性要求不高、快速的文件传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6" name=""/>
          <p:cNvGraphicFramePr/>
          <p:nvPr/>
        </p:nvGraphicFramePr>
        <p:xfrm>
          <a:off x="1476360" y="1844640"/>
          <a:ext cx="612000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612000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报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请求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使用，用来建立一条从服务器读数据的连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请求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使用，用来建立一条将数据写到服务器的连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或服务器使用，用来传送数据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确认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或服务器使用，用来确认收到一个数据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报文由客户或服务器使用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2" name=""/>
          <p:cNvGraphicFramePr/>
          <p:nvPr/>
        </p:nvGraphicFramePr>
        <p:xfrm>
          <a:off x="1332000" y="1628640"/>
          <a:ext cx="626436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264360" cy="2249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传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传输是在连接建立和终止之间发生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划分成若干个数据块，每一块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节，最后一块必须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自己创建流控和差错控制机制来保证文件的传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控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使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报文发送数据块，等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报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取文件－发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服务器响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存储文件－发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服务器响应块号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差错控制－发送端和接收端使用超时机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损伤的报文、丢失的报文、丢失的确认、重复的报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端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9" name=""/>
          <p:cNvGraphicFramePr/>
          <p:nvPr/>
        </p:nvGraphicFramePr>
        <p:xfrm>
          <a:off x="684360" y="1268280"/>
          <a:ext cx="7129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1294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传或下载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速度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于设备维护和升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启动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设备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失败时，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作为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加可靠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层常用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完成名称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的转换，或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到名称的转换，使用端口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服务使用的协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端口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邮件数据的传输需要连接建立、邮件传送、连接终止三个过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地址的组成由二部分组成，后缀的作用在于指示邮件服务器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浏览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。使用的端口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输地网页有静态的和动态的区别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的端口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登录到远程的计算机上，像本地用户一样使用部分或全部资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文件传输协议。可靠性较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简单文件传输协议。由于传输的文件小，它支持引导。适用于设备软件的上传和下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LNE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行设备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设备自身平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配置文件进行上传和下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层服务及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65600" y="1673280"/>
            <a:ext cx="1203120" cy="3860640"/>
          </a:xfrm>
          <a:custGeom>
            <a:avLst/>
            <a:gdLst/>
            <a:ahLst/>
            <a:rect l="l" t="t" r="r" b="b"/>
            <a:pathLst>
              <a:path w="758" h="2432">
                <a:moveTo>
                  <a:pt x="0" y="414"/>
                </a:moveTo>
                <a:lnTo>
                  <a:pt x="750" y="0"/>
                </a:lnTo>
                <a:lnTo>
                  <a:pt x="758" y="2432"/>
                </a:lnTo>
                <a:lnTo>
                  <a:pt x="0" y="1422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1520" y="2314440"/>
            <a:ext cx="155520" cy="3936960"/>
          </a:xfrm>
          <a:custGeom>
            <a:avLst/>
            <a:gdLst/>
            <a:ahLst/>
            <a:rect l="l" t="t" r="r" b="b"/>
            <a:pathLst>
              <a:path w="87" h="2204">
                <a:moveTo>
                  <a:pt x="86" y="0"/>
                </a:moveTo>
                <a:lnTo>
                  <a:pt x="86" y="0"/>
                </a:lnTo>
                <a:lnTo>
                  <a:pt x="0" y="86"/>
                </a:lnTo>
                <a:lnTo>
                  <a:pt x="0" y="2203"/>
                </a:lnTo>
                <a:lnTo>
                  <a:pt x="86" y="2117"/>
                </a:lnTo>
                <a:lnTo>
                  <a:pt x="86" y="0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1360" y="2475000"/>
            <a:ext cx="1993680" cy="3767040"/>
          </a:xfrm>
          <a:prstGeom prst="rect">
            <a:avLst/>
          </a:prstGeom>
          <a:solidFill>
            <a:srgbClr val="ffef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59040" y="3581280"/>
            <a:ext cx="14986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0560" y="420372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74516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5257800"/>
            <a:ext cx="16030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0560" y="582624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3440" y="2314440"/>
            <a:ext cx="2163600" cy="15588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89" y="0"/>
                </a:lnTo>
                <a:lnTo>
                  <a:pt x="1210" y="0"/>
                </a:lnTo>
                <a:lnTo>
                  <a:pt x="1124" y="86"/>
                </a:lnTo>
                <a:lnTo>
                  <a:pt x="0" y="86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3440" y="3935520"/>
            <a:ext cx="216360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3440" y="4473720"/>
            <a:ext cx="216360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3440" y="5014800"/>
            <a:ext cx="216360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3440" y="5554800"/>
            <a:ext cx="216360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1676520"/>
            <a:ext cx="2643480" cy="3863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件传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T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子邮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S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程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络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域名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2" name=""/>
          <p:cNvGraphicFramePr/>
          <p:nvPr/>
        </p:nvGraphicFramePr>
        <p:xfrm>
          <a:off x="684360" y="1844640"/>
          <a:ext cx="74167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4167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6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46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1" name=""/>
          <p:cNvGraphicFramePr/>
          <p:nvPr/>
        </p:nvGraphicFramePr>
        <p:xfrm>
          <a:off x="1003320" y="1271520"/>
          <a:ext cx="644832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271520"/>
                    <a:ext cx="64483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完成在两个平台上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进行对网络设备的维护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备进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配置文件的上传和下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40" y="2101680"/>
            <a:ext cx="1992240" cy="3722760"/>
          </a:xfrm>
          <a:prstGeom prst="rect">
            <a:avLst/>
          </a:prstGeom>
          <a:solidFill>
            <a:srgbClr val="ffef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82880" y="1946160"/>
            <a:ext cx="155520" cy="3878280"/>
          </a:xfrm>
          <a:custGeom>
            <a:avLst/>
            <a:gdLst/>
            <a:ahLst/>
            <a:rect l="l" t="t" r="r" b="b"/>
            <a:pathLst>
              <a:path w="87" h="2204">
                <a:moveTo>
                  <a:pt x="86" y="0"/>
                </a:moveTo>
                <a:lnTo>
                  <a:pt x="86" y="0"/>
                </a:lnTo>
                <a:lnTo>
                  <a:pt x="0" y="86"/>
                </a:lnTo>
                <a:lnTo>
                  <a:pt x="0" y="2203"/>
                </a:lnTo>
                <a:lnTo>
                  <a:pt x="86" y="2117"/>
                </a:lnTo>
                <a:lnTo>
                  <a:pt x="86" y="0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1940040"/>
            <a:ext cx="2168280" cy="16164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89" y="0"/>
                </a:lnTo>
                <a:lnTo>
                  <a:pt x="1210" y="0"/>
                </a:lnTo>
                <a:lnTo>
                  <a:pt x="1124" y="86"/>
                </a:lnTo>
                <a:lnTo>
                  <a:pt x="0" y="86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2440" bIns="-622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6240" y="3565440"/>
            <a:ext cx="2162160" cy="15732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6760" bIns="-626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76240" y="2486160"/>
            <a:ext cx="21621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240" y="3027240"/>
            <a:ext cx="2162160" cy="15408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30000" bIns="-630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6240" y="4105440"/>
            <a:ext cx="21621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6240" y="4646520"/>
            <a:ext cx="21621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240" y="5186520"/>
            <a:ext cx="21621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04120" y="1946160"/>
            <a:ext cx="155520" cy="3936960"/>
          </a:xfrm>
          <a:custGeom>
            <a:avLst/>
            <a:gdLst/>
            <a:ahLst/>
            <a:rect l="l" t="t" r="r" b="b"/>
            <a:pathLst>
              <a:path w="87" h="2204">
                <a:moveTo>
                  <a:pt x="86" y="0"/>
                </a:moveTo>
                <a:lnTo>
                  <a:pt x="86" y="0"/>
                </a:lnTo>
                <a:lnTo>
                  <a:pt x="0" y="86"/>
                </a:lnTo>
                <a:lnTo>
                  <a:pt x="0" y="2203"/>
                </a:lnTo>
                <a:lnTo>
                  <a:pt x="86" y="2117"/>
                </a:lnTo>
                <a:lnTo>
                  <a:pt x="86" y="0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75160" y="2106720"/>
            <a:ext cx="2021040" cy="3767040"/>
          </a:xfrm>
          <a:prstGeom prst="rect">
            <a:avLst/>
          </a:prstGeom>
          <a:solidFill>
            <a:srgbClr val="ffef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946160"/>
            <a:ext cx="21639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89" y="0"/>
                </a:lnTo>
                <a:lnTo>
                  <a:pt x="1210" y="0"/>
                </a:lnTo>
                <a:lnTo>
                  <a:pt x="1124" y="86"/>
                </a:lnTo>
                <a:lnTo>
                  <a:pt x="0" y="86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852640"/>
            <a:ext cx="1096920" cy="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784080" bIns="-784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09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用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74320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276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会话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传输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34340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8769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据库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4100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133720"/>
            <a:ext cx="360360" cy="143964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068640"/>
            <a:ext cx="14983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9840" y="369108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9840" y="423216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24560" y="4745160"/>
            <a:ext cx="16030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49840" y="531324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65440"/>
            <a:ext cx="2163960" cy="15732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6760" bIns="-626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105440"/>
            <a:ext cx="21639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646520"/>
            <a:ext cx="21639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181480"/>
            <a:ext cx="21639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Name System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＜－＞主机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3440" y="3679920"/>
            <a:ext cx="799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41880" y="2852640"/>
            <a:ext cx="5320800" cy="2990520"/>
            <a:chOff x="1541880" y="2852640"/>
            <a:chExt cx="5320800" cy="2990520"/>
          </a:xfrm>
        </p:grpSpPr>
        <p:grpSp>
          <p:nvGrpSpPr>
            <p:cNvPr id="152" name=""/>
            <p:cNvGrpSpPr/>
            <p:nvPr/>
          </p:nvGrpSpPr>
          <p:grpSpPr>
            <a:xfrm>
              <a:off x="2484360" y="2852640"/>
              <a:ext cx="3733200" cy="2971080"/>
              <a:chOff x="2484360" y="2852640"/>
              <a:chExt cx="3733200" cy="2971080"/>
            </a:xfrm>
          </p:grpSpPr>
          <p:sp>
            <p:nvSpPr>
              <p:cNvPr id="153" name=""/>
              <p:cNvSpPr/>
              <p:nvPr/>
            </p:nvSpPr>
            <p:spPr>
              <a:xfrm>
                <a:off x="3758760" y="2864880"/>
                <a:ext cx="1618200" cy="1212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3080" y="3186000"/>
                <a:ext cx="1239480" cy="12124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84360" y="3922200"/>
                <a:ext cx="831240" cy="9864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37080" y="4361400"/>
                <a:ext cx="1256400" cy="10814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31680" y="4539600"/>
                <a:ext cx="1880640" cy="1272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34080" y="3221280"/>
                <a:ext cx="1202400" cy="950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15520" y="3839400"/>
                <a:ext cx="1193040" cy="950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6080" y="4042080"/>
                <a:ext cx="1184400" cy="15670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62240" y="3565800"/>
                <a:ext cx="2412720" cy="1580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9120" y="2852640"/>
                <a:ext cx="1635480" cy="122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4" y="7417"/>
                    </a:moveTo>
                    <a:arcTo wR="10800" hR="10800" stAng="-9704716" swAng="8422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4" y="7417"/>
                    </a:moveTo>
                    <a:arcTo wR="10800" hR="10800" stAng="-9704716" swAng="842250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768840" y="2862000"/>
                <a:ext cx="16178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7" y="7405"/>
                    </a:moveTo>
                    <a:arcTo wR="10800" hR="10800" stAng="-9700762" swAng="8414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7" y="7405"/>
                    </a:moveTo>
                    <a:arcTo wR="10800" hR="10800" stAng="-9700762" swAng="8414042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63080" y="3173760"/>
                <a:ext cx="1248120" cy="122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408" swAng="8097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408" swAng="809784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72080" y="3183120"/>
                <a:ext cx="1230480" cy="12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8" y="13189"/>
                    </a:moveTo>
                    <a:arcTo wR="10800" hR="10800" stAng="10033171" swAng="8097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8" y="13189"/>
                    </a:moveTo>
                    <a:arcTo wR="10800" hR="10800" stAng="10033171" swAng="809759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28080" y="4340160"/>
                <a:ext cx="1293120" cy="110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9" y="20233"/>
                    </a:moveTo>
                    <a:arcTo wR="10800" hR="10800" stAng="3651570" swAng="72871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9" y="20233"/>
                    </a:moveTo>
                    <a:arcTo wR="10800" hR="10800" stAng="3651570" swAng="728710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37080" y="4349160"/>
                <a:ext cx="1273320" cy="108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9" y="20239"/>
                    </a:moveTo>
                    <a:arcTo wR="10800" hR="10800" stAng="3655214" swAng="72838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9" y="20239"/>
                    </a:moveTo>
                    <a:arcTo wR="10800" hR="10800" stAng="3655214" swAng="728380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42720" y="3209400"/>
                <a:ext cx="1203120" cy="94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59" y="214"/>
                    </a:moveTo>
                    <a:arcTo wR="10800" hR="10800" stAng="-6085934" swAng="7900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59" y="214"/>
                    </a:moveTo>
                    <a:arcTo wR="10800" hR="10800" stAng="-6085934" swAng="7900515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53520" y="3218400"/>
                <a:ext cx="1182960" cy="93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8" y="213"/>
                    </a:moveTo>
                    <a:arcTo wR="10800" hR="10800" stAng="-6083167" swAng="7903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8" y="213"/>
                    </a:moveTo>
                    <a:arcTo wR="10800" hR="10800" stAng="-6083167" swAng="7903964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34080" y="3804840"/>
                <a:ext cx="1383480" cy="104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28" y="2432"/>
                    </a:moveTo>
                    <a:arcTo wR="10800" hR="10800" stAng="-3047206" swAng="5174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28" y="2432"/>
                    </a:moveTo>
                    <a:arcTo wR="10800" hR="10800" stAng="-3047206" swAng="517449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3440" y="3813120"/>
                <a:ext cx="1364760" cy="10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10" y="2417"/>
                    </a:moveTo>
                    <a:arcTo wR="10800" hR="10800" stAng="-3054632" swAng="5189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10" y="2417"/>
                    </a:moveTo>
                    <a:arcTo wR="10800" hR="10800" stAng="-3054632" swAng="518909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7000" y="4053960"/>
                <a:ext cx="1221480" cy="15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9" y="7746"/>
                    </a:moveTo>
                    <a:arcTo wR="10800" hR="10800" stAng="-985469" swAng="750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9" y="7746"/>
                    </a:moveTo>
                    <a:arcTo wR="10800" hR="10800" stAng="-985469" swAng="7506517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97440" y="4062960"/>
                <a:ext cx="1202040" cy="157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62" y="7756"/>
                    </a:moveTo>
                    <a:arcTo wR="10800" hR="10800" stAng="-982174" swAng="7506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62" y="7756"/>
                    </a:moveTo>
                    <a:arcTo wR="10800" hR="10800" stAng="-982174" swAng="750692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360" y="3912120"/>
                <a:ext cx="876600" cy="10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8" y="20698"/>
                    </a:moveTo>
                    <a:arcTo wR="10800" hR="10800" stAng="6815261" swAng="918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8" y="20698"/>
                    </a:moveTo>
                    <a:arcTo wR="10800" hR="10800" stAng="6815261" swAng="91877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93360" y="3921480"/>
                <a:ext cx="858600" cy="98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68" y="20693"/>
                    </a:moveTo>
                    <a:arcTo wR="10800" hR="10800" stAng="6818802" swAng="91836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68" y="20693"/>
                    </a:moveTo>
                    <a:arcTo wR="10800" hR="10800" stAng="6818802" swAng="918368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41400" y="4647600"/>
                <a:ext cx="1843200" cy="11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25" y="17026"/>
                    </a:moveTo>
                    <a:arcTo wR="10800" hR="10800" stAng="2112076" swAng="794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25" y="17026"/>
                    </a:moveTo>
                    <a:arcTo wR="10800" hR="10800" stAng="2112076" swAng="794904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50760" y="4657320"/>
                <a:ext cx="1823760" cy="11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08" y="17050"/>
                    </a:moveTo>
                    <a:arcTo wR="10800" hR="10800" stAng="2121440" swAng="7935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08" y="17050"/>
                    </a:moveTo>
                    <a:arcTo wR="10800" hR="10800" stAng="2121440" swAng="793553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341440" y="4984920"/>
              <a:ext cx="577800" cy="450720"/>
              <a:chOff x="2341440" y="4984920"/>
              <a:chExt cx="577800" cy="450720"/>
            </a:xfrm>
          </p:grpSpPr>
          <p:sp>
            <p:nvSpPr>
              <p:cNvPr id="179" name=""/>
              <p:cNvSpPr/>
              <p:nvPr/>
            </p:nvSpPr>
            <p:spPr>
              <a:xfrm>
                <a:off x="2620800" y="5184720"/>
                <a:ext cx="16992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90720" y="521028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20800" y="51847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12960" y="5175360"/>
                <a:ext cx="10944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54280" y="5045040"/>
                <a:ext cx="13788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73080" y="50500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70120" y="5059440"/>
                <a:ext cx="9972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31960" y="51958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2640960" y="52131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79480" y="52214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73000" y="52038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20880" y="5214960"/>
                <a:ext cx="144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33400" y="5213520"/>
                <a:ext cx="8748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2631600" y="5206680"/>
                <a:ext cx="8892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39960" y="52624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12960" y="5267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31880" y="51976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51040" y="524196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31880" y="5243760"/>
                <a:ext cx="12240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24040" y="52484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43040" y="52149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0280" y="5200920"/>
                <a:ext cx="14904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2619000" y="52052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2611440" y="5207040"/>
                <a:ext cx="12528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2606400" y="52117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2590200" y="52182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2582640" y="52246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2579040" y="5229360"/>
                <a:ext cx="1098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2565360" y="5232600"/>
                <a:ext cx="11088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2559960" y="52383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646000" y="52563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633040" y="52516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607840" y="52405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594880" y="52358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582640" y="52308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571480" y="52246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558880" y="52196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703240" y="5235840"/>
                <a:ext cx="288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685600" y="52293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667960" y="52246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650680" y="52182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635200" y="5211720"/>
                <a:ext cx="252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615760" y="52056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98680" y="4994280"/>
                <a:ext cx="10296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41520" y="50706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73200" y="5042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65280" y="50338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4360" y="5078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89040" y="5086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92280" y="5064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87600" y="5062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6440" y="5045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33600" y="504036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30360" y="5037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71680" y="50911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70040" y="5234040"/>
                <a:ext cx="8100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20800" y="5241960"/>
                <a:ext cx="2556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11440" y="523584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19360" y="5249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38080" y="5256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08200" y="524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14320" y="52516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44560" y="5248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47720" y="52070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17560" y="52135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62120" y="5235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95240" y="5211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08200" y="522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25480" y="5218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28720" y="5214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87320" y="5226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79680" y="52228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82560" y="52275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01560" y="51228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23880" y="5116680"/>
                <a:ext cx="6840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3120" y="51087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90760" y="529452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09480" y="53848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84280" y="49849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41440" y="52293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42880" y="5237280"/>
                <a:ext cx="7488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667480" y="5013360"/>
              <a:ext cx="577800" cy="450720"/>
              <a:chOff x="5667480" y="5013360"/>
              <a:chExt cx="577800" cy="450720"/>
            </a:xfrm>
          </p:grpSpPr>
          <p:sp>
            <p:nvSpPr>
              <p:cNvPr id="261" name=""/>
              <p:cNvSpPr/>
              <p:nvPr/>
            </p:nvSpPr>
            <p:spPr>
              <a:xfrm>
                <a:off x="5946840" y="5213160"/>
                <a:ext cx="16992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16760" y="523872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6840" y="521316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39000" y="5203800"/>
                <a:ext cx="10944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80320" y="5073480"/>
                <a:ext cx="13788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9120" y="507852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96160" y="5087880"/>
                <a:ext cx="9972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58000" y="522432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967000" y="524160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05520" y="524988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99040" y="523224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46920" y="5243400"/>
                <a:ext cx="144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59440" y="5241960"/>
                <a:ext cx="8748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5957640" y="5235120"/>
                <a:ext cx="8892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66000" y="529092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39000" y="5295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57920" y="52261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77080" y="527040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7920" y="5272200"/>
                <a:ext cx="12240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0080" y="52768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9080" y="524340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26320" y="5229360"/>
                <a:ext cx="14904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5945040" y="523368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5937480" y="5235480"/>
                <a:ext cx="12528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932440" y="524016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916240" y="524664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5908680" y="525312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5905080" y="5257800"/>
                <a:ext cx="1098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91400" y="5261040"/>
                <a:ext cx="11088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5886000" y="526680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972040" y="528480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959080" y="52801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933880" y="52689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920920" y="526428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908680" y="525924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897520" y="525312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5884920" y="524808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029280" y="5264280"/>
                <a:ext cx="288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011640" y="525780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994000" y="52531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976720" y="52466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961240" y="5240160"/>
                <a:ext cx="252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941800" y="523404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24720" y="5022720"/>
                <a:ext cx="10296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67560" y="50990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99240" y="50706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1320" y="506232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10400" y="5106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15080" y="5114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18320" y="5092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13640" y="509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02480" y="5073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59640" y="50688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56400" y="506556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97720" y="511956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96080" y="5262480"/>
                <a:ext cx="8100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46840" y="5270400"/>
                <a:ext cx="2556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937480" y="526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45400" y="52783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64120" y="528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34240" y="5273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40360" y="52801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70600" y="5276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73760" y="5235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43600" y="52419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88160" y="5264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21280" y="5240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34240" y="52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51520" y="5246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54760" y="5243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13360" y="5254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05720" y="525132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08600" y="525600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7600" y="515124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9920" y="5145120"/>
                <a:ext cx="6840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99160" y="513720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16800" y="532296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35520" y="541332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10320" y="501336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67480" y="525780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68920" y="5265720"/>
                <a:ext cx="7488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541880" y="537264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92.168.1.7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53160" y="544428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92.168.1.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873720" y="54108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A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5360" y="54774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BB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338560" y="2708280"/>
            <a:ext cx="4035240" cy="1676160"/>
            <a:chOff x="2338560" y="2708280"/>
            <a:chExt cx="4035240" cy="1676160"/>
          </a:xfrm>
        </p:grpSpPr>
        <p:grpSp>
          <p:nvGrpSpPr>
            <p:cNvPr id="347" name=""/>
            <p:cNvGrpSpPr/>
            <p:nvPr/>
          </p:nvGrpSpPr>
          <p:grpSpPr>
            <a:xfrm>
              <a:off x="2338560" y="3933720"/>
              <a:ext cx="577800" cy="450720"/>
              <a:chOff x="2338560" y="3933720"/>
              <a:chExt cx="577800" cy="450720"/>
            </a:xfrm>
          </p:grpSpPr>
          <p:sp>
            <p:nvSpPr>
              <p:cNvPr id="348" name=""/>
              <p:cNvSpPr/>
              <p:nvPr/>
            </p:nvSpPr>
            <p:spPr>
              <a:xfrm>
                <a:off x="2617920" y="413352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87480" y="415908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17920" y="41335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09720" y="412416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51040" y="399384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70200" y="39988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66880" y="400824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629080" y="41446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2638080" y="41619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6600" y="41702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70120" y="41526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17640" y="416376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30520" y="416232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2629080" y="415548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36720" y="42112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09720" y="42163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29000" y="41464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47800" y="419076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29000" y="419256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0800" y="41972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40160" y="41637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97040" y="414972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615760" y="41540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2607840" y="415584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2603520" y="41605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2587320" y="41670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2579760" y="41734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2576520" y="417816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2561760" y="418140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2557080" y="41871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2642760" y="42051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630160" y="42004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604960" y="418932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592000" y="41846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2579760" y="41796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568600" y="41734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56000" y="41684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700000" y="418464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82360" y="41781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665080" y="41734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2647440" y="41670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631600" y="416052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12520" y="41544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395440" y="394308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43828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470320" y="39909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62040" y="39826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481120" y="4027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86160" y="4035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89040" y="4012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84360" y="4011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473200" y="3993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30360" y="398916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27120" y="398592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68440" y="40399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67160" y="418284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17920" y="41907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08200" y="418464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16120" y="4198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35200" y="420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04960" y="419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11440" y="4200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41680" y="419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44840" y="4155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14680" y="4162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58880" y="4184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92360" y="4160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04960" y="417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22600" y="416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5840" y="4163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84440" y="417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76440" y="41716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79680" y="41763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98680" y="40716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421000" y="406548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370240" y="40575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87520" y="42433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406600" y="43336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81400" y="39337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338560" y="41781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40000" y="418608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771640" y="3284640"/>
              <a:ext cx="577800" cy="450720"/>
              <a:chOff x="2771640" y="3284640"/>
              <a:chExt cx="577800" cy="450720"/>
            </a:xfrm>
          </p:grpSpPr>
          <p:sp>
            <p:nvSpPr>
              <p:cNvPr id="430" name=""/>
              <p:cNvSpPr/>
              <p:nvPr/>
            </p:nvSpPr>
            <p:spPr>
              <a:xfrm>
                <a:off x="3051000" y="3484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220560" y="3510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51000" y="3484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42800" y="3475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4120" y="3344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03280" y="3349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99960" y="3359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62160" y="3495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3071160" y="3512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09680" y="3521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03200" y="3503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50720" y="3514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3600" y="3513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3062160" y="3506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69800" y="3562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42800" y="3567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962080" y="3497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0880" y="3541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62080" y="3543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53880" y="3548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73240" y="3514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30120" y="3500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3048840" y="3504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3040920" y="3506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3036600" y="3511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3020400" y="3517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3012840" y="3524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3009600" y="3529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2994840" y="3532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2990160" y="3538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3075840" y="3556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3063240" y="3551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38040" y="3540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025080" y="3535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012840" y="3530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001680" y="3524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989080" y="3519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133080" y="3535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3115440" y="3529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98160" y="3524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080520" y="3517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064680" y="3511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045600" y="3505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28520" y="3294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71360" y="3370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03400" y="3341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95120" y="3333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14200" y="3378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919240" y="3386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22120" y="3363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17440" y="336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06280" y="3344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63440" y="3340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60200" y="3336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01520" y="3390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000240" y="3533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51000" y="3541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1280" y="3535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49200" y="3549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68280" y="35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38040" y="354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44520" y="355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74760" y="35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77920" y="3506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47760" y="3513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91960" y="3535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25440" y="35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38040" y="35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55680" y="35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58920" y="35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17520" y="35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09520" y="3522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3527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31760" y="3422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54080" y="3416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03320" y="3408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20600" y="3594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39680" y="3684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14480" y="3284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71640" y="3529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73080" y="3537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3564000" y="2852640"/>
              <a:ext cx="577800" cy="450720"/>
              <a:chOff x="3564000" y="2852640"/>
              <a:chExt cx="577800" cy="450720"/>
            </a:xfrm>
          </p:grpSpPr>
          <p:sp>
            <p:nvSpPr>
              <p:cNvPr id="512" name=""/>
              <p:cNvSpPr/>
              <p:nvPr/>
            </p:nvSpPr>
            <p:spPr>
              <a:xfrm>
                <a:off x="3843360" y="3052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12920" y="3078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43360" y="3052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35160" y="3043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76480" y="2912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95640" y="2917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892320" y="2927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854520" y="3063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3863520" y="3080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902040" y="3089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95560" y="3071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43080" y="3082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855960" y="3081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3854520" y="3074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62160" y="3130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35160" y="3135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54440" y="3065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73240" y="3109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54440" y="3111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46240" y="3116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65600" y="3082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22480" y="3068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3841200" y="3072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3833280" y="3074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3828960" y="3079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812760" y="3085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3805200" y="3092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3801960" y="3097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flipV="1">
                <a:off x="3787200" y="3100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3782520" y="3106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868200" y="3124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855600" y="3119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830400" y="3108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817440" y="3103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805200" y="3098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794040" y="3092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781440" y="3087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925440" y="3103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907800" y="3097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890520" y="3092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872880" y="3085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857040" y="3079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837960" y="3073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620880" y="2862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63720" y="2938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95760" y="290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87480" y="2901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06560" y="2946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11600" y="2954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14480" y="2931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9800" y="2930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98640" y="2912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55800" y="2908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52560" y="2904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93880" y="2958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92600" y="3101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43360" y="3109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33640" y="3103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41560" y="3117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60640" y="3124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30400" y="3112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36880" y="3119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7120" y="3116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70280" y="3074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40120" y="3081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84320" y="3103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17800" y="3079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30400" y="3097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848040" y="3085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51280" y="308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09880" y="3093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01880" y="3090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705120" y="3095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24120" y="2990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46440" y="2984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5680" y="2976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12960" y="3162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32040" y="3252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06840" y="2852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64000" y="3097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65440" y="3105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4356000" y="2708280"/>
              <a:ext cx="577800" cy="450720"/>
              <a:chOff x="4356000" y="2708280"/>
              <a:chExt cx="577800" cy="450720"/>
            </a:xfrm>
          </p:grpSpPr>
          <p:sp>
            <p:nvSpPr>
              <p:cNvPr id="594" name=""/>
              <p:cNvSpPr/>
              <p:nvPr/>
            </p:nvSpPr>
            <p:spPr>
              <a:xfrm>
                <a:off x="4635360" y="290808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04920" y="293364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35360" y="290808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27160" y="289872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68480" y="276840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787640" y="277344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84320" y="278280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46520" y="291924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4655520" y="293652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94040" y="294480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87560" y="292716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5080" y="293832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47960" y="293688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4646520" y="293004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54160" y="29858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27160" y="29908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46440" y="292104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65240" y="296532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46440" y="296712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638240" y="297180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57600" y="293832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14480" y="292428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4633200" y="292860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625280" y="293040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620960" y="293508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4604760" y="294156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4597200" y="294804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4593960" y="295272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4579200" y="295596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4574520" y="296172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4660200" y="297972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4647600" y="297504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4622400" y="296388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4609440" y="295920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4597200" y="295416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586040" y="294804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4573440" y="294300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717440" y="295920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699800" y="295272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4682520" y="29480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4664880" y="29415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649040" y="293508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4629960" y="292896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12880" y="2717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55720" y="2793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87760" y="27655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79480" y="275724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98560" y="2801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503600" y="2809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06480" y="2787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1800" y="2786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90640" y="2768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47800" y="2763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444560" y="276048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85880" y="281448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584600" y="295740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35360" y="29653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25640" y="29592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33560" y="29732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52640" y="2979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22400" y="2968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28880" y="29750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59120" y="2971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62280" y="2930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32120" y="29368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76320" y="2959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09800" y="293508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22400" y="2952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40040" y="294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3280" y="2938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01880" y="2949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93880" y="294624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97120" y="295092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416120" y="284616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38440" y="284004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87680" y="283212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04960" y="3017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24040" y="310824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98840" y="270828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56000" y="295272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57440" y="296064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48360" y="2852640"/>
              <a:ext cx="577800" cy="450720"/>
              <a:chOff x="5148360" y="2852640"/>
              <a:chExt cx="577800" cy="450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427720" y="3052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7280" y="3078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27720" y="3052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9520" y="3043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60840" y="2912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80000" y="2917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6680" y="2927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38880" y="3063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5447880" y="3080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6400" y="3089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79920" y="3071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27440" y="3082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40320" y="3081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5438880" y="3074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46520" y="3130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19520" y="3135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38800" y="3065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57600" y="3109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38800" y="3111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430600" y="3116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49960" y="3082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06840" y="3068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5425560" y="3072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417640" y="3074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5413320" y="3079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397120" y="3085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5389560" y="3092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5386320" y="3097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5371560" y="3100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5366880" y="3106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5452560" y="3124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5439960" y="3119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5414760" y="3108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5401800" y="3103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5389560" y="3098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5378400" y="3092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5365800" y="3087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5509800" y="3103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5492160" y="3097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5474880" y="3092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5457240" y="3085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5441400" y="3079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5422320" y="3073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05240" y="2862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48080" y="2938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80120" y="290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71840" y="2901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90920" y="2946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295960" y="2954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298840" y="2931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94160" y="2930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83000" y="2912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40160" y="2908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236920" y="2904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78240" y="2958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376960" y="3101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27720" y="3109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418000" y="3103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425920" y="3117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45000" y="3124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14760" y="3112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421240" y="3119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451480" y="3116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354640" y="3074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424480" y="3081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68680" y="3103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02160" y="3079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14760" y="3097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32400" y="3085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35640" y="308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394240" y="3093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86240" y="3090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89480" y="3095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08480" y="2990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30800" y="2984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80040" y="2976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197320" y="3162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16400" y="3252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91200" y="2852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148360" y="3097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49800" y="3105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5724360" y="3284640"/>
              <a:ext cx="577800" cy="450720"/>
              <a:chOff x="5724360" y="3284640"/>
              <a:chExt cx="577800" cy="450720"/>
            </a:xfrm>
          </p:grpSpPr>
          <p:sp>
            <p:nvSpPr>
              <p:cNvPr id="758" name=""/>
              <p:cNvSpPr/>
              <p:nvPr/>
            </p:nvSpPr>
            <p:spPr>
              <a:xfrm>
                <a:off x="6003720" y="3484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73280" y="3510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03720" y="3484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095520" y="3475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036840" y="3344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56000" y="3349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052680" y="3359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14880" y="3495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6023880" y="3512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062400" y="3521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055920" y="3503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103440" y="3514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016320" y="3513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6014880" y="3506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122520" y="3562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095520" y="3567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914800" y="3497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33600" y="3541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14800" y="3543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06600" y="3548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25960" y="3514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82840" y="3500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6001560" y="3504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 flipV="1">
                <a:off x="5993640" y="3506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5989320" y="3511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flipV="1">
                <a:off x="5973120" y="3517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 flipV="1">
                <a:off x="5965560" y="3524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>
                <a:off x="5962320" y="3529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5947560" y="3532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flipV="1">
                <a:off x="5942880" y="3538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6028560" y="3556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015960" y="3551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5990760" y="3540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977800" y="3535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5965560" y="3530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5954400" y="3524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5941800" y="3519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085800" y="3535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068160" y="3529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050880" y="3524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033240" y="3517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6017400" y="3511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5998320" y="3505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81240" y="3294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24080" y="3370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56120" y="3341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47840" y="3333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6920" y="3378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71960" y="3386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74840" y="3363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70160" y="336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59000" y="3344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16160" y="3340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812920" y="3336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54240" y="3390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952960" y="3533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03720" y="3541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94000" y="3535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01920" y="3549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21000" y="35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90760" y="354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997240" y="355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7480" y="35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930640" y="3506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00480" y="3513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944680" y="3535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978160" y="35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90760" y="35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008400" y="35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11640" y="35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970240" y="35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62240" y="3522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65480" y="3527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784480" y="3422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806800" y="3416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56040" y="3408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73320" y="3594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92400" y="3684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767200" y="3284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24360" y="3529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725800" y="3537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5796000" y="3933720"/>
              <a:ext cx="577800" cy="450720"/>
              <a:chOff x="5796000" y="3933720"/>
              <a:chExt cx="577800" cy="450720"/>
            </a:xfrm>
          </p:grpSpPr>
          <p:sp>
            <p:nvSpPr>
              <p:cNvPr id="840" name=""/>
              <p:cNvSpPr/>
              <p:nvPr/>
            </p:nvSpPr>
            <p:spPr>
              <a:xfrm>
                <a:off x="6075360" y="413352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44920" y="415908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75360" y="41335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67160" y="412416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108480" y="399384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27640" y="39988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24320" y="400824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086520" y="41446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6095520" y="41619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34040" y="41702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27560" y="41526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75080" y="416376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87960" y="416232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 flipV="1">
                <a:off x="6086520" y="415548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94160" y="42112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67160" y="42163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986440" y="41464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105240" y="419076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986440" y="419256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78240" y="41972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97600" y="41637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54480" y="414972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flipV="1">
                <a:off x="6073200" y="41540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flipV="1">
                <a:off x="6065280" y="415584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flipV="1">
                <a:off x="6060960" y="41605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flipV="1">
                <a:off x="6044760" y="41670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6037200" y="41734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033960" y="417816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flipV="1">
                <a:off x="6019200" y="418140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flipV="1">
                <a:off x="6014520" y="41871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100200" y="42051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087600" y="42004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062400" y="418932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049440" y="41846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6037200" y="41796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6026040" y="41734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013440" y="41684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157440" y="418464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6139800" y="41781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122520" y="41734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6104880" y="41670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089040" y="416052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069960" y="41544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52880" y="394308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89572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927760" y="39909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919480" y="39826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938560" y="4027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943600" y="4035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946480" y="4012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941800" y="4011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930640" y="3993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87800" y="398916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84560" y="398592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25880" y="40399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024600" y="418284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075360" y="41907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65640" y="418464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073560" y="4198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92640" y="420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062400" y="419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068880" y="4200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99120" y="419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002280" y="4155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072120" y="4162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016320" y="4184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049800" y="4160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062400" y="417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080040" y="416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83280" y="4163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041880" y="417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933880" y="41716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937120" y="41763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56120" y="40716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878440" y="406548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27680" y="40575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44960" y="42433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4040" y="43336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38840" y="39337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796000" y="41781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797440" y="418608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1704600" y="5771160"/>
            <a:ext cx="1708920" cy="710640"/>
            <a:chOff x="1704600" y="5771160"/>
            <a:chExt cx="1708920" cy="710640"/>
          </a:xfrm>
        </p:grpSpPr>
        <p:sp>
          <p:nvSpPr>
            <p:cNvPr id="922" name=""/>
            <p:cNvSpPr/>
            <p:nvPr/>
          </p:nvSpPr>
          <p:spPr>
            <a:xfrm>
              <a:off x="2401920" y="577116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704600" y="6113520"/>
              <a:ext cx="170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增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ST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查询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088960" y="5949000"/>
            <a:ext cx="1708920" cy="710640"/>
            <a:chOff x="5088960" y="5949000"/>
            <a:chExt cx="1708920" cy="710640"/>
          </a:xfrm>
        </p:grpSpPr>
        <p:sp>
          <p:nvSpPr>
            <p:cNvPr id="925" name=""/>
            <p:cNvSpPr/>
            <p:nvPr/>
          </p:nvSpPr>
          <p:spPr>
            <a:xfrm>
              <a:off x="5786640" y="594900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88960" y="6291360"/>
              <a:ext cx="170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增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ST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查询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2164320" y="3429000"/>
            <a:ext cx="4165920" cy="3384720"/>
            <a:chOff x="2164320" y="3429000"/>
            <a:chExt cx="4165920" cy="338472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4211640" y="3429000"/>
              <a:ext cx="53820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3420360" y="4288320"/>
              <a:ext cx="200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AA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2.168.1.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BB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2.168.1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57720" y="486792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64320" y="518508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37800" y="525672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900000" y="1628640"/>
            <a:ext cx="3384000" cy="2376000"/>
            <a:chOff x="900000" y="1628640"/>
            <a:chExt cx="3384000" cy="2376000"/>
          </a:xfrm>
        </p:grpSpPr>
        <p:grpSp>
          <p:nvGrpSpPr>
            <p:cNvPr id="934" name=""/>
            <p:cNvGrpSpPr/>
            <p:nvPr/>
          </p:nvGrpSpPr>
          <p:grpSpPr>
            <a:xfrm>
              <a:off x="900000" y="1628640"/>
              <a:ext cx="3384000" cy="2376000"/>
              <a:chOff x="900000" y="1628640"/>
              <a:chExt cx="3384000" cy="237600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900000" y="1844640"/>
                <a:ext cx="3384000" cy="2160000"/>
                <a:chOff x="900000" y="1844640"/>
                <a:chExt cx="3384000" cy="21600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2055600" y="1853640"/>
                  <a:ext cx="1467000" cy="88128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243080" y="2086920"/>
                  <a:ext cx="1123560" cy="88164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900000" y="2622240"/>
                  <a:ext cx="753480" cy="71712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129320" y="2941560"/>
                  <a:ext cx="1138680" cy="78624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1940040" y="3071160"/>
                  <a:ext cx="1704600" cy="9252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030480" y="2112840"/>
                  <a:ext cx="1090080" cy="6912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194280" y="2562120"/>
                  <a:ext cx="1081800" cy="6912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095640" y="2709360"/>
                  <a:ext cx="1073160" cy="11394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514520" y="2363040"/>
                  <a:ext cx="2187360" cy="114912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055960" y="1844640"/>
                  <a:ext cx="1482480" cy="89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44" y="7417"/>
                      </a:moveTo>
                      <a:arcTo wR="10800" hR="10800" stAng="-9704716" swAng="84225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44" y="7417"/>
                      </a:moveTo>
                      <a:arcTo wR="10800" hR="10800" stAng="-9704716" swAng="8422506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064240" y="1851480"/>
                  <a:ext cx="1467000" cy="87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47" y="7405"/>
                      </a:moveTo>
                      <a:arcTo wR="10800" hR="10800" stAng="-9700762" swAng="84140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47" y="7405"/>
                      </a:moveTo>
                      <a:arcTo wR="10800" hR="10800" stAng="-9700762" swAng="8414042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243080" y="2077920"/>
                  <a:ext cx="1131480" cy="89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8"/>
                      </a:moveTo>
                      <a:arcTo wR="10800" hR="10800" stAng="10033408" swAng="80978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8"/>
                      </a:moveTo>
                      <a:arcTo wR="10800" hR="10800" stAng="10033408" swAng="8097848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251720" y="2084760"/>
                  <a:ext cx="1115280" cy="87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8" y="13189"/>
                      </a:moveTo>
                      <a:arcTo wR="10800" hR="10800" stAng="10033171" swAng="8097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8" y="13189"/>
                      </a:moveTo>
                      <a:arcTo wR="10800" hR="10800" stAng="10033171" swAng="8097590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121040" y="2926080"/>
                  <a:ext cx="1172160" cy="80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59" y="20233"/>
                      </a:moveTo>
                      <a:arcTo wR="10800" hR="10800" stAng="3651570" swAng="72871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59" y="20233"/>
                      </a:moveTo>
                      <a:arcTo wR="10800" hR="10800" stAng="3651570" swAng="7287103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129320" y="2932200"/>
                  <a:ext cx="1154160" cy="78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49" y="20239"/>
                      </a:moveTo>
                      <a:arcTo wR="10800" hR="10800" stAng="3655214" swAng="72838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49" y="20239"/>
                      </a:moveTo>
                      <a:arcTo wR="10800" hR="10800" stAng="3655214" swAng="7283805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038400" y="2103840"/>
                  <a:ext cx="1090080" cy="689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59" y="214"/>
                      </a:moveTo>
                      <a:arcTo wR="10800" hR="10800" stAng="-6085934" swAng="79005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59" y="214"/>
                      </a:moveTo>
                      <a:arcTo wR="10800" hR="10800" stAng="-6085934" swAng="7900515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3048120" y="2110320"/>
                  <a:ext cx="1072080" cy="67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68" y="213"/>
                      </a:moveTo>
                      <a:arcTo wR="10800" hR="10800" stAng="-6083167" swAng="7903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68" y="213"/>
                      </a:moveTo>
                      <a:arcTo wR="10800" hR="10800" stAng="-6083167" swAng="7903964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030840" y="2536920"/>
                  <a:ext cx="1253160" cy="75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28" y="2432"/>
                      </a:moveTo>
                      <a:arcTo wR="10800" hR="10800" stAng="-3047206" swAng="51744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28" y="2432"/>
                      </a:moveTo>
                      <a:arcTo wR="10800" hR="10800" stAng="-3047206" swAng="5174498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039480" y="2543040"/>
                  <a:ext cx="1236240" cy="745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0" y="2417"/>
                      </a:moveTo>
                      <a:arcTo wR="10800" hR="10800" stAng="-3054632" swAng="51890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0" y="2417"/>
                      </a:moveTo>
                      <a:arcTo wR="10800" hR="10800" stAng="-3054632" swAng="5189095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078360" y="2718360"/>
                  <a:ext cx="1107000" cy="115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59" y="7746"/>
                      </a:moveTo>
                      <a:arcTo wR="10800" hR="10800" stAng="-985469" swAng="750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59" y="7746"/>
                      </a:moveTo>
                      <a:arcTo wR="10800" hR="10800" stAng="-985469" swAng="7506517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087720" y="2724480"/>
                  <a:ext cx="1089360" cy="114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62" y="7756"/>
                      </a:moveTo>
                      <a:arcTo wR="10800" hR="10800" stAng="-982174" swAng="75069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62" y="7756"/>
                      </a:moveTo>
                      <a:arcTo wR="10800" hR="10800" stAng="-982174" swAng="7506920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900000" y="2615040"/>
                  <a:ext cx="794520" cy="73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78" y="20698"/>
                      </a:moveTo>
                      <a:arcTo wR="10800" hR="10800" stAng="6815261" swAng="9187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78" y="20698"/>
                      </a:moveTo>
                      <a:arcTo wR="10800" hR="10800" stAng="6815261" swAng="9187776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908280" y="2621880"/>
                  <a:ext cx="777240" cy="719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68" y="20693"/>
                      </a:moveTo>
                      <a:arcTo wR="10800" hR="10800" stAng="6818802" swAng="91836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68" y="20693"/>
                      </a:moveTo>
                      <a:arcTo wR="10800" hR="10800" stAng="6818802" swAng="9183683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949040" y="3149640"/>
                  <a:ext cx="1670400" cy="85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25" y="17026"/>
                      </a:moveTo>
                      <a:arcTo wR="10800" hR="10800" stAng="2112076" swAng="7949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25" y="17026"/>
                      </a:moveTo>
                      <a:arcTo wR="10800" hR="10800" stAng="2112076" swAng="7949046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956960" y="3156480"/>
                  <a:ext cx="1653840" cy="84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08" y="17050"/>
                      </a:moveTo>
                      <a:arcTo wR="10800" hR="10800" stAng="2121440" swAng="79355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08" y="17050"/>
                      </a:moveTo>
                      <a:arcTo wR="10800" hR="10800" stAng="2121440" swAng="7935533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971640" y="3141720"/>
                <a:ext cx="577800" cy="450720"/>
                <a:chOff x="971640" y="3141720"/>
                <a:chExt cx="577800" cy="45072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1251000" y="334152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420560" y="336708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251000" y="334152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342800" y="333216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284120" y="320184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403280" y="320688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299960" y="321624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262160" y="335268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flipV="1">
                  <a:off x="1271160" y="336996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309680" y="337824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303200" y="336060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350720" y="337176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263600" y="337032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1262160" y="336348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369800" y="341928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42800" y="342432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162080" y="335448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280880" y="339876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62080" y="340056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253880" y="340524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173240" y="337176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230120" y="335772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flipV="1">
                  <a:off x="1248840" y="336204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flipV="1">
                  <a:off x="1240920" y="336384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1236600" y="336852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>
                  <a:off x="1220400" y="337500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flipV="1">
                  <a:off x="1212840" y="338148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flipV="1">
                  <a:off x="1209600" y="338616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flipV="1">
                  <a:off x="1194840" y="338940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1190160" y="339516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1275840" y="341316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1263240" y="340848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1238040" y="339732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1225080" y="339264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1212840" y="338760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1201680" y="338148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1189080" y="337644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1333080" y="339264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1315440" y="338616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1298160" y="338148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1280520" y="337500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1264680" y="336852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1245600" y="336240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028520" y="315108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071360" y="32274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103400" y="319896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095120" y="319068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114200" y="32353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119240" y="32432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122120" y="322092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117440" y="32194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06280" y="32018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063440" y="319716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060200" y="319392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001520" y="324792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200240" y="339084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251000" y="339876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241280" y="339264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249200" y="340668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268280" y="3413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238040" y="340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1244520" y="34084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274760" y="34052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177920" y="336384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247760" y="3370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191960" y="33926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225440" y="336852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238040" y="3386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255680" y="3375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258920" y="3371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217520" y="338292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109520" y="337968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112760" y="338436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031760" y="327960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054080" y="327348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1003320" y="326556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020600" y="345132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1039680" y="354168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014480" y="314172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971640" y="338616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973080" y="339408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900000" y="2421000"/>
                <a:ext cx="577800" cy="450720"/>
                <a:chOff x="900000" y="2421000"/>
                <a:chExt cx="577800" cy="45072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179360" y="262080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348920" y="264636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1179360" y="262080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271160" y="261144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212480" y="248112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331640" y="248616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228320" y="249552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190520" y="263196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 flipV="1">
                  <a:off x="1199520" y="264924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238040" y="265752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231560" y="263988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279080" y="265104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191960" y="264960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>
                  <a:off x="1190520" y="264276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298160" y="269856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271160" y="270360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090440" y="263376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209240" y="267804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090440" y="267984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182240" y="268452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101600" y="265104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158480" y="263700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1177200" y="264132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>
                  <a:off x="1169280" y="264312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>
                  <a:off x="1164960" y="264780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>
                  <a:off x="1148760" y="265428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 flipV="1">
                  <a:off x="1141200" y="266076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flipV="1">
                  <a:off x="1137960" y="266544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1123200" y="266868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>
                  <a:off x="1118520" y="267444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>
                  <a:off x="1204200" y="269244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>
                  <a:off x="1191600" y="268776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1166400" y="267660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>
                  <a:off x="1153440" y="267192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1141200" y="266688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1130040" y="266076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1117440" y="265572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1261440" y="267192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1243800" y="266544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>
                  <a:off x="1226520" y="266076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1208880" y="265428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>
                  <a:off x="1193040" y="264780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>
                  <a:off x="1173960" y="264168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956880" y="243036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999720" y="250668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031760" y="247824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023480" y="246996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042560" y="25146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047600" y="25225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050480" y="250020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045800" y="24987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034640" y="2481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991800" y="247644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88560" y="247320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929880" y="252720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128600" y="267012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179360" y="267804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169640" y="267192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177560" y="268596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196640" y="26924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166400" y="2681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172880" y="26877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1203120" y="2684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1106280" y="264312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176120" y="26496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120320" y="267192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1153800" y="264780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1166400" y="26654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184040" y="2654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187280" y="26510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145880" y="26622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037880" y="265896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041120" y="266364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960120" y="255888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982440" y="255276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931680" y="254484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948960" y="273060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968040" y="282096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942840" y="242100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900000" y="266544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901440" y="267336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1547640" y="1916280"/>
                <a:ext cx="577800" cy="450720"/>
                <a:chOff x="1547640" y="1916280"/>
                <a:chExt cx="577800" cy="450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1827000" y="211608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996560" y="214164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1827000" y="211608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918800" y="210672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1860120" y="197640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979280" y="198144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875960" y="199080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838160" y="212724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 flipV="1">
                  <a:off x="1847160" y="214452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885680" y="215280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879200" y="213516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926720" y="214632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839600" y="214488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flipV="1">
                  <a:off x="1838160" y="213804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945800" y="219384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18800" y="219888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738080" y="212904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856880" y="217332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738080" y="217512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829880" y="217980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749240" y="214632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806120" y="213228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>
                  <a:off x="1824840" y="213660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816920" y="213840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 flipV="1">
                  <a:off x="1812600" y="214308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 flipV="1">
                  <a:off x="1796400" y="214956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1788840" y="215604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 flipV="1">
                  <a:off x="1785600" y="216072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1770840" y="216396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1766160" y="216972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1851840" y="218772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1839240" y="218304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1814040" y="217188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1801080" y="216720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1788840" y="216216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H="1">
                  <a:off x="1777680" y="215604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1765080" y="215100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1909080" y="216720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1891440" y="216072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1874160" y="215604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>
                  <a:off x="1856520" y="214956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1840680" y="214308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1821600" y="213696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604520" y="192564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647360" y="200196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679400" y="19735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671120" y="196524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1690200" y="20098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695240" y="2017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698120" y="199548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693440" y="19940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682280" y="1976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639440" y="197172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636200" y="196848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577520" y="202248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776240" y="216540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827000" y="217332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817280" y="216720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825200" y="218124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844280" y="218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814040" y="2176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820520" y="21830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850760" y="2179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753920" y="213840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823760" y="21448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767960" y="21672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801440" y="214308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814040" y="21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831680" y="2149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834920" y="2146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793520" y="21574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685520" y="215424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688760" y="215892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607760" y="205416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630080" y="204804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79320" y="204012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96600" y="222588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615680" y="231624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90480" y="191628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47640" y="216072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49080" y="216864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2627280" y="1628640"/>
                <a:ext cx="577800" cy="450720"/>
                <a:chOff x="2627280" y="1628640"/>
                <a:chExt cx="577800" cy="45072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2906640" y="182844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076200" y="185400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906640" y="182844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998440" y="181908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939760" y="168876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058920" y="169380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955600" y="170316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917800" y="183960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 flipV="1">
                  <a:off x="2926800" y="185688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965320" y="186516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958840" y="184752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006360" y="185868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919240" y="185724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 flipV="1">
                  <a:off x="2917800" y="185040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025440" y="190620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998440" y="191124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817720" y="184140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936520" y="188568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817720" y="188748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909520" y="189216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828880" y="185868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85760" y="184464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 flipV="1">
                  <a:off x="2904480" y="184896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 flipV="1">
                  <a:off x="2896560" y="185076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 flipV="1">
                  <a:off x="2892240" y="185544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>
                  <a:off x="2876040" y="186192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 flipV="1">
                  <a:off x="2868480" y="186840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 flipV="1">
                  <a:off x="2865240" y="187308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 flipV="1">
                  <a:off x="2850480" y="187632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 flipV="1">
                  <a:off x="2845800" y="188208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>
                  <a:off x="2931480" y="190008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>
                  <a:off x="2918880" y="189540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>
                  <a:off x="2893680" y="188424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2880720" y="187956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2868480" y="187452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2857320" y="186840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2844720" y="186336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2988720" y="187956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2971080" y="187308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2953800" y="186840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2936160" y="186192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2920320" y="185544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2901240" y="184932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684160" y="163800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727000" y="171432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759040" y="168588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750760" y="167760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769840" y="172224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774880" y="17301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777760" y="17078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773080" y="17064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761920" y="1688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719080" y="168408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715840" y="168084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57160" y="173484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855880" y="187776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906640" y="188568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896920" y="187956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904840" y="18936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923920" y="1900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893680" y="188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900160" y="18954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930400" y="189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833560" y="185076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903400" y="18572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847600" y="1879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881080" y="185544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893680" y="1873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911320" y="1861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914560" y="1858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873160" y="18698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765160" y="186660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768400" y="187128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87400" y="176652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709720" y="176040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8960" y="175248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6240" y="193824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95320" y="202860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0120" y="162864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27280" y="187308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628720" y="188100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"/>
            <p:cNvGrpSpPr/>
            <p:nvPr/>
          </p:nvGrpSpPr>
          <p:grpSpPr>
            <a:xfrm>
              <a:off x="3419640" y="1916280"/>
              <a:ext cx="577800" cy="450720"/>
              <a:chOff x="3419640" y="1916280"/>
              <a:chExt cx="577800" cy="450720"/>
            </a:xfrm>
          </p:grpSpPr>
          <p:sp>
            <p:nvSpPr>
              <p:cNvPr id="1290" name=""/>
              <p:cNvSpPr/>
              <p:nvPr/>
            </p:nvSpPr>
            <p:spPr>
              <a:xfrm>
                <a:off x="3699000" y="211608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868560" y="214164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699000" y="211608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790800" y="210672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732120" y="197640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51280" y="198144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47960" y="199080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710160" y="212724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3719160" y="214452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757680" y="215280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751200" y="213516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798720" y="214632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711600" y="214488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3710160" y="213804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17800" y="21938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790800" y="21988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10080" y="212904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28880" y="217332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610080" y="217512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01880" y="217980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621240" y="214632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78120" y="213228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flipV="1">
                <a:off x="3696840" y="213660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flipV="1">
                <a:off x="3688920" y="213840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flipV="1">
                <a:off x="3684600" y="214308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flipV="1">
                <a:off x="3668400" y="214956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flipV="1">
                <a:off x="3660840" y="215604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flipV="1">
                <a:off x="3657600" y="216072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flipV="1">
                <a:off x="3642840" y="216396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flipV="1">
                <a:off x="3638160" y="216972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3723840" y="218772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3711240" y="218304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3686040" y="217188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3673080" y="216720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3660840" y="216216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3649680" y="215604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3637080" y="215100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3781080" y="216720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3763440" y="216072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3746160" y="21560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3728520" y="21495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3712680" y="214308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3693600" y="213696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76520" y="1925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519360" y="2001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551400" y="19735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543120" y="196524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562200" y="2009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567240" y="2017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570120" y="1995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565440" y="1994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554280" y="1976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511440" y="1971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508200" y="196848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449520" y="202248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648240" y="216540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699000" y="21733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689280" y="21672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697200" y="21812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716280" y="2187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686040" y="217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692520" y="21830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722760" y="2179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625920" y="2138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695760" y="21448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639960" y="2167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673440" y="214308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686040" y="2160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703680" y="2149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706920" y="2146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665520" y="2157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557520" y="215424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560760" y="215892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479760" y="205416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502080" y="204804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451320" y="204012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468600" y="2225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487680" y="231624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462480" y="191628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419640" y="216072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421080" y="216864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1" name=""/>
          <p:cNvGrpSpPr/>
          <p:nvPr/>
        </p:nvGrpSpPr>
        <p:grpSpPr>
          <a:xfrm>
            <a:off x="3851280" y="1341360"/>
            <a:ext cx="3530520" cy="2376000"/>
            <a:chOff x="3851280" y="1341360"/>
            <a:chExt cx="3530520" cy="2376000"/>
          </a:xfrm>
        </p:grpSpPr>
        <p:grpSp>
          <p:nvGrpSpPr>
            <p:cNvPr id="1372" name=""/>
            <p:cNvGrpSpPr/>
            <p:nvPr/>
          </p:nvGrpSpPr>
          <p:grpSpPr>
            <a:xfrm>
              <a:off x="3851280" y="1557360"/>
              <a:ext cx="3384000" cy="2160000"/>
              <a:chOff x="3851280" y="1557360"/>
              <a:chExt cx="3384000" cy="2160000"/>
            </a:xfrm>
          </p:grpSpPr>
          <p:sp>
            <p:nvSpPr>
              <p:cNvPr id="1373" name=""/>
              <p:cNvSpPr/>
              <p:nvPr/>
            </p:nvSpPr>
            <p:spPr>
              <a:xfrm>
                <a:off x="5006880" y="1566360"/>
                <a:ext cx="1467000" cy="8812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94360" y="1799640"/>
                <a:ext cx="1123560" cy="8816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51280" y="2334960"/>
                <a:ext cx="753480" cy="717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80600" y="2654280"/>
                <a:ext cx="1138680" cy="786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91320" y="2783880"/>
                <a:ext cx="1704600" cy="925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1760" y="1825560"/>
                <a:ext cx="109008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145560" y="2274840"/>
                <a:ext cx="108180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046920" y="2422080"/>
                <a:ext cx="1073160" cy="11394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465800" y="2075760"/>
                <a:ext cx="2187360" cy="1149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007240" y="1557360"/>
                <a:ext cx="1482480" cy="89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4" y="7417"/>
                    </a:moveTo>
                    <a:arcTo wR="10800" hR="10800" stAng="-9704716" swAng="8422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4" y="7417"/>
                    </a:moveTo>
                    <a:arcTo wR="10800" hR="10800" stAng="-9704716" swAng="842250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015520" y="1564200"/>
                <a:ext cx="14670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7" y="7405"/>
                    </a:moveTo>
                    <a:arcTo wR="10800" hR="10800" stAng="-9700762" swAng="8414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7" y="7405"/>
                    </a:moveTo>
                    <a:arcTo wR="10800" hR="10800" stAng="-9700762" swAng="8414042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194360" y="1790640"/>
                <a:ext cx="1131480" cy="89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408" swAng="8097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408" swAng="809784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03000" y="1797480"/>
                <a:ext cx="1115280" cy="87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8" y="13189"/>
                    </a:moveTo>
                    <a:arcTo wR="10800" hR="10800" stAng="10033171" swAng="8097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8" y="13189"/>
                    </a:moveTo>
                    <a:arcTo wR="10800" hR="10800" stAng="10033171" swAng="809759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072320" y="2638800"/>
                <a:ext cx="1172160" cy="80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9" y="20233"/>
                    </a:moveTo>
                    <a:arcTo wR="10800" hR="10800" stAng="3651570" swAng="72871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9" y="20233"/>
                    </a:moveTo>
                    <a:arcTo wR="10800" hR="10800" stAng="3651570" swAng="728710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080600" y="2644920"/>
                <a:ext cx="1154160" cy="78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9" y="20239"/>
                    </a:moveTo>
                    <a:arcTo wR="10800" hR="10800" stAng="3655214" swAng="72838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9" y="20239"/>
                    </a:moveTo>
                    <a:arcTo wR="10800" hR="10800" stAng="3655214" swAng="728380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989680" y="1816560"/>
                <a:ext cx="10900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59" y="214"/>
                    </a:moveTo>
                    <a:arcTo wR="10800" hR="10800" stAng="-6085934" swAng="7900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59" y="214"/>
                    </a:moveTo>
                    <a:arcTo wR="10800" hR="10800" stAng="-6085934" swAng="7900515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99400" y="1823040"/>
                <a:ext cx="1072080" cy="67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8" y="213"/>
                    </a:moveTo>
                    <a:arcTo wR="10800" hR="10800" stAng="-6083167" swAng="7903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8" y="213"/>
                    </a:moveTo>
                    <a:arcTo wR="10800" hR="10800" stAng="-6083167" swAng="7903964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982120" y="2249640"/>
                <a:ext cx="1253160" cy="75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28" y="2432"/>
                    </a:moveTo>
                    <a:arcTo wR="10800" hR="10800" stAng="-3047206" swAng="5174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28" y="2432"/>
                    </a:moveTo>
                    <a:arcTo wR="10800" hR="10800" stAng="-3047206" swAng="517449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90760" y="2255760"/>
                <a:ext cx="1236240" cy="74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10" y="2417"/>
                    </a:moveTo>
                    <a:arcTo wR="10800" hR="10800" stAng="-3054632" swAng="5189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10" y="2417"/>
                    </a:moveTo>
                    <a:arcTo wR="10800" hR="10800" stAng="-3054632" swAng="518909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029640" y="2431080"/>
                <a:ext cx="1107000" cy="115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9" y="7746"/>
                    </a:moveTo>
                    <a:arcTo wR="10800" hR="10800" stAng="-985469" swAng="750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9" y="7746"/>
                    </a:moveTo>
                    <a:arcTo wR="10800" hR="10800" stAng="-985469" swAng="7506517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039000" y="2437200"/>
                <a:ext cx="1089360" cy="114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62" y="7756"/>
                    </a:moveTo>
                    <a:arcTo wR="10800" hR="10800" stAng="-982174" swAng="7506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62" y="7756"/>
                    </a:moveTo>
                    <a:arcTo wR="10800" hR="10800" stAng="-982174" swAng="750692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51280" y="2327760"/>
                <a:ext cx="794520" cy="73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8" y="20698"/>
                    </a:moveTo>
                    <a:arcTo wR="10800" hR="10800" stAng="6815261" swAng="918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8" y="20698"/>
                    </a:moveTo>
                    <a:arcTo wR="10800" hR="10800" stAng="6815261" swAng="91877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59560" y="2334600"/>
                <a:ext cx="777240" cy="71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68" y="20693"/>
                    </a:moveTo>
                    <a:arcTo wR="10800" hR="10800" stAng="6818802" swAng="91836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68" y="20693"/>
                    </a:moveTo>
                    <a:arcTo wR="10800" hR="10800" stAng="6818802" swAng="918368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900320" y="2862360"/>
                <a:ext cx="1670400" cy="85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25" y="17026"/>
                    </a:moveTo>
                    <a:arcTo wR="10800" hR="10800" stAng="2112076" swAng="794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25" y="17026"/>
                    </a:moveTo>
                    <a:arcTo wR="10800" hR="10800" stAng="2112076" swAng="794904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08240" y="2869200"/>
                <a:ext cx="1653840" cy="84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08" y="17050"/>
                    </a:moveTo>
                    <a:arcTo wR="10800" hR="10800" stAng="2121440" swAng="7935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08" y="17050"/>
                    </a:moveTo>
                    <a:arcTo wR="10800" hR="10800" stAng="2121440" swAng="793553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4572000" y="1628640"/>
              <a:ext cx="577800" cy="450720"/>
              <a:chOff x="4572000" y="1628640"/>
              <a:chExt cx="577800" cy="450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4851360" y="1828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20920" y="1854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851360" y="1828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43160" y="1819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84480" y="1688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03640" y="1693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900320" y="1703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62520" y="1839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 flipV="1">
                <a:off x="4871520" y="1856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910040" y="1865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03560" y="1847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51080" y="1858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863960" y="1857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4862520" y="1850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970160" y="1906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943160" y="1911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62440" y="1841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81240" y="1885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62440" y="1887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54240" y="1892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73600" y="1858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830480" y="1844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4849200" y="1848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841280" y="1850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 flipV="1">
                <a:off x="4836960" y="1855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 flipV="1">
                <a:off x="4820760" y="1861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 flipV="1">
                <a:off x="4813200" y="1868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4809960" y="1873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4795200" y="1876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790520" y="1882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4876200" y="1900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863600" y="1895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4838400" y="1884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4825440" y="1879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4813200" y="1874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4802040" y="1868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4789440" y="1863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933440" y="1879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4915800" y="1873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898520" y="1868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880880" y="1861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4865040" y="1855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4845960" y="1849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628880" y="1638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671720" y="1714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703760" y="1685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695480" y="1677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714560" y="1722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719600" y="1730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722480" y="1707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17800" y="1706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706640" y="1688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63800" y="1684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60560" y="1680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01880" y="1734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800600" y="1877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851360" y="1885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841640" y="1879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849560" y="1893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868640" y="1900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38400" y="188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844880" y="1895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75120" y="1892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778280" y="1850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848120" y="1857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92320" y="1879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25800" y="1855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38400" y="187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856040" y="1861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859280" y="185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817880" y="1869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09880" y="1866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13120" y="1871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632120" y="1766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654440" y="1760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603680" y="1752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620960" y="1938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640040" y="2028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614840" y="1628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572000" y="1873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573440" y="1881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5508720" y="1341360"/>
              <a:ext cx="577800" cy="450720"/>
              <a:chOff x="5508720" y="1341360"/>
              <a:chExt cx="577800" cy="450720"/>
            </a:xfrm>
          </p:grpSpPr>
          <p:sp>
            <p:nvSpPr>
              <p:cNvPr id="1481" name=""/>
              <p:cNvSpPr/>
              <p:nvPr/>
            </p:nvSpPr>
            <p:spPr>
              <a:xfrm>
                <a:off x="5788080" y="154116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957640" y="156672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788080" y="154116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879880" y="153180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821200" y="140148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940360" y="140652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37040" y="141588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799240" y="155232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 flipV="1">
                <a:off x="5808240" y="156960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46760" y="157788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40280" y="156024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87800" y="157140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00680" y="156996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 flipV="1">
                <a:off x="5799240" y="156312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906880" y="161892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79880" y="1623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699160" y="15541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17960" y="159840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699160" y="160020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90960" y="16048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10320" y="157140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767200" y="155736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flipV="1">
                <a:off x="5785920" y="156168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5778000" y="156348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flipV="1">
                <a:off x="5773680" y="156816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 flipV="1">
                <a:off x="5757480" y="157464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flipV="1">
                <a:off x="5749920" y="158112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5746680" y="158580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5731920" y="158904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 flipV="1">
                <a:off x="5727240" y="159480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5812920" y="161280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5800320" y="16081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5775120" y="159696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762160" y="159228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5749920" y="158724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5738760" y="158112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5726160" y="157608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5870160" y="159228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5852520" y="158580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5835240" y="15811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5817600" y="15746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5801760" y="156816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5782680" y="156204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65600" y="135072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608440" y="14270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40480" y="13986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32200" y="139032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51280" y="1434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56320" y="14428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59200" y="142056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54520" y="1419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43360" y="1401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600520" y="13968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97280" y="139356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538600" y="144756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737320" y="159048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88080" y="15984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78360" y="159228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86280" y="1606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805360" y="1612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75120" y="1601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81600" y="1608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11840" y="1604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15000" y="1563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784840" y="15699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729040" y="15922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762520" y="1568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775120" y="1585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792760" y="1574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796000" y="1571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754600" y="1582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646600" y="157932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649840" y="158400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568840" y="147924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591160" y="147312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540400" y="146520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557680" y="16509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576760" y="174132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51560" y="134136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08720" y="158580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510160" y="159372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6443640" y="1557360"/>
              <a:ext cx="577800" cy="450720"/>
              <a:chOff x="6443640" y="1557360"/>
              <a:chExt cx="577800" cy="450720"/>
            </a:xfrm>
          </p:grpSpPr>
          <p:sp>
            <p:nvSpPr>
              <p:cNvPr id="1563" name=""/>
              <p:cNvSpPr/>
              <p:nvPr/>
            </p:nvSpPr>
            <p:spPr>
              <a:xfrm>
                <a:off x="6723000" y="175716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892560" y="178272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723000" y="175716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814800" y="174780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756120" y="161748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875280" y="162252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771960" y="163188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734160" y="176832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 flipV="1">
                <a:off x="6743160" y="178560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781680" y="179388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75200" y="177624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22720" y="178740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35600" y="178596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6734160" y="177912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41800" y="183492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14800" y="183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634080" y="17701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52880" y="181440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634080" y="181620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725880" y="18208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645240" y="178740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702120" y="177336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flipV="1">
                <a:off x="6720840" y="177768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 flipV="1">
                <a:off x="6712920" y="177948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 flipV="1">
                <a:off x="6708600" y="178416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 flipV="1">
                <a:off x="6692400" y="179064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 flipV="1">
                <a:off x="6684840" y="179712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6681600" y="180180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 flipV="1">
                <a:off x="6666840" y="180504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flipV="1">
                <a:off x="6662160" y="181080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6747840" y="182880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6735240" y="18241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>
                <a:off x="6710040" y="181296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6697080" y="180828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684840" y="180324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673680" y="179712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661080" y="179208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6805080" y="180828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6787440" y="180180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6770160" y="17971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752520" y="17906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6736680" y="178416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6717600" y="177804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500520" y="156672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543360" y="16430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75400" y="16146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567120" y="160632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586200" y="1650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91240" y="16588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594120" y="163656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589440" y="1635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578280" y="1617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535440" y="16128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32200" y="160956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73520" y="166356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672240" y="180648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723000" y="18144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713280" y="180828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721200" y="1822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740280" y="1828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710040" y="1817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716520" y="1824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746760" y="1820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49920" y="1779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719760" y="17859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63960" y="18082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697440" y="1784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710040" y="1801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727680" y="1790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730920" y="1787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9520" y="1798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581520" y="179532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584760" y="180000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503760" y="169524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526080" y="168912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475320" y="168120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492600" y="18669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511680" y="195732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486480" y="155736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443640" y="180180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445080" y="180972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804000" y="2421000"/>
              <a:ext cx="577800" cy="450720"/>
              <a:chOff x="6804000" y="2421000"/>
              <a:chExt cx="577800" cy="450720"/>
            </a:xfrm>
          </p:grpSpPr>
          <p:sp>
            <p:nvSpPr>
              <p:cNvPr id="1645" name=""/>
              <p:cNvSpPr/>
              <p:nvPr/>
            </p:nvSpPr>
            <p:spPr>
              <a:xfrm>
                <a:off x="7083360" y="2620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52920" y="2646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083360" y="2620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75160" y="2611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116480" y="2481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235640" y="2486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132320" y="2495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094520" y="2631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 flipV="1">
                <a:off x="7103520" y="2649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2040" y="2657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135560" y="2639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183080" y="2651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095960" y="2649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flipV="1">
                <a:off x="7094520" y="2642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202160" y="2698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175160" y="2703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94440" y="2633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113240" y="2678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994440" y="2679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86240" y="2684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05600" y="2651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62480" y="2637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flipV="1">
                <a:off x="7081200" y="2641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7073280" y="2643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 flipV="1">
                <a:off x="7068960" y="2647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 flipV="1">
                <a:off x="7052760" y="2654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flipV="1">
                <a:off x="7045200" y="2660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flipV="1">
                <a:off x="7041960" y="2665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 flipV="1">
                <a:off x="7027200" y="2668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 flipV="1">
                <a:off x="7022520" y="2674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7108200" y="2692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7095600" y="2687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7070400" y="2676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7057440" y="2671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7045200" y="2666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7034040" y="2660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7021440" y="2655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7165440" y="2671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7147800" y="2665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7130520" y="2660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7112880" y="2654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7097040" y="2647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7077960" y="2641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860880" y="2430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03720" y="2506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935760" y="247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927480" y="2469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946560" y="2514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951600" y="2522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54480" y="2500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949800" y="2498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938640" y="248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895800" y="2476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92560" y="2473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833880" y="2527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032600" y="2670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083360" y="2678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073640" y="2671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81560" y="2685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100640" y="2692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70400" y="268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076880" y="2687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107120" y="2684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010280" y="2643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80120" y="2649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024320" y="267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057800" y="2647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070400" y="2665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088040" y="2654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091280" y="2651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049880" y="2662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41880" y="2658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945120" y="2663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864120" y="2558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886440" y="2552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835680" y="2544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52960" y="2730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872040" y="2820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46840" y="2421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804000" y="2665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805440" y="2673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6" name=""/>
          <p:cNvGrpSpPr/>
          <p:nvPr/>
        </p:nvGrpSpPr>
        <p:grpSpPr>
          <a:xfrm>
            <a:off x="611280" y="3645000"/>
            <a:ext cx="3383640" cy="2250720"/>
            <a:chOff x="611280" y="3645000"/>
            <a:chExt cx="3383640" cy="2250720"/>
          </a:xfrm>
        </p:grpSpPr>
        <p:grpSp>
          <p:nvGrpSpPr>
            <p:cNvPr id="1727" name=""/>
            <p:cNvGrpSpPr/>
            <p:nvPr/>
          </p:nvGrpSpPr>
          <p:grpSpPr>
            <a:xfrm>
              <a:off x="611280" y="3645000"/>
              <a:ext cx="3383640" cy="2159640"/>
              <a:chOff x="611280" y="3645000"/>
              <a:chExt cx="3383640" cy="2159640"/>
            </a:xfrm>
          </p:grpSpPr>
          <p:sp>
            <p:nvSpPr>
              <p:cNvPr id="1728" name=""/>
              <p:cNvSpPr/>
              <p:nvPr/>
            </p:nvSpPr>
            <p:spPr>
              <a:xfrm>
                <a:off x="1766880" y="3654000"/>
                <a:ext cx="1466640" cy="8809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954360" y="3887280"/>
                <a:ext cx="1123200" cy="8812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11280" y="4422600"/>
                <a:ext cx="753480" cy="716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40600" y="4741920"/>
                <a:ext cx="1138320" cy="786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651320" y="4871160"/>
                <a:ext cx="1704600" cy="9248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741400" y="3913200"/>
                <a:ext cx="109008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905560" y="4362120"/>
                <a:ext cx="108180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806560" y="4509720"/>
                <a:ext cx="1073160" cy="11390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225800" y="4163400"/>
                <a:ext cx="2187360" cy="1149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767240" y="3645000"/>
                <a:ext cx="1482480" cy="89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4" y="7417"/>
                    </a:moveTo>
                    <a:arcTo wR="10800" hR="10800" stAng="-9704716" swAng="8422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4" y="7417"/>
                    </a:moveTo>
                    <a:arcTo wR="10800" hR="10800" stAng="-9704716" swAng="842250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775520" y="3651480"/>
                <a:ext cx="14670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7" y="7405"/>
                    </a:moveTo>
                    <a:arcTo wR="10800" hR="10800" stAng="-9700762" swAng="8414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7" y="7405"/>
                    </a:moveTo>
                    <a:arcTo wR="10800" hR="10800" stAng="-9700762" swAng="8414042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4360" y="3878280"/>
                <a:ext cx="1131480" cy="89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408" swAng="8097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408" swAng="809784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963000" y="3885120"/>
                <a:ext cx="1115280" cy="87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8" y="13189"/>
                    </a:moveTo>
                    <a:arcTo wR="10800" hR="10800" stAng="10033171" swAng="8097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8" y="13189"/>
                    </a:moveTo>
                    <a:arcTo wR="10800" hR="10800" stAng="10033171" swAng="809759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2320" y="4726440"/>
                <a:ext cx="1171800" cy="8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9" y="20233"/>
                    </a:moveTo>
                    <a:arcTo wR="10800" hR="10800" stAng="3651570" swAng="72871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9" y="20233"/>
                    </a:moveTo>
                    <a:arcTo wR="10800" hR="10800" stAng="3651570" swAng="728710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40600" y="4732920"/>
                <a:ext cx="1154160" cy="78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9" y="20239"/>
                    </a:moveTo>
                    <a:arcTo wR="10800" hR="10800" stAng="3655214" swAng="72838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9" y="20239"/>
                    </a:moveTo>
                    <a:arcTo wR="10800" hR="10800" stAng="3655214" swAng="728380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749320" y="3904200"/>
                <a:ext cx="10900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59" y="214"/>
                    </a:moveTo>
                    <a:arcTo wR="10800" hR="10800" stAng="-6085934" swAng="7900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59" y="214"/>
                    </a:moveTo>
                    <a:arcTo wR="10800" hR="10800" stAng="-6085934" swAng="7900515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759040" y="3910680"/>
                <a:ext cx="1072080" cy="67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8" y="213"/>
                    </a:moveTo>
                    <a:arcTo wR="10800" hR="10800" stAng="-6083167" swAng="7903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8" y="213"/>
                    </a:moveTo>
                    <a:arcTo wR="10800" hR="10800" stAng="-6083167" swAng="7903964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741760" y="4337280"/>
                <a:ext cx="1253160" cy="75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28" y="2432"/>
                    </a:moveTo>
                    <a:arcTo wR="10800" hR="10800" stAng="-3047206" swAng="5174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28" y="2432"/>
                    </a:moveTo>
                    <a:arcTo wR="10800" hR="10800" stAng="-3047206" swAng="517449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0400" y="4343400"/>
                <a:ext cx="1236240" cy="74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10" y="2417"/>
                    </a:moveTo>
                    <a:arcTo wR="10800" hR="10800" stAng="-3054632" swAng="5189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10" y="2417"/>
                    </a:moveTo>
                    <a:arcTo wR="10800" hR="10800" stAng="-3054632" swAng="518909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89280" y="4518360"/>
                <a:ext cx="1107000" cy="115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9" y="7746"/>
                    </a:moveTo>
                    <a:arcTo wR="10800" hR="10800" stAng="-985469" swAng="750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9" y="7746"/>
                    </a:moveTo>
                    <a:arcTo wR="10800" hR="10800" stAng="-985469" swAng="7506517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98640" y="4525200"/>
                <a:ext cx="1089360" cy="114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62" y="7756"/>
                    </a:moveTo>
                    <a:arcTo wR="10800" hR="10800" stAng="-982174" swAng="7506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62" y="7756"/>
                    </a:moveTo>
                    <a:arcTo wR="10800" hR="10800" stAng="-982174" swAng="750692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11280" y="4415400"/>
                <a:ext cx="794520" cy="73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8" y="20698"/>
                    </a:moveTo>
                    <a:arcTo wR="10800" hR="10800" stAng="6815261" swAng="918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8" y="20698"/>
                    </a:moveTo>
                    <a:arcTo wR="10800" hR="10800" stAng="6815261" swAng="91877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9560" y="4422240"/>
                <a:ext cx="777240" cy="71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68" y="20693"/>
                    </a:moveTo>
                    <a:arcTo wR="10800" hR="10800" stAng="6818802" swAng="91836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68" y="20693"/>
                    </a:moveTo>
                    <a:arcTo wR="10800" hR="10800" stAng="6818802" swAng="918368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659960" y="4949640"/>
                <a:ext cx="1670400" cy="85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25" y="17026"/>
                    </a:moveTo>
                    <a:arcTo wR="10800" hR="10800" stAng="2112076" swAng="794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25" y="17026"/>
                    </a:moveTo>
                    <a:arcTo wR="10800" hR="10800" stAng="2112076" swAng="794904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668240" y="4956480"/>
                <a:ext cx="1653480" cy="84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08" y="17050"/>
                    </a:moveTo>
                    <a:arcTo wR="10800" hR="10800" stAng="2121440" swAng="7935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08" y="17050"/>
                    </a:moveTo>
                    <a:arcTo wR="10800" hR="10800" stAng="2121440" swAng="793553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682560" y="4941720"/>
              <a:ext cx="577800" cy="450720"/>
              <a:chOff x="682560" y="4941720"/>
              <a:chExt cx="577800" cy="450720"/>
            </a:xfrm>
          </p:grpSpPr>
          <p:sp>
            <p:nvSpPr>
              <p:cNvPr id="1754" name=""/>
              <p:cNvSpPr/>
              <p:nvPr/>
            </p:nvSpPr>
            <p:spPr>
              <a:xfrm>
                <a:off x="961920" y="514152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131480" y="516708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961920" y="51415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053720" y="513216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995040" y="500184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114200" y="50068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010880" y="501624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973080" y="51526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 flipV="1">
                <a:off x="982080" y="51699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020600" y="51782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014120" y="51606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061640" y="517176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974520" y="517032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973080" y="516348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080720" y="52192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053720" y="52243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873000" y="51544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991800" y="519876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73000" y="520056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964800" y="52052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84160" y="51717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41040" y="515772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959760" y="51620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951840" y="516384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 flipV="1">
                <a:off x="947520" y="51685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931320" y="51750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923760" y="51814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 flipV="1">
                <a:off x="920520" y="518616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905760" y="518940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 flipV="1">
                <a:off x="901080" y="51951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986760" y="52131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974160" y="52084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948960" y="519732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936000" y="51926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923760" y="51876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912600" y="51814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900000" y="51764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1044000" y="519264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1026360" y="51861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1009080" y="51814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991440" y="51750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975600" y="516852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956520" y="51624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9440" y="495108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82280" y="5027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814320" y="49989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806040" y="49906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25120" y="5035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30160" y="5043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33040" y="5020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828360" y="5019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17200" y="5001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74360" y="499716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71120" y="499392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12440" y="50479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911160" y="519084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961920" y="51987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2200" y="519264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60120" y="5206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79200" y="5213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48960" y="5202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955440" y="520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985680" y="5205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888840" y="5163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958680" y="51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902880" y="5192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936360" y="5168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948960" y="5186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966600" y="5175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969840" y="5171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928440" y="5182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20440" y="51796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23680" y="51843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42680" y="50796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65000" y="507348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14240" y="50655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31520" y="52513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50600" y="53416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25400" y="49417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82560" y="51861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84000" y="519408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611280" y="4221000"/>
              <a:ext cx="577800" cy="450720"/>
              <a:chOff x="611280" y="4221000"/>
              <a:chExt cx="577800" cy="450720"/>
            </a:xfrm>
          </p:grpSpPr>
          <p:sp>
            <p:nvSpPr>
              <p:cNvPr id="1836" name=""/>
              <p:cNvSpPr/>
              <p:nvPr/>
            </p:nvSpPr>
            <p:spPr>
              <a:xfrm>
                <a:off x="890640" y="4420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060200" y="4446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90640" y="4420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982440" y="4411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923760" y="4281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42920" y="4286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939600" y="4295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901800" y="4431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910800" y="4449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949320" y="4457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942840" y="4439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990360" y="4451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903240" y="4449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 flipV="1">
                <a:off x="901800" y="4442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009440" y="4498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982440" y="4503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01720" y="4433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20520" y="4478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01720" y="4479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93520" y="4484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12880" y="4451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69760" y="4437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 flipV="1">
                <a:off x="888480" y="4441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 flipV="1">
                <a:off x="880560" y="4443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 flipV="1">
                <a:off x="876240" y="4447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 flipV="1">
                <a:off x="860040" y="4454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 flipV="1">
                <a:off x="852480" y="4460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 flipV="1">
                <a:off x="849240" y="4465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 flipV="1">
                <a:off x="834480" y="4468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 flipV="1">
                <a:off x="829800" y="4474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915480" y="4492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902880" y="4487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877680" y="4476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864720" y="4471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852480" y="4466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841320" y="4460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828720" y="4455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972720" y="4471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955080" y="4465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937800" y="4460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920160" y="4454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904320" y="4447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885240" y="4441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8160" y="4230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1000" y="4306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43040" y="427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4760" y="4269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3840" y="4314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8880" y="4322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1760" y="4300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7080" y="4298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45920" y="428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03080" y="4276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4273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41160" y="4327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39880" y="4470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90640" y="4478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80920" y="4471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88840" y="4485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07920" y="4492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77680" y="448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84160" y="4487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14400" y="4484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17560" y="4443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87400" y="4449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31600" y="447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5080" y="4447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77680" y="4465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5320" y="4454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98560" y="4451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57160" y="4462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49160" y="4458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52400" y="4463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1400" y="4358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93720" y="4352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42960" y="4344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60240" y="4530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79320" y="4620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54120" y="4221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1280" y="4465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12720" y="4473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1258920" y="3716280"/>
              <a:ext cx="577800" cy="450720"/>
              <a:chOff x="1258920" y="3716280"/>
              <a:chExt cx="577800" cy="450720"/>
            </a:xfrm>
          </p:grpSpPr>
          <p:sp>
            <p:nvSpPr>
              <p:cNvPr id="1918" name=""/>
              <p:cNvSpPr/>
              <p:nvPr/>
            </p:nvSpPr>
            <p:spPr>
              <a:xfrm>
                <a:off x="1538280" y="391608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707840" y="394164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538280" y="391608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630080" y="390672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571400" y="377640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690560" y="378144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587240" y="379080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549440" y="392724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1558440" y="394452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596960" y="395280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590480" y="393516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638000" y="394632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550880" y="394488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flipV="1">
                <a:off x="1549440" y="393804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657080" y="39938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630080" y="39988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449360" y="392904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68160" y="397332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49360" y="397512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541160" y="397980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460520" y="394632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517400" y="393228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 flipV="1">
                <a:off x="1536120" y="393660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 flipV="1">
                <a:off x="1528200" y="393840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 flipV="1">
                <a:off x="1523880" y="394308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 flipV="1">
                <a:off x="1507680" y="394956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flipV="1">
                <a:off x="1500120" y="395604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flipV="1">
                <a:off x="1496880" y="396072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 flipV="1">
                <a:off x="1482120" y="396396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477440" y="396972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1563120" y="398772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1550520" y="398304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1525320" y="397188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1512360" y="396720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1500120" y="396216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1488960" y="395604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1476360" y="395100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1620360" y="396720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602720" y="396072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1585440" y="39560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1567800" y="39495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1551960" y="394308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1532880" y="393696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315800" y="3725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358640" y="3801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390680" y="37735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382400" y="376524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401480" y="3809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406520" y="3817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409400" y="3795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404720" y="3794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393560" y="3776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350720" y="3771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347480" y="376848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288800" y="382248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487520" y="396540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538280" y="39733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528560" y="39672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536480" y="39812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555560" y="3987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525320" y="397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531800" y="39830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562040" y="3979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465200" y="3938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535040" y="39448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479240" y="3967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512720" y="394308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525320" y="3960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542960" y="3949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546200" y="3946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504800" y="3957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396800" y="395424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400040" y="395892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319040" y="385416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341360" y="384804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290600" y="384012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307880" y="4025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326960" y="411624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301760" y="371628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258920" y="396072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260360" y="396864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1547640" y="5445000"/>
              <a:ext cx="577800" cy="450720"/>
              <a:chOff x="1547640" y="5445000"/>
              <a:chExt cx="577800" cy="450720"/>
            </a:xfrm>
          </p:grpSpPr>
          <p:sp>
            <p:nvSpPr>
              <p:cNvPr id="2000" name=""/>
              <p:cNvSpPr/>
              <p:nvPr/>
            </p:nvSpPr>
            <p:spPr>
              <a:xfrm>
                <a:off x="1827000" y="5644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996560" y="5670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27000" y="5644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918800" y="5635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860120" y="5505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979280" y="5510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875960" y="5519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838160" y="5655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 flipV="1">
                <a:off x="1847160" y="5673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885680" y="5681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879200" y="5663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926720" y="5675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839600" y="5673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 flipV="1">
                <a:off x="1838160" y="5666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945800" y="5722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918800" y="5727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38080" y="5657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856880" y="5702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38080" y="5703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29880" y="5708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49240" y="5675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806120" y="5661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824840" y="5665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 flipV="1">
                <a:off x="1816920" y="5667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 flipV="1">
                <a:off x="1812600" y="5671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 flipV="1">
                <a:off x="1796400" y="5678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 flipV="1">
                <a:off x="1788840" y="5684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785600" y="5689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>
                <a:off x="1770840" y="5692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766160" y="5698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>
                <a:off x="1851840" y="5716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>
                <a:off x="1839240" y="5711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>
                <a:off x="1814040" y="5700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1801080" y="5695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1788840" y="5690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>
                <a:off x="1777680" y="5684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1765080" y="5679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>
                <a:off x="1909080" y="5695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>
                <a:off x="1891440" y="5689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>
                <a:off x="1874160" y="5684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>
                <a:off x="1856520" y="5678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1840680" y="5671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>
                <a:off x="1821600" y="5665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04520" y="5454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47360" y="5530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79400" y="5502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71120" y="5493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0200" y="5538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240" y="5546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120" y="5524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693440" y="552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682280" y="5505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639440" y="5500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636200" y="5497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577520" y="5551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776240" y="5694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827000" y="5702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817280" y="5695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25200" y="5709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844280" y="5716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814040" y="570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820520" y="5711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850760" y="5708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753920" y="5667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823760" y="5673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767960" y="5695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801440" y="5671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14040" y="5689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831680" y="5678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834920" y="5675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793520" y="5686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685520" y="5682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688760" y="5687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607760" y="5582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630080" y="5576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579320" y="5568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596600" y="5754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615680" y="5844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590480" y="5445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547640" y="5689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549080" y="5697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2700360" y="5445000"/>
              <a:ext cx="577800" cy="450720"/>
              <a:chOff x="2700360" y="5445000"/>
              <a:chExt cx="577800" cy="450720"/>
            </a:xfrm>
          </p:grpSpPr>
          <p:sp>
            <p:nvSpPr>
              <p:cNvPr id="2082" name=""/>
              <p:cNvSpPr/>
              <p:nvPr/>
            </p:nvSpPr>
            <p:spPr>
              <a:xfrm>
                <a:off x="2979720" y="5644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49280" y="5670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979720" y="5644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071520" y="5635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012840" y="5505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132000" y="5510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028680" y="5519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990880" y="5655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 flipV="1">
                <a:off x="2999880" y="5673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038400" y="5681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031920" y="5663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079440" y="5675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992320" y="5673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2990880" y="5666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098520" y="5722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071520" y="5727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90800" y="5657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009600" y="5702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90800" y="5703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982600" y="5708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901960" y="5675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58840" y="5661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2977560" y="5665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H="1" flipV="1">
                <a:off x="2969640" y="5667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2965320" y="5671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H="1" flipV="1">
                <a:off x="2949120" y="5678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H="1" flipV="1">
                <a:off x="2941560" y="5684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H="1" flipV="1">
                <a:off x="2938320" y="5689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H="1" flipV="1">
                <a:off x="2923560" y="5692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 flipV="1">
                <a:off x="2918880" y="5698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H="1">
                <a:off x="3004560" y="5716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H="1">
                <a:off x="2991960" y="5711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H="1">
                <a:off x="2966760" y="5700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953800" y="5695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2941560" y="5690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2930400" y="5684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2917800" y="5679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061800" y="5695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3044160" y="5689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3026880" y="5684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3009240" y="5678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>
                <a:off x="2993400" y="5671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2974320" y="5665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757240" y="5454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00080" y="5530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32120" y="5502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823840" y="5493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842920" y="5538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847960" y="5546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50840" y="5524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46160" y="552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835000" y="5505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792160" y="5500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788920" y="5497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730240" y="5551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928960" y="5694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979720" y="5702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70000" y="5695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977920" y="5709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997000" y="5716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966760" y="570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973240" y="5711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003480" y="5708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906640" y="5667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76480" y="5673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920680" y="5695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54160" y="5671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966760" y="5689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984400" y="5678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987640" y="5675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946240" y="5686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38240" y="5682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41480" y="5687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760480" y="5582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782800" y="5576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732040" y="5568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749320" y="5754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768400" y="5844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743200" y="5445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700360" y="5689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01800" y="5697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64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582480" cy="916200"/>
          </a:xfrm>
          <a:prstGeom prst="rect">
            <a:avLst/>
          </a:prstGeom>
          <a:ln w="0">
            <a:noFill/>
          </a:ln>
        </p:spPr>
      </p:pic>
      <p:pic>
        <p:nvPicPr>
          <p:cNvPr id="2165" name="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582840" cy="916200"/>
          </a:xfrm>
          <a:prstGeom prst="rect">
            <a:avLst/>
          </a:prstGeom>
          <a:ln w="0">
            <a:noFill/>
          </a:ln>
        </p:spPr>
      </p:pic>
      <p:sp>
        <p:nvSpPr>
          <p:cNvPr id="2166" name=""/>
          <p:cNvSpPr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域名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3635280" y="3213000"/>
            <a:ext cx="3384000" cy="2160000"/>
            <a:chOff x="3635280" y="3213000"/>
            <a:chExt cx="3384000" cy="2160000"/>
          </a:xfrm>
        </p:grpSpPr>
        <p:sp>
          <p:nvSpPr>
            <p:cNvPr id="2168" name=""/>
            <p:cNvSpPr/>
            <p:nvPr/>
          </p:nvSpPr>
          <p:spPr>
            <a:xfrm>
              <a:off x="4790880" y="3222000"/>
              <a:ext cx="1467000" cy="88128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78360" y="3455280"/>
              <a:ext cx="1123560" cy="88164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635280" y="3990600"/>
              <a:ext cx="753480" cy="7171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864600" y="4309920"/>
              <a:ext cx="1138680" cy="78624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675320" y="4439520"/>
              <a:ext cx="1704600" cy="9252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765760" y="3481200"/>
              <a:ext cx="1090080" cy="6912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29560" y="3930480"/>
              <a:ext cx="1081800" cy="6912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830920" y="4077720"/>
              <a:ext cx="1073160" cy="11394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249800" y="3731400"/>
              <a:ext cx="2187360" cy="11491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791240" y="3213000"/>
              <a:ext cx="148248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4" y="7417"/>
                  </a:moveTo>
                  <a:arcTo wR="10800" hR="10800" stAng="-9704716" swAng="8422506"/>
                  <a:lnTo>
                    <a:pt x="10800" y="10800"/>
                  </a:lnTo>
                  <a:close/>
                </a:path>
                <a:path fill="none" w="21600" h="21600">
                  <a:moveTo>
                    <a:pt x="544" y="7417"/>
                  </a:moveTo>
                  <a:arcTo wR="10800" hR="10800" stAng="-9704716" swAng="8422506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799520" y="3219840"/>
              <a:ext cx="1467000" cy="87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7" y="7405"/>
                  </a:moveTo>
                  <a:arcTo wR="10800" hR="10800" stAng="-9700762" swAng="8414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7" y="7405"/>
                  </a:moveTo>
                  <a:arcTo wR="10800" hR="10800" stAng="-9700762" swAng="8414042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78360" y="3446280"/>
              <a:ext cx="113148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7" y="13188"/>
                  </a:moveTo>
                  <a:arcTo wR="10800" hR="10800" stAng="10033408" swAng="8097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7" y="13188"/>
                  </a:moveTo>
                  <a:arcTo wR="10800" hR="10800" stAng="10033408" swAng="8097848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987000" y="3453120"/>
              <a:ext cx="11152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8" y="13189"/>
                  </a:moveTo>
                  <a:arcTo wR="10800" hR="10800" stAng="10033171" swAng="80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8" y="13189"/>
                  </a:moveTo>
                  <a:arcTo wR="10800" hR="10800" stAng="10033171" swAng="8097590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56320" y="4294440"/>
              <a:ext cx="11721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59" y="20233"/>
                  </a:moveTo>
                  <a:arcTo wR="10800" hR="10800" stAng="3651570" swAng="7287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59" y="20233"/>
                  </a:moveTo>
                  <a:arcTo wR="10800" hR="10800" stAng="3651570" swAng="7287103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864600" y="4300560"/>
              <a:ext cx="1154160" cy="78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49" y="20239"/>
                  </a:moveTo>
                  <a:arcTo wR="10800" hR="10800" stAng="3655214" swAng="7283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49" y="20239"/>
                  </a:moveTo>
                  <a:arcTo wR="10800" hR="10800" stAng="3655214" swAng="7283805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73680" y="3472200"/>
              <a:ext cx="1090080" cy="68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59" y="214"/>
                  </a:moveTo>
                  <a:arcTo wR="10800" hR="10800" stAng="-6085934" swAng="790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8659" y="214"/>
                  </a:moveTo>
                  <a:arcTo wR="10800" hR="10800" stAng="-6085934" swAng="7900515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783400" y="3478680"/>
              <a:ext cx="1072080" cy="67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68" y="213"/>
                  </a:moveTo>
                  <a:arcTo wR="10800" hR="10800" stAng="-6083167" swAng="7903964"/>
                  <a:lnTo>
                    <a:pt x="10800" y="10800"/>
                  </a:lnTo>
                  <a:close/>
                </a:path>
                <a:path fill="none" w="21600" h="21600">
                  <a:moveTo>
                    <a:pt x="8668" y="213"/>
                  </a:moveTo>
                  <a:arcTo wR="10800" hR="10800" stAng="-6083167" swAng="7903964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766120" y="3905280"/>
              <a:ext cx="1253160" cy="75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8" y="2432"/>
                  </a:moveTo>
                  <a:arcTo wR="10800" hR="10800" stAng="-3047206" swAng="5174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8" y="2432"/>
                  </a:moveTo>
                  <a:arcTo wR="10800" hR="10800" stAng="-3047206" swAng="5174498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774760" y="3911400"/>
              <a:ext cx="1236240" cy="74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10" y="2417"/>
                  </a:moveTo>
                  <a:arcTo wR="10800" hR="10800" stAng="-3054632" swAng="5189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10" y="2417"/>
                  </a:moveTo>
                  <a:arcTo wR="10800" hR="10800" stAng="-3054632" swAng="5189095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13640" y="4086720"/>
              <a:ext cx="1107000" cy="115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59" y="7746"/>
                  </a:moveTo>
                  <a:arcTo wR="10800" hR="10800" stAng="-985469" swAng="750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59" y="7746"/>
                  </a:moveTo>
                  <a:arcTo wR="10800" hR="10800" stAng="-985469" swAng="7506517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23000" y="4092840"/>
              <a:ext cx="1089360" cy="11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62" y="7756"/>
                  </a:moveTo>
                  <a:arcTo wR="10800" hR="10800" stAng="-982174" swAng="7506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62" y="7756"/>
                  </a:moveTo>
                  <a:arcTo wR="10800" hR="10800" stAng="-982174" swAng="7506920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635280" y="3983400"/>
              <a:ext cx="79452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78" y="20698"/>
                  </a:moveTo>
                  <a:arcTo wR="10800" hR="10800" stAng="6815261" swAng="918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78" y="20698"/>
                  </a:moveTo>
                  <a:arcTo wR="10800" hR="10800" stAng="6815261" swAng="9187776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643560" y="3990240"/>
              <a:ext cx="777240" cy="7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8" y="20693"/>
                  </a:moveTo>
                  <a:arcTo wR="10800" hR="10800" stAng="6818802" swAng="918368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8" y="20693"/>
                  </a:moveTo>
                  <a:arcTo wR="10800" hR="10800" stAng="6818802" swAng="9183683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84320" y="4518000"/>
              <a:ext cx="1670400" cy="8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25" y="17026"/>
                  </a:moveTo>
                  <a:arcTo wR="10800" hR="10800" stAng="2112076" swAng="7949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25" y="17026"/>
                  </a:moveTo>
                  <a:arcTo wR="10800" hR="10800" stAng="2112076" swAng="7949046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692240" y="4524840"/>
              <a:ext cx="16538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08" y="17050"/>
                  </a:moveTo>
                  <a:arcTo wR="10800" hR="10800" stAng="2121440" swAng="7935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08" y="17050"/>
                  </a:moveTo>
                  <a:arcTo wR="10800" hR="10800" stAng="2121440" swAng="7935533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3141000" y="3927960"/>
            <a:ext cx="200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AA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1.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B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1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51280" y="4507560"/>
            <a:ext cx="454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6659640" y="4724280"/>
            <a:ext cx="577800" cy="450720"/>
            <a:chOff x="6659640" y="4724280"/>
            <a:chExt cx="577800" cy="450720"/>
          </a:xfrm>
        </p:grpSpPr>
        <p:sp>
          <p:nvSpPr>
            <p:cNvPr id="2196" name=""/>
            <p:cNvSpPr/>
            <p:nvPr/>
          </p:nvSpPr>
          <p:spPr>
            <a:xfrm>
              <a:off x="6939000" y="492408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08560" y="494964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939000" y="492408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030800" y="491472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972120" y="478440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091280" y="478944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987960" y="479880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50160" y="493524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 flipV="1">
              <a:off x="6959160" y="495252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997680" y="496080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991200" y="494316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38720" y="495432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951600" y="495288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 flipV="1">
              <a:off x="6950160" y="494604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057800" y="50018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030800" y="500688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850080" y="493704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968880" y="498132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850080" y="498312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941880" y="498780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861240" y="495432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918120" y="494028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 flipV="1">
              <a:off x="6936840" y="494460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 flipV="1">
              <a:off x="6928920" y="494640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6924600" y="495108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 flipV="1">
              <a:off x="6908400" y="495756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 flipV="1">
              <a:off x="6900840" y="496404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 flipV="1">
              <a:off x="6897600" y="496872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 flipV="1">
              <a:off x="6882840" y="497196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 flipV="1">
              <a:off x="6878160" y="497772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6963840" y="499572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6951240" y="499104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6926040" y="497988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6913080" y="497520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6900840" y="497016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6889680" y="496404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6877080" y="495900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7021080" y="497520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7003440" y="496872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6986160" y="496404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6968520" y="495756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6952680" y="495108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6933600" y="494496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16520" y="473364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759360" y="4809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791400" y="47815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783120" y="477324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802200" y="4817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807240" y="48258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810120" y="480348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805440" y="4802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794280" y="478440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751440" y="4779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748200" y="477648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89520" y="483048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888240" y="49734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939000" y="498132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929280" y="497520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937200" y="49892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956280" y="4995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926040" y="4984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932520" y="49910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962760" y="49878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865920" y="494640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935760" y="495288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879960" y="49752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913440" y="495108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926040" y="496872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943680" y="4957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946920" y="49543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905520" y="49654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97520" y="496224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00760" y="49669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719760" y="486216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742080" y="485604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691320" y="484812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708600" y="50338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727680" y="512424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702480" y="472428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659640" y="496872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61080" y="497664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6804000" y="3716280"/>
            <a:ext cx="577800" cy="450720"/>
            <a:chOff x="6804000" y="3716280"/>
            <a:chExt cx="577800" cy="450720"/>
          </a:xfrm>
        </p:grpSpPr>
        <p:sp>
          <p:nvSpPr>
            <p:cNvPr id="2278" name=""/>
            <p:cNvSpPr/>
            <p:nvPr/>
          </p:nvSpPr>
          <p:spPr>
            <a:xfrm>
              <a:off x="7083360" y="391608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252920" y="394164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83360" y="391608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75160" y="390672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16480" y="377640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35640" y="378144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32320" y="379080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094520" y="392724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 flipV="1">
              <a:off x="7103520" y="394452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142040" y="395280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135560" y="393516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183080" y="394632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95960" y="394488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 flipV="1">
              <a:off x="7094520" y="393804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02160" y="39938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175160" y="399888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994440" y="392904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113240" y="397332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994440" y="397512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086240" y="397980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05600" y="394632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062480" y="393228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7081200" y="393660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flipV="1">
              <a:off x="7073280" y="393840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 flipV="1">
              <a:off x="7068960" y="394308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 flipV="1">
              <a:off x="7052760" y="394956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 flipV="1">
              <a:off x="7045200" y="395604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 flipV="1">
              <a:off x="7041960" y="396072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flipV="1">
              <a:off x="7027200" y="396396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 flipV="1">
              <a:off x="7022520" y="396972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7108200" y="398772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7095600" y="398304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7070400" y="397188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7057440" y="396720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7045200" y="396216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7034040" y="395604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7021440" y="395100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7165440" y="396720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7147800" y="396072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7130520" y="395604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112880" y="394956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7097040" y="394308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077960" y="393696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860880" y="372564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903720" y="3801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935760" y="37735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927480" y="376524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946560" y="3809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951600" y="38178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954480" y="379548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949800" y="3794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938640" y="377640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895800" y="3771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2560" y="376848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33880" y="382248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32600" y="39654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83360" y="397332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3640" y="396720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081560" y="39812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100640" y="3987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070400" y="397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076880" y="39830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107120" y="39798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10280" y="393840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080120" y="394488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024320" y="39672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057800" y="394308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70400" y="396072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088040" y="3949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91280" y="39463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49880" y="39574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941880" y="395424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945120" y="39589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864120" y="385416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886440" y="384804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835680" y="384012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852960" y="40258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872040" y="411624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846840" y="371628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804000" y="396072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805440" y="396864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5651640" y="5084640"/>
            <a:ext cx="577800" cy="450720"/>
            <a:chOff x="5651640" y="5084640"/>
            <a:chExt cx="577800" cy="450720"/>
          </a:xfrm>
        </p:grpSpPr>
        <p:sp>
          <p:nvSpPr>
            <p:cNvPr id="2360" name=""/>
            <p:cNvSpPr/>
            <p:nvPr/>
          </p:nvSpPr>
          <p:spPr>
            <a:xfrm>
              <a:off x="5931000" y="528444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100560" y="531000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31000" y="528444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22800" y="527508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64120" y="514476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083280" y="514980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79960" y="515916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942160" y="529560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 flipV="1">
              <a:off x="5951160" y="531288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89680" y="532116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83200" y="530352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30720" y="531468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43600" y="531324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5942160" y="530640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049800" y="5362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022800" y="536724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42080" y="529740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960880" y="53416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42080" y="534348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933880" y="534816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853240" y="531468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910120" y="530064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 flipV="1">
              <a:off x="5928840" y="530496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 flipV="1">
              <a:off x="5920920" y="530676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 flipV="1">
              <a:off x="5916600" y="531144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 flipV="1">
              <a:off x="5900400" y="531792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 flipV="1">
              <a:off x="5892840" y="532440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flipV="1">
              <a:off x="5889600" y="532908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 flipV="1">
              <a:off x="5874840" y="533232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 flipV="1">
              <a:off x="5870160" y="533808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5955840" y="535608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5943240" y="535140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5918040" y="534024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5905080" y="533556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892840" y="533052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81680" y="532440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5869080" y="531936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6013080" y="533556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995440" y="532908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5978160" y="53244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5960520" y="531792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5944680" y="531144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5925600" y="530532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708520" y="509400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751360" y="51703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783400" y="51418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775120" y="513360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4200" y="51782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799240" y="51861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802120" y="516384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797440" y="516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786280" y="5144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743440" y="51400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740200" y="513684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681520" y="519084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80240" y="533376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931000" y="53416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921280" y="533556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929200" y="534960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48280" y="5356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918040" y="5344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24520" y="53514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954760" y="53481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57920" y="530676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27760" y="531324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71960" y="533556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905440" y="53114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918040" y="532908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935680" y="53179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938920" y="5314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897520" y="532584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789520" y="532260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792760" y="53272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711760" y="522252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34080" y="521640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520848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700600" y="53942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19680" y="548460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94480" y="508464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651640" y="532908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53080" y="533700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5580000" y="3068640"/>
            <a:ext cx="577800" cy="450720"/>
            <a:chOff x="5580000" y="3068640"/>
            <a:chExt cx="577800" cy="450720"/>
          </a:xfrm>
        </p:grpSpPr>
        <p:sp>
          <p:nvSpPr>
            <p:cNvPr id="2442" name=""/>
            <p:cNvSpPr/>
            <p:nvPr/>
          </p:nvSpPr>
          <p:spPr>
            <a:xfrm>
              <a:off x="5859360" y="326844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028920" y="329400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859360" y="326844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51160" y="325908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892480" y="312876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011640" y="313380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908320" y="314316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870520" y="327960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 flipV="1">
              <a:off x="5879520" y="329688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18040" y="330516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911560" y="328752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959080" y="329868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871960" y="329724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870520" y="329040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978160" y="3346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51160" y="335124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70440" y="328140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89240" y="33256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770440" y="332748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62240" y="333216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781600" y="329868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38480" y="328464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 flipV="1">
              <a:off x="5857200" y="328896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5849280" y="329076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5844960" y="329544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 flipV="1">
              <a:off x="5828760" y="330192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 flipV="1">
              <a:off x="5821200" y="330840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 flipV="1">
              <a:off x="5817960" y="331308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5803200" y="331632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5798520" y="332208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5884200" y="334008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5871600" y="333540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5846400" y="332424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5833440" y="331956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5821200" y="331452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5810040" y="330840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797440" y="330336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5941440" y="331956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5923800" y="331308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5906520" y="33084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5888880" y="330192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5873040" y="329544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5853960" y="328932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36880" y="307800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679720" y="31543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711760" y="31258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703480" y="311760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722560" y="31622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727600" y="31701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730480" y="314784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725800" y="3146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714640" y="3128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671800" y="31240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668560" y="312084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9880" y="317484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808600" y="331776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59360" y="33256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849640" y="331956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857560" y="333360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876640" y="3340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846400" y="332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852880" y="33354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883120" y="33321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786280" y="329076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856120" y="329724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800320" y="331956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833800" y="32954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846400" y="331308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864040" y="33019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867280" y="3298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825880" y="330984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717880" y="330660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721120" y="33112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640120" y="320652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662440" y="320040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611680" y="319248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28960" y="33782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648040" y="346860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622840" y="306864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580000" y="331308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581440" y="332100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3" name=""/>
          <p:cNvSpPr/>
          <p:nvPr/>
        </p:nvSpPr>
        <p:spPr>
          <a:xfrm>
            <a:off x="3685680" y="5372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累死我了！！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851280" y="4978800"/>
            <a:ext cx="454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5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582480" cy="916200"/>
          </a:xfrm>
          <a:prstGeom prst="rect">
            <a:avLst/>
          </a:prstGeom>
          <a:ln w="0">
            <a:noFill/>
          </a:ln>
        </p:spPr>
      </p:pic>
      <p:pic>
        <p:nvPicPr>
          <p:cNvPr id="2526" name="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582840" cy="916200"/>
          </a:xfrm>
          <a:prstGeom prst="rect">
            <a:avLst/>
          </a:prstGeom>
          <a:ln w="0">
            <a:noFill/>
          </a:ln>
        </p:spPr>
      </p:pic>
      <p:pic>
        <p:nvPicPr>
          <p:cNvPr id="2527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510840" cy="934920"/>
          </a:xfrm>
          <a:prstGeom prst="rect">
            <a:avLst/>
          </a:prstGeom>
          <a:ln w="0">
            <a:noFill/>
          </a:ln>
        </p:spPr>
      </p:pic>
      <p:sp>
        <p:nvSpPr>
          <p:cNvPr id="2528" name=""/>
          <p:cNvSpPr/>
          <p:nvPr/>
        </p:nvSpPr>
        <p:spPr>
          <a:xfrm>
            <a:off x="1989720" y="272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70840" y="4579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014080" y="23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231520" y="4213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名字空间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字空间为主机名的集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机名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一一对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次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2412360" y="3335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916360" y="393372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340360" y="443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413080" y="551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部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916360" y="501336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84560" y="33562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435640" y="393372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981320" y="44560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116320" y="551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435640" y="501336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名空间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4572000" y="1052640"/>
            <a:ext cx="8380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3809520" y="1628640"/>
            <a:ext cx="10494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292720" y="148428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419640" y="126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52360" y="2940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52360" y="3778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52360" y="4616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2771640" y="2060640"/>
            <a:ext cx="1133640" cy="517320"/>
            <a:chOff x="2771640" y="2060640"/>
            <a:chExt cx="1133640" cy="517320"/>
          </a:xfrm>
        </p:grpSpPr>
        <p:sp>
          <p:nvSpPr>
            <p:cNvPr id="2553" name=""/>
            <p:cNvSpPr/>
            <p:nvPr/>
          </p:nvSpPr>
          <p:spPr>
            <a:xfrm>
              <a:off x="277164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059280" y="2133720"/>
              <a:ext cx="43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ed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2817720" y="28684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002760" y="2924280"/>
            <a:ext cx="57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noa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89280" y="4508640"/>
            <a:ext cx="1135080" cy="51732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050240" y="28684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70520" y="28684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276720" y="2610000"/>
            <a:ext cx="25200" cy="255600"/>
          </a:xfrm>
          <a:custGeom>
            <a:avLst/>
            <a:gdLst/>
            <a:ahLst/>
            <a:rect l="l" t="t" r="r" b="b"/>
            <a:pathLst>
              <a:path w="16" h="161">
                <a:moveTo>
                  <a:pt x="13" y="0"/>
                </a:moveTo>
                <a:lnTo>
                  <a:pt x="0" y="0"/>
                </a:lnTo>
                <a:lnTo>
                  <a:pt x="2" y="161"/>
                </a:lnTo>
                <a:lnTo>
                  <a:pt x="16" y="16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6442200" y="2554200"/>
            <a:ext cx="325440" cy="317520"/>
          </a:xfrm>
          <a:custGeom>
            <a:avLst/>
            <a:gdLst/>
            <a:ahLst/>
            <a:rect l="l" t="t" r="r" b="b"/>
            <a:pathLst>
              <a:path w="205" h="200">
                <a:moveTo>
                  <a:pt x="205" y="7"/>
                </a:moveTo>
                <a:lnTo>
                  <a:pt x="194" y="0"/>
                </a:lnTo>
                <a:lnTo>
                  <a:pt x="0" y="193"/>
                </a:lnTo>
                <a:lnTo>
                  <a:pt x="10" y="200"/>
                </a:lnTo>
                <a:lnTo>
                  <a:pt x="20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510320" y="2558880"/>
            <a:ext cx="20880" cy="30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567560" y="3386160"/>
            <a:ext cx="2052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7626240" y="4159080"/>
            <a:ext cx="20880" cy="30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388200" y="3386160"/>
            <a:ext cx="205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241280" y="2143080"/>
            <a:ext cx="331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60880" y="2249640"/>
            <a:ext cx="43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顶级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1476360" y="2060640"/>
            <a:ext cx="1133640" cy="517320"/>
            <a:chOff x="1476360" y="2060640"/>
            <a:chExt cx="1133640" cy="517320"/>
          </a:xfrm>
        </p:grpSpPr>
        <p:sp>
          <p:nvSpPr>
            <p:cNvPr id="2569" name=""/>
            <p:cNvSpPr/>
            <p:nvPr/>
          </p:nvSpPr>
          <p:spPr>
            <a:xfrm>
              <a:off x="147636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39440" y="2133720"/>
              <a:ext cx="560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rp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 flipH="1">
            <a:off x="2339640" y="1628640"/>
            <a:ext cx="2376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6562800" y="2133720"/>
            <a:ext cx="1133280" cy="517320"/>
            <a:chOff x="6562800" y="2133720"/>
            <a:chExt cx="1133280" cy="517320"/>
          </a:xfrm>
        </p:grpSpPr>
        <p:sp>
          <p:nvSpPr>
            <p:cNvPr id="2573" name=""/>
            <p:cNvSpPr/>
            <p:nvPr/>
          </p:nvSpPr>
          <p:spPr>
            <a:xfrm>
              <a:off x="6562800" y="2133720"/>
              <a:ext cx="113328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21080" y="220680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 flipH="1">
            <a:off x="450036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6" name=""/>
          <p:cNvGrpSpPr/>
          <p:nvPr/>
        </p:nvGrpSpPr>
        <p:grpSpPr>
          <a:xfrm>
            <a:off x="3995640" y="2060640"/>
            <a:ext cx="1133640" cy="517320"/>
            <a:chOff x="3995640" y="2060640"/>
            <a:chExt cx="1133640" cy="517320"/>
          </a:xfrm>
        </p:grpSpPr>
        <p:sp>
          <p:nvSpPr>
            <p:cNvPr id="2577" name=""/>
            <p:cNvSpPr/>
            <p:nvPr/>
          </p:nvSpPr>
          <p:spPr>
            <a:xfrm>
              <a:off x="399564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298040" y="2133720"/>
              <a:ext cx="42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go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5842080" y="3716280"/>
            <a:ext cx="1133280" cy="517320"/>
            <a:chOff x="5842080" y="3716280"/>
            <a:chExt cx="1133280" cy="517320"/>
          </a:xfrm>
        </p:grpSpPr>
        <p:sp>
          <p:nvSpPr>
            <p:cNvPr id="2580" name=""/>
            <p:cNvSpPr/>
            <p:nvPr/>
          </p:nvSpPr>
          <p:spPr>
            <a:xfrm>
              <a:off x="5842080" y="3716280"/>
              <a:ext cx="1133280" cy="51732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284520" y="3789360"/>
              <a:ext cx="279720" cy="33552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2790720" y="3716280"/>
            <a:ext cx="1133640" cy="517320"/>
            <a:chOff x="2790720" y="3716280"/>
            <a:chExt cx="1133640" cy="517320"/>
          </a:xfrm>
        </p:grpSpPr>
        <p:sp>
          <p:nvSpPr>
            <p:cNvPr id="2583" name=""/>
            <p:cNvSpPr/>
            <p:nvPr/>
          </p:nvSpPr>
          <p:spPr>
            <a:xfrm>
              <a:off x="2790720" y="3716280"/>
              <a:ext cx="1133640" cy="51732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140280" y="3789360"/>
              <a:ext cx="372600" cy="33552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u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5" name=""/>
          <p:cNvSpPr/>
          <p:nvPr/>
        </p:nvSpPr>
        <p:spPr>
          <a:xfrm>
            <a:off x="3365640" y="422100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H="1">
            <a:off x="2340000" y="4221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564000" y="422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330720" y="341136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2195280" y="335772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492360" y="335772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908000" y="2565360"/>
            <a:ext cx="25560" cy="255600"/>
          </a:xfrm>
          <a:custGeom>
            <a:avLst/>
            <a:gdLst/>
            <a:ahLst/>
            <a:rect l="l" t="t" r="r" b="b"/>
            <a:pathLst>
              <a:path w="16" h="161">
                <a:moveTo>
                  <a:pt x="13" y="0"/>
                </a:moveTo>
                <a:lnTo>
                  <a:pt x="0" y="0"/>
                </a:lnTo>
                <a:lnTo>
                  <a:pt x="2" y="161"/>
                </a:lnTo>
                <a:lnTo>
                  <a:pt x="16" y="16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5238720" y="2060640"/>
            <a:ext cx="1133640" cy="517320"/>
            <a:chOff x="5238720" y="2060640"/>
            <a:chExt cx="1133640" cy="517320"/>
          </a:xfrm>
        </p:grpSpPr>
        <p:sp>
          <p:nvSpPr>
            <p:cNvPr id="2593" name=""/>
            <p:cNvSpPr/>
            <p:nvPr/>
          </p:nvSpPr>
          <p:spPr>
            <a:xfrm>
              <a:off x="523872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06720" y="213372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5" name=""/>
          <p:cNvSpPr/>
          <p:nvPr/>
        </p:nvSpPr>
        <p:spPr>
          <a:xfrm>
            <a:off x="7093080" y="3716280"/>
            <a:ext cx="1224000" cy="517680"/>
          </a:xfrm>
          <a:prstGeom prst="ellipse">
            <a:avLst/>
          </a:prstGeom>
          <a:solidFill>
            <a:srgbClr val="0cd81b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re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108920" y="4581360"/>
            <a:ext cx="1135080" cy="51768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n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059280" y="50821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Sun.tuc.noao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523960" y="5731920"/>
            <a:ext cx="36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从结点到最高层的域名串起来，中间使用“</a:t>
            </a: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.”</a:t>
            </a: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分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3003480" y="5731920"/>
            <a:ext cx="29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每个结点有</a:t>
            </a: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到</a:t>
            </a: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63</a:t>
            </a: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个字符长度的标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7:27Z</dcterms:modified>
  <cp:revision>235</cp:revision>
  <dc:subject/>
  <dc:title>Understanding Basic HTML</dc:title>
</cp:coreProperties>
</file>